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09F-BC2A-4038-882F-5F68549D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AFC-9840-4EAD-97CA-5CAF398A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65A-288C-4A08-8F4B-278336A8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828-FB3D-49B1-AC54-CB20C627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78C0-A810-4FD2-8209-26978DFD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E90C-CD6A-4628-A37C-96398781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442C-1C66-4F83-B0E3-B5BCBE72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2BF0-F589-4E1C-8B2D-3307B487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912A-D599-4B80-9FE3-8570A12D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ABBD-0A64-4C88-A88E-B16F7205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80BB-5687-4A47-81D2-081E586C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F4F-7628-478B-9273-B4F40763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7A19-C912-413E-B787-74119C4D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6EC7-8447-41DC-9494-0F4CF83F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FB8B-8E8C-460D-91A9-7ADC1776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2603-D681-4778-9486-B5B7B6B5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F4EF-AD43-475E-8879-82019D97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B672-8968-4BA9-96FC-94DAEF0B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7BA0-98A3-4252-BBF4-38397F45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9957-232D-429E-B147-72F99FC0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1721-BE31-4B6E-9CD6-8A2BE57B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FE08-D386-4177-B2DB-8D2D3ECE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824-DAA8-4AB4-9A6B-7EB00C6C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0AD63-0C46-470A-B48E-F4D080F8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302A-EF69-4BFE-B4C7-62E7E1EB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4D548-6066-4924-A582-AB93B97E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A8EF-8A4B-4B69-9B9F-6A7E0BC7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769D-AAFF-4C5F-A99C-BD1A3233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D675E-80DE-4755-BF05-27EEDCA5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8E6F7-43FD-45B4-B558-B82D7A4C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2E4-FD88-4A14-B377-0FFFA596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1F3-0C2F-4DB4-B80B-C3841B35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8D6-CCE6-4760-954F-F7F81A66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F06-7BEF-489A-90C5-BFC66CCB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079-53C7-43E3-A748-8B8C4DC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513-7FAC-408F-A6CB-86870347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未标题-41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8D4A-3DEE-4376-AA22-D9870E0C64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未标题-42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1EDD-E1C5-4AA0-89AE-2087867BE4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BF78-A16D-47D0-928F-6C66FB3BEB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2446-E668-4186-9F3F-6D208F651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7:35:57Z</dcterms:created>
  <dc:creator>Administrator</dc:creator>
  <dc:description/>
  <cp:keywords/>
  <dc:language>en-US</dc:language>
  <cp:lastModifiedBy>a</cp:lastModifiedBy>
  <dcterms:modified xsi:type="dcterms:W3CDTF">2014-05-24T09:24:0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