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E75-0EC9-4CF8-8DCD-56F04512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BC4-0D60-4BE8-B84A-FACDAA48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336-C684-47A7-9459-977DB870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026-B818-4E85-92C7-E3B7622C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CBA4-579D-44BB-80CE-77E5772B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6111-9C79-41C4-A4F9-ABFB71EE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8E6D-A596-4312-BD4A-3AC68527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8742-9A24-48D9-8F69-85394BCC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0034-4917-4EB6-A013-60785945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6A27-816E-4CB3-8B4B-BF8FD1DD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2948-48D3-4372-93B9-516E355F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A95-512E-4DFC-9D46-BF4067F8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C494-FB62-4DC0-8CDE-B6F8F31D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FE6A-B359-4177-93CA-233B8F00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8708-363D-4805-841E-3AD1F2FA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01BC-E632-45CE-8B2F-D4EF0B0F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8417-461E-4BAC-927F-3217400B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147-58C9-44B3-A6B7-30DD2B20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0C5-8C04-4162-A947-693AECF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9FB-E011-4A80-947D-BC9A6757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627-E149-445B-A381-3F228211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7B6-1E9D-42AF-AD20-077DC409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950-F6F5-49A3-B78D-73CD9B4B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1B6-90E1-4D81-8D2A-ECEA3FFE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172360" y="6669000"/>
            <a:ext cx="933480" cy="162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D415-671C-488B-AA9E-4FBAD48EDC7D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BAB4-C496-47F4-925C-BD5348F184B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F5CF-FFE6-4F79-9FCD-2F38CEE238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贵郁金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a</cp:lastModifiedBy>
  <dcterms:modified xsi:type="dcterms:W3CDTF">2014-12-31T03:39:57Z</dcterms:modified>
  <cp:revision>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