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040-1378-4B52-8770-7BE08384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492-4821-48E5-95A9-1ED25C6F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35B-AF99-4495-9C7B-57106D16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AD8-BD6B-4978-B6E1-FE18FC2B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BDB0-6719-4223-A097-941732AE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C1F6-D09E-4B2F-B228-B8A7F592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556C-2CA8-4C72-8760-4CC1BDE3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3DCA-0530-411B-8CE0-433148C7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6783-CD6B-4EEC-A0EC-92362EA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9CD1-5BBC-42E1-A9E3-90F5CB96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1EE6-668B-4252-AF56-204D9FD7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D81-76DA-4D28-B020-32E4A403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EACB-876D-4765-AFA1-CD68B403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28BB-F07C-4CC0-A688-9DF45C12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2742-2904-4F05-A2B8-EEE8A825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C5E0-C399-42C1-9222-1B21F24E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13DD-F154-40BC-947F-823689EE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62A-B69D-455A-8F03-5187AC35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ABF-2771-4B8D-9531-1A58717A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7B5-2DB8-4F75-B546-42B9F398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3EB-AEE6-4718-9E51-DE823D28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A01-C1D3-4635-9E9E-64036388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376-CDAB-459E-8904-FAAE734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62F-9957-4321-83B4-9AC5A4CF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C593-D0A7-4FB5-B737-850FE0A1E8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C7F8-43C3-4257-A477-002F60BA53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7EC5-C3B4-4026-BC00-0B89CDE652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6084720" y="3860640"/>
            <a:ext cx="648000" cy="1225800"/>
          </a:xfrm>
          <a:custGeom>
            <a:avLst/>
            <a:gdLst>
              <a:gd name="textAreaLeft" fmla="*/ 31320 w 648000"/>
              <a:gd name="textAreaRight" fmla="*/ 616680 w 648000"/>
              <a:gd name="textAreaTop" fmla="*/ 31320 h 1225800"/>
              <a:gd name="textAreaBottom" fmla="*/ 1194480 h 1225800"/>
            </a:gdLst>
            <a:ahLst/>
            <a:rect l="textAreaLeft" t="textAreaTop" r="textAreaRight" b="textAreaBottom"/>
            <a:pathLst>
              <a:path w="21600" h="40849">
                <a:moveTo>
                  <a:pt x="3600" y="0"/>
                </a:moveTo>
                <a:arcTo wR="3600" hR="3600" stAng="16200000" swAng="-5400000"/>
                <a:lnTo>
                  <a:pt x="0" y="37249"/>
                </a:lnTo>
                <a:arcTo wR="3600" hR="3600" stAng="10800000" swAng="-5400000"/>
                <a:lnTo>
                  <a:pt x="18000" y="40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6948360" y="3860640"/>
            <a:ext cx="649440" cy="122580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40759">
                <a:moveTo>
                  <a:pt x="3600" y="0"/>
                </a:moveTo>
                <a:arcTo wR="3600" hR="3600" stAng="16200000" swAng="-5400000"/>
                <a:lnTo>
                  <a:pt x="0" y="37159"/>
                </a:lnTo>
                <a:arcTo wR="3600" hR="3600" stAng="10800000" swAng="-5400000"/>
                <a:lnTo>
                  <a:pt x="18000" y="407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Y_([_$]CVV`B166VE]TTI}1"/>
          <p:cNvPicPr/>
          <p:nvPr/>
        </p:nvPicPr>
        <p:blipFill>
          <a:blip r:embed="rId1"/>
          <a:stretch/>
        </p:blipFill>
        <p:spPr>
          <a:xfrm>
            <a:off x="6084720" y="5086440"/>
            <a:ext cx="158436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>
            <a:off x="6084720" y="2278080"/>
            <a:ext cx="1584360" cy="1584360"/>
          </a:xfrm>
          <a:prstGeom prst="foldedCorner">
            <a:avLst>
              <a:gd name="adj" fmla="val 12500"/>
            </a:avLst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6e6f45f0tw1dr5cqbhl2cj"/>
          <p:cNvPicPr/>
          <p:nvPr/>
        </p:nvPicPr>
        <p:blipFill>
          <a:blip r:embed="rId2"/>
          <a:stretch/>
        </p:blipFill>
        <p:spPr>
          <a:xfrm>
            <a:off x="3276720" y="4437000"/>
            <a:ext cx="720720" cy="79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3132000" y="2349360"/>
            <a:ext cx="1760760" cy="6426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专业技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13080" y="404280"/>
            <a:ext cx="3959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个人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}DV{(0%KA3P{){7Q(MH3MKW"/>
          <p:cNvPicPr/>
          <p:nvPr/>
        </p:nvPicPr>
        <p:blipFill>
          <a:blip r:embed="rId3"/>
          <a:stretch/>
        </p:blipFill>
        <p:spPr>
          <a:xfrm>
            <a:off x="3132000" y="3573360"/>
            <a:ext cx="7207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60360" y="1486080"/>
            <a:ext cx="6400800" cy="790560"/>
          </a:xfrm>
          <a:prstGeom prst="rect">
            <a:avLst/>
          </a:prstGeom>
          <a:solidFill>
            <a:srgbClr val="00ccff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   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9XXXXXX                            XXXXXX34@163.com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4"/>
          <a:stretch/>
        </p:blipFill>
        <p:spPr>
          <a:xfrm>
            <a:off x="4140360" y="1774800"/>
            <a:ext cx="72072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0DR(QVM(K1NA}`89X[X[KR5"/>
          <p:cNvPicPr/>
          <p:nvPr/>
        </p:nvPicPr>
        <p:blipFill>
          <a:blip r:embed="rId5"/>
          <a:stretch/>
        </p:blipFill>
        <p:spPr>
          <a:xfrm>
            <a:off x="1332000" y="1773360"/>
            <a:ext cx="647640" cy="43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(PE]MQL8X4SLZY9W(EPO[~I"/>
          <p:cNvPicPr/>
          <p:nvPr/>
        </p:nvPicPr>
        <p:blipFill>
          <a:blip r:embed="rId6"/>
          <a:stretch/>
        </p:blipFill>
        <p:spPr>
          <a:xfrm>
            <a:off x="3852720" y="37893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EGT71SSFKI~(3GIZ7BMAO2Y"/>
          <p:cNvPicPr/>
          <p:nvPr/>
        </p:nvPicPr>
        <p:blipFill>
          <a:blip r:embed="rId7"/>
          <a:stretch/>
        </p:blipFill>
        <p:spPr>
          <a:xfrm>
            <a:off x="3060720" y="5229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1260360" y="2276640"/>
            <a:ext cx="1800360" cy="3778200"/>
          </a:xfrm>
          <a:prstGeom prst="rect">
            <a:avLst/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4356000" y="2276640"/>
            <a:ext cx="1728720" cy="393444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园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7" descr="J3(S){{AW)(OYPXJZ58S1{8"/>
          <p:cNvPicPr/>
          <p:nvPr/>
        </p:nvPicPr>
        <p:blipFill>
          <a:blip r:embed="rId8"/>
          <a:stretch/>
        </p:blipFill>
        <p:spPr>
          <a:xfrm>
            <a:off x="3419640" y="2781360"/>
            <a:ext cx="86508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6084720" y="2349360"/>
            <a:ext cx="6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732720" y="2352600"/>
            <a:ext cx="93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特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6181560" y="5583240"/>
            <a:ext cx="14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抗          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6084720" y="436572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信     反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>
            <a:off x="6732720" y="2276640"/>
            <a:ext cx="1440" cy="15840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2629080" y="10540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3060720" y="105408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esum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7T00:58:42Z</dcterms:modified>
  <cp:revision>1</cp:revision>
  <dc:subject/>
  <dc:title>xxx的个人简历</dc:title>
</cp:coreProperties>
</file>