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EE88-1354-4DEB-B4C8-98D1B168EA80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C53A-62DB-4DDA-A615-B2A57FA9414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021120" y="6488280"/>
            <a:ext cx="492120" cy="3697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307880" y="7585200"/>
            <a:ext cx="4584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874-B804-4D0A-8066-B9F12192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053-AF90-4ACA-9AB6-46FF5F04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3FD-6B36-4E21-B4C1-070A8EF5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429-FED5-49DC-AFA1-D2003B73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769D-91C2-4CBF-89A6-332B35B7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EF28-7F75-4A8D-ACD8-0F35684D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6973-E8D1-44D1-91CA-2E2661A0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9E22-96F7-4A9C-9A76-75AE5F29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2E89-D88D-463B-9E18-E9189A14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2518-D61A-43BD-B685-E59972F6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59EA-9C2E-4B5B-98DE-36C1F28C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65C-C6F9-4543-9CF0-9F5353D6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13C7-9110-484A-A768-C6C65669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32C7-F927-4F47-BB94-99DBBA14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DD07-DECA-4601-AC4D-9EEF740E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3691-A9CD-456B-B2E9-37D28843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385C-5C87-4336-A4D8-C77CCBDC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DBFE-50C5-4028-BA03-ECC4D3D0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21D-9D95-4BEF-BE97-206B0D36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2E8-24E5-4E3D-8AF7-5A71DCC9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F92-056A-48FD-B19E-EA0AD959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5CF-C7E5-48F3-8B59-CEC20040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F6C-03CD-46AA-9DBF-EC68620B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C5F-17AA-4E79-9EE4-3020F486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4913-798F-4D61-BB77-F30BB00CD15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BC05-3948-4F8E-86B3-13755712A4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C531-3C65-4069-82E8-18FE1A41DA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DF8D-8B6C-498B-A9A9-02DBDB21D3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矩形 2"/>
          <p:cNvSpPr/>
          <p:nvPr/>
        </p:nvSpPr>
        <p:spPr>
          <a:xfrm>
            <a:off x="1120320" y="1428840"/>
            <a:ext cx="521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897840" y="2336760"/>
            <a:ext cx="74275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0" y="1000080"/>
            <a:ext cx="9144000" cy="40006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1120320" y="1428840"/>
            <a:ext cx="521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897840" y="2336760"/>
            <a:ext cx="74275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B4BF-31DC-4F85-B17E-6C4CD42F90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3" descr=""/>
          <p:cNvPicPr/>
          <p:nvPr/>
        </p:nvPicPr>
        <p:blipFill>
          <a:blip r:embed="rId1"/>
          <a:srcRect l="82815" t="0" r="3905" b="0"/>
          <a:stretch/>
        </p:blipFill>
        <p:spPr>
          <a:xfrm flipH="1">
            <a:off x="-360" y="0"/>
            <a:ext cx="1214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3"/>
          <p:cNvGrpSpPr/>
          <p:nvPr/>
        </p:nvGrpSpPr>
        <p:grpSpPr>
          <a:xfrm>
            <a:off x="2071800" y="1579680"/>
            <a:ext cx="6095520" cy="4064040"/>
            <a:chOff x="2071800" y="1579680"/>
            <a:chExt cx="6095520" cy="4064040"/>
          </a:xfrm>
        </p:grpSpPr>
        <p:sp>
          <p:nvSpPr>
            <p:cNvPr id="99" name="Rectangle 5"/>
            <p:cNvSpPr/>
            <p:nvPr/>
          </p:nvSpPr>
          <p:spPr>
            <a:xfrm rot="5400000">
              <a:off x="5692320" y="284040"/>
              <a:ext cx="104868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t" anchorCtr="1" vert="eaVert" rot="10800000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ntent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ntent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6"/>
            <p:cNvSpPr/>
            <p:nvPr/>
          </p:nvSpPr>
          <p:spPr>
            <a:xfrm>
              <a:off x="2071800" y="1579680"/>
              <a:ext cx="2194560" cy="1310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2071800" y="1579680"/>
              <a:ext cx="21945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1120" rIns="141120" tIns="70560" bIns="705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ntents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9"/>
            <p:cNvSpPr/>
            <p:nvPr/>
          </p:nvSpPr>
          <p:spPr>
            <a:xfrm rot="5400000">
              <a:off x="5692320" y="1660680"/>
              <a:ext cx="104868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t" anchorCtr="1" vert="eaVert" rot="10800000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ntent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ntent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2071800" y="2956320"/>
              <a:ext cx="2194560" cy="1310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1"/>
            <p:cNvSpPr/>
            <p:nvPr/>
          </p:nvSpPr>
          <p:spPr>
            <a:xfrm>
              <a:off x="2071800" y="2956320"/>
              <a:ext cx="21945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1120" rIns="141120" tIns="70560" bIns="705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ntents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 rot="5400000">
              <a:off x="5692320" y="3037680"/>
              <a:ext cx="104868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t" anchorCtr="1" vert="eaVert" rot="10800000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ntent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ntent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14"/>
            <p:cNvSpPr/>
            <p:nvPr/>
          </p:nvSpPr>
          <p:spPr>
            <a:xfrm>
              <a:off x="2071800" y="4332960"/>
              <a:ext cx="2194560" cy="1310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5"/>
            <p:cNvSpPr/>
            <p:nvPr/>
          </p:nvSpPr>
          <p:spPr>
            <a:xfrm>
              <a:off x="2071800" y="4332960"/>
              <a:ext cx="21945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1120" rIns="141120" tIns="70560" bIns="705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ntents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矩形 3"/>
          <p:cNvSpPr/>
          <p:nvPr/>
        </p:nvSpPr>
        <p:spPr>
          <a:xfrm>
            <a:off x="1408680" y="14292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57B1-32BA-4590-9927-6051F1C201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9" descr=""/>
          <p:cNvPicPr/>
          <p:nvPr/>
        </p:nvPicPr>
        <p:blipFill>
          <a:blip r:embed="rId1"/>
          <a:srcRect l="0" t="55210" r="0" b="28125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圆角矩形 2"/>
          <p:cNvSpPr/>
          <p:nvPr/>
        </p:nvSpPr>
        <p:spPr>
          <a:xfrm>
            <a:off x="214200" y="142920"/>
            <a:ext cx="2714760" cy="8571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266840" y="1857240"/>
            <a:ext cx="6734160" cy="35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1" i="1" lang="en-US" sz="2400" spc="-1" strike="noStrike">
                <a:solidFill>
                  <a:srgbClr val="4f81bd"/>
                </a:solidFill>
                <a:latin typeface="Calibri"/>
                <a:ea typeface="宋体"/>
              </a:rPr>
              <a:t>[View]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1" i="1" lang="en-US" sz="2400" spc="-1" strike="noStrike">
                <a:solidFill>
                  <a:srgbClr val="4f81bd"/>
                </a:solidFill>
                <a:latin typeface="Calibri"/>
                <a:ea typeface="宋体"/>
              </a:rPr>
              <a:t>[Master],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1" i="1" lang="en-US" sz="2400" spc="-1" strike="noStrike">
                <a:solidFill>
                  <a:srgbClr val="4f81bd"/>
                </a:solidFill>
                <a:latin typeface="Calibri"/>
                <a:ea typeface="宋体"/>
              </a:rPr>
              <a:t>[Slide Master]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1" i="1" lang="en-US" sz="2400" spc="-1" strike="noStrike">
                <a:solidFill>
                  <a:srgbClr val="4f81bd"/>
                </a:solidFill>
                <a:latin typeface="Calibri"/>
                <a:ea typeface="宋体"/>
              </a:rPr>
              <a:t>[Notes Master].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4"/>
          <p:cNvSpPr/>
          <p:nvPr/>
        </p:nvSpPr>
        <p:spPr>
          <a:xfrm>
            <a:off x="394200" y="21420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9" descr=""/>
          <p:cNvPicPr/>
          <p:nvPr/>
        </p:nvPicPr>
        <p:blipFill>
          <a:blip r:embed="rId1"/>
          <a:srcRect l="0" t="55210" r="0" b="28125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1"/>
          <p:cNvSpPr/>
          <p:nvPr/>
        </p:nvSpPr>
        <p:spPr>
          <a:xfrm>
            <a:off x="714240" y="148284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214200" y="2436840"/>
            <a:ext cx="4572000" cy="3063960"/>
            <a:chOff x="214200" y="2436840"/>
            <a:chExt cx="4572000" cy="3063960"/>
          </a:xfrm>
        </p:grpSpPr>
        <p:sp>
          <p:nvSpPr>
            <p:cNvPr id="117" name="AutoShape 5"/>
            <p:cNvSpPr/>
            <p:nvPr/>
          </p:nvSpPr>
          <p:spPr>
            <a:xfrm>
              <a:off x="214200" y="2436840"/>
              <a:ext cx="2031840" cy="8751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214200" y="2436840"/>
              <a:ext cx="2031840" cy="8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8"/>
            <p:cNvSpPr/>
            <p:nvPr/>
          </p:nvSpPr>
          <p:spPr>
            <a:xfrm>
              <a:off x="620280" y="3531240"/>
              <a:ext cx="1625400" cy="87516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89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620280" y="3531240"/>
              <a:ext cx="1625400" cy="8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1"/>
            <p:cNvSpPr/>
            <p:nvPr/>
          </p:nvSpPr>
          <p:spPr>
            <a:xfrm>
              <a:off x="620280" y="4625640"/>
              <a:ext cx="1625400" cy="87516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89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620280" y="4625640"/>
              <a:ext cx="1625400" cy="8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2754360" y="2436840"/>
              <a:ext cx="2031840" cy="8751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4"/>
            <p:cNvSpPr/>
            <p:nvPr/>
          </p:nvSpPr>
          <p:spPr>
            <a:xfrm>
              <a:off x="2754360" y="2436840"/>
              <a:ext cx="2031840" cy="8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6"/>
            <p:cNvSpPr/>
            <p:nvPr/>
          </p:nvSpPr>
          <p:spPr>
            <a:xfrm>
              <a:off x="3160800" y="3531240"/>
              <a:ext cx="1625400" cy="87516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89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3160800" y="3531240"/>
              <a:ext cx="1625400" cy="8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9"/>
            <p:cNvSpPr/>
            <p:nvPr/>
          </p:nvSpPr>
          <p:spPr>
            <a:xfrm>
              <a:off x="3160800" y="4625640"/>
              <a:ext cx="1625400" cy="87516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89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3160800" y="4625640"/>
              <a:ext cx="1625400" cy="8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右箭头 5"/>
          <p:cNvSpPr/>
          <p:nvPr/>
        </p:nvSpPr>
        <p:spPr>
          <a:xfrm>
            <a:off x="4786200" y="3500280"/>
            <a:ext cx="1071720" cy="9288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2"/>
          <p:cNvGrpSpPr/>
          <p:nvPr/>
        </p:nvGrpSpPr>
        <p:grpSpPr>
          <a:xfrm>
            <a:off x="5229000" y="2661120"/>
            <a:ext cx="3927600" cy="2839680"/>
            <a:chOff x="5229000" y="2661120"/>
            <a:chExt cx="3927600" cy="2839680"/>
          </a:xfrm>
        </p:grpSpPr>
        <p:sp>
          <p:nvSpPr>
            <p:cNvPr id="131" name="Oval 23"/>
            <p:cNvSpPr/>
            <p:nvPr/>
          </p:nvSpPr>
          <p:spPr>
            <a:xfrm>
              <a:off x="5229000" y="2661120"/>
              <a:ext cx="3927600" cy="834120"/>
            </a:xfrm>
            <a:prstGeom prst="ellipse">
              <a:avLst/>
            </a:prstGeom>
            <a:solidFill>
              <a:srgbClr val="c1cc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6818400" y="4703760"/>
              <a:ext cx="761040" cy="2977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0bfd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5"/>
            <p:cNvSpPr/>
            <p:nvPr/>
          </p:nvSpPr>
          <p:spPr>
            <a:xfrm>
              <a:off x="5372280" y="4942440"/>
              <a:ext cx="365364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6"/>
            <p:cNvSpPr/>
            <p:nvPr/>
          </p:nvSpPr>
          <p:spPr>
            <a:xfrm>
              <a:off x="5372280" y="4942440"/>
              <a:ext cx="365364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13500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6657120" y="3559680"/>
              <a:ext cx="1370160" cy="837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8"/>
            <p:cNvSpPr/>
            <p:nvPr/>
          </p:nvSpPr>
          <p:spPr>
            <a:xfrm>
              <a:off x="6657120" y="3559680"/>
              <a:ext cx="13701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5676840" y="2931120"/>
              <a:ext cx="1370160" cy="837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0"/>
            <p:cNvSpPr/>
            <p:nvPr/>
          </p:nvSpPr>
          <p:spPr>
            <a:xfrm>
              <a:off x="5676840" y="2931120"/>
              <a:ext cx="13701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077240" y="2728440"/>
              <a:ext cx="1370160" cy="837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2"/>
            <p:cNvSpPr/>
            <p:nvPr/>
          </p:nvSpPr>
          <p:spPr>
            <a:xfrm>
              <a:off x="7077240" y="2728440"/>
              <a:ext cx="13701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圆角矩形 7"/>
          <p:cNvSpPr/>
          <p:nvPr/>
        </p:nvSpPr>
        <p:spPr>
          <a:xfrm>
            <a:off x="214200" y="142920"/>
            <a:ext cx="2714760" cy="8571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/>
          <p:cNvSpPr/>
          <p:nvPr/>
        </p:nvSpPr>
        <p:spPr>
          <a:xfrm>
            <a:off x="394200" y="21420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9" descr=""/>
          <p:cNvPicPr/>
          <p:nvPr/>
        </p:nvPicPr>
        <p:blipFill>
          <a:blip r:embed="rId1"/>
          <a:srcRect l="0" t="55210" r="0" b="28125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1123920" y="1714680"/>
            <a:ext cx="673416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1" i="1" lang="en-US" sz="2000" spc="-1" strike="noStrike">
                <a:solidFill>
                  <a:srgbClr val="4f81bd"/>
                </a:solidFill>
                <a:latin typeface="Calibri"/>
                <a:ea typeface="宋体"/>
              </a:rPr>
              <a:t>[View]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1" i="1" lang="en-US" sz="2000" spc="-1" strike="noStrike">
                <a:solidFill>
                  <a:srgbClr val="4f81bd"/>
                </a:solidFill>
                <a:latin typeface="Calibri"/>
                <a:ea typeface="宋体"/>
              </a:rPr>
              <a:t>[Master]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1" i="1" lang="en-US" sz="2000" spc="-1" strike="noStrike">
                <a:solidFill>
                  <a:srgbClr val="4f81bd"/>
                </a:solidFill>
                <a:latin typeface="Calibri"/>
                <a:ea typeface="宋体"/>
              </a:rPr>
              <a:t>[Slide Master]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1" i="1" lang="en-US" sz="2000" spc="-1" strike="noStrike">
                <a:solidFill>
                  <a:srgbClr val="4f81bd"/>
                </a:solidFill>
                <a:latin typeface="Calibri"/>
                <a:ea typeface="宋体"/>
              </a:rPr>
              <a:t>[Notes Master].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4f81bd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4f81bd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4f81bd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4f81bd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2"/>
          <p:cNvSpPr/>
          <p:nvPr/>
        </p:nvSpPr>
        <p:spPr>
          <a:xfrm>
            <a:off x="214200" y="142920"/>
            <a:ext cx="2714760" cy="8571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>
            <a:off x="394200" y="21420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矩形 2"/>
          <p:cNvSpPr/>
          <p:nvPr/>
        </p:nvSpPr>
        <p:spPr>
          <a:xfrm>
            <a:off x="1120320" y="1428840"/>
            <a:ext cx="521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897840" y="2336760"/>
            <a:ext cx="74275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0" y="2143080"/>
            <a:ext cx="9144000" cy="25718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1321200" y="2143080"/>
            <a:ext cx="65098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0:25:00Z</dcterms:created>
  <dc:creator>番茄花园</dc:creator>
  <dc:description/>
  <cp:keywords/>
  <dc:language>en-US</dc:language>
  <cp:lastModifiedBy>a</cp:lastModifiedBy>
  <dcterms:modified xsi:type="dcterms:W3CDTF">2014-05-28T04:51:28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