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775B-49FC-4C2B-AA7F-AA72D03CE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786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6920" y="1600200"/>
            <a:ext cx="786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6920" y="3964320"/>
            <a:ext cx="786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1DB5-4F79-46A5-843A-30EB2742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786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6920" y="1600200"/>
            <a:ext cx="38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19280" y="1600200"/>
            <a:ext cx="38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6920" y="3964320"/>
            <a:ext cx="38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19280" y="3964320"/>
            <a:ext cx="38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8DC3-C4E1-495A-87E7-6A2261F5F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786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6920" y="1600200"/>
            <a:ext cx="253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47680" y="1600200"/>
            <a:ext cx="253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440" y="1600200"/>
            <a:ext cx="253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6920" y="3964320"/>
            <a:ext cx="253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47680" y="3964320"/>
            <a:ext cx="253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8440" y="3964320"/>
            <a:ext cx="253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86C0-ED48-4477-8605-91233E147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96CB-57DA-4E55-8F8D-6B822D3B4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786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86920" y="1600200"/>
            <a:ext cx="7869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324E-3A45-4A71-9EC1-C9BDEAB0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786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6920" y="1600200"/>
            <a:ext cx="7869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9491-CB0A-4F67-8F60-BDFFCA98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786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6920" y="1600200"/>
            <a:ext cx="384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19280" y="1600200"/>
            <a:ext cx="384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C367-60B9-4327-B918-1BCF418D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786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6A67-5D59-4C9E-BF48-7D6A7A0F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86920" y="274320"/>
            <a:ext cx="786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6ECB-5381-48FB-B066-DC6EEA0E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786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6920" y="1600200"/>
            <a:ext cx="38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19280" y="1600200"/>
            <a:ext cx="384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86920" y="3964320"/>
            <a:ext cx="38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7955-7EB9-4F3C-AAEC-E9D7D8F1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786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6920" y="1600200"/>
            <a:ext cx="7869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FC6A-764B-4024-8F13-7FF910C5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786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6920" y="1600200"/>
            <a:ext cx="384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19280" y="1600200"/>
            <a:ext cx="38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19280" y="3964320"/>
            <a:ext cx="38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DD85-DCD8-4246-8AC5-9A42DF91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786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6920" y="1600200"/>
            <a:ext cx="38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19280" y="1600200"/>
            <a:ext cx="38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86920" y="3964320"/>
            <a:ext cx="786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92661-BEB3-4335-BBAE-22834764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786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6920" y="1600200"/>
            <a:ext cx="786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86920" y="3964320"/>
            <a:ext cx="786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2EFB-9BDE-416C-A71D-9FDDEF94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786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6920" y="1600200"/>
            <a:ext cx="38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19280" y="1600200"/>
            <a:ext cx="38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6920" y="3964320"/>
            <a:ext cx="38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19280" y="3964320"/>
            <a:ext cx="38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AD0A-B944-456D-8DFD-B15692077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786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6920" y="1600200"/>
            <a:ext cx="253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47680" y="1600200"/>
            <a:ext cx="253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08440" y="1600200"/>
            <a:ext cx="253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86920" y="3964320"/>
            <a:ext cx="253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47680" y="3964320"/>
            <a:ext cx="253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08440" y="3964320"/>
            <a:ext cx="253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ABF0-9DA3-47D1-87DA-BEC333EEF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786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6920" y="1600200"/>
            <a:ext cx="7869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005B-130B-4BE0-8CE5-75395BCB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786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6920" y="1600200"/>
            <a:ext cx="384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19280" y="1600200"/>
            <a:ext cx="384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1520-D4B2-4FAB-A9A7-231A7E06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786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ABFE-D309-4375-8F37-381312DD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86920" y="274320"/>
            <a:ext cx="786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0A22-6E39-46C0-8682-EA4E6739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786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6920" y="1600200"/>
            <a:ext cx="38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19280" y="1600200"/>
            <a:ext cx="384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6920" y="3964320"/>
            <a:ext cx="38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FF66-62A4-44BF-8032-0CD4EFF9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786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6920" y="1600200"/>
            <a:ext cx="384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19280" y="1600200"/>
            <a:ext cx="38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19280" y="3964320"/>
            <a:ext cx="38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90A9-219F-4DED-9D0E-91828CA2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786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6920" y="1600200"/>
            <a:ext cx="38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19280" y="1600200"/>
            <a:ext cx="3840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6920" y="3964320"/>
            <a:ext cx="786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307E-78D7-4C20-B015-985CE1CC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786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6920" y="1600200"/>
            <a:ext cx="7869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B7CB-494F-4DA4-9065-DB937CFC6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786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-1595520" y="1600200"/>
            <a:ext cx="786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F031-7D98-4675-838B-C41E3D8221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黑板教学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演示模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786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186920" y="1600200"/>
            <a:ext cx="7869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GB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GB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a2c8e1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a2c8e1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a2c8e1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a2c8e1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a2c8e1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a2c8e1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a2c8e1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a2c8e1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6T05:40:35Z</dcterms:created>
  <dc:creator>Geetesh Bajaj</dc:creator>
  <dc:description/>
  <dc:language>en-US</dc:language>
  <cp:lastModifiedBy>a</cp:lastModifiedBy>
  <dcterms:modified xsi:type="dcterms:W3CDTF">2014-12-31T03:41:39Z</dcterms:modified>
  <cp:revision>44</cp:revision>
  <dc:subject/>
  <dc:title>Welco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