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107-BCB7-497E-AA88-B27D07D6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53B-46D0-4E5B-A7FC-9DE3CE3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F53-E1A4-4B32-BCB5-9D7F876C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8E3-8AD4-4CC2-83DC-1B452617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F41-B22D-4A54-933D-9554FFFA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2A07-2A9C-412B-990C-4C612EC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919-D31C-4737-B199-523B906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FCD5-2BF8-4ED0-A5E1-E66D5093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36E3-1838-45F4-8A47-0D985EE3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DE58-4EC3-453D-8FCF-DDA54BB0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D4F9-C122-4B43-B9B1-CC9E633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AD7-9386-47C0-82E7-D78EA25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BEFC-B9FF-4283-9C6D-B637602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8FD-D14F-4C0B-88B5-B896248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389A-C663-4265-8AF9-0E2024C7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2AE5-65A6-44A9-9628-CA1794E1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E8A1-A43D-46B0-AEC4-68E16489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93E-41BE-4989-8B60-F581AD4D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A32-E319-4277-90F8-83294E5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638-0015-434B-B0D1-08159EE8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B86-469B-4D51-AD8F-ABD61B3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0CE-E62A-4FC3-9F87-E56621D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B7B-0645-4492-B45E-AEAE730D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041-78AA-43F6-AD66-9496BC50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3401-AAF6-44BF-990C-EAAC90B357A4}" type="slidenum">
              <a:rPr b="1" lang="en-US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F527-6D0F-4CB6-A9BD-7DA5599060E7}" type="slidenum">
              <a:rPr b="0" lang="en-US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Eurostile"/>
                <a:ea typeface="宋体"/>
              </a:rPr>
              <a:t>化工类抽象</a:t>
            </a: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Eurostile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70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rostile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70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Eurostile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/>
  <dc:description/>
  <dc:language>en-US</dc:language>
  <cp:lastModifiedBy>a</cp:lastModifiedBy>
  <dcterms:modified xsi:type="dcterms:W3CDTF">2014-12-31T03:51:58Z</dcterms:modified>
  <cp:revision>49</cp:revision>
  <dc:subject/>
  <dc:title>Metallic Chemi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