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5E9-5177-4BCD-B4D5-4AA8AF4C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3C4-8625-4932-87D8-6B86B00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2E3EC-EFF0-4E44-ABC7-8B320471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A8F8D-6571-484A-9EC2-6732B3F6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9786-84B3-48DD-A33E-18EA873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6E2E7-A98F-4622-9F80-807C59A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5F4E-5E26-4B50-B7A2-7BC696E5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0C0C-A7D4-4574-9D77-020AC15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5F54F-3058-49CA-A236-7CD30E94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DF2F7-76BB-4861-8CBB-BE87A2D5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DA985-5CFA-4570-8F93-35F87F4F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A8CE7-A2D8-4F28-98CB-83056B31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6FD-BC07-4E3F-8ABA-0665CF90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293B7-E82E-4070-8296-33443F25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57F6-111E-4D15-B83E-D850251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39EF7-2895-4E67-9A69-5C84E50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8A83-67EA-449D-BBD3-E8F0B4B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0FDD-BFF5-46E3-BD4D-7BA9DC1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1888B-63DC-428E-A22A-398B119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A0FC3-DB4A-406A-A635-35B9BED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D6EC8-2A42-4B4D-AADB-09E2930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FA7C-C536-47C9-ADE7-CD4F9D7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CB5A4-64D0-43BD-9C8D-F0FE140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E6A-79B7-4849-AB2D-C8BE9A5A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2A5AF-A52F-45E2-929A-5CAAD3FE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D4B1A-EB7C-4FA5-97D5-72213C2D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50D9-6526-4076-88E8-7548E3E8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174D-41A8-4758-BBDA-A713387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DBD5A-1A17-4163-A9FB-9394A48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21B45-0DC5-4491-A97C-9FA6EE1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64E2-E7CA-458A-8DC5-5D2DB385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41E91-60F4-4649-9C26-5DB0CB3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FC3D-8B6E-4000-AEB0-FC67E59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757C4-5938-480F-8227-A1BB86C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81B1-FFAE-442C-A4D0-F9E754DA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B52B9-F9AA-4047-A490-A673506C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8249C-CADC-4996-8C66-BE88424E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821EB-6D30-454F-85D9-E8167399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C2468-C7BE-4DB6-A262-6077497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8223C-606B-4101-8D57-49FC9423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5C662-8274-4426-9230-BB029AF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20551-988C-4EA7-8A21-7F5AF80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35C9-03A0-4F7A-84CA-3A59C43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FD9E4-0420-4D9A-8D20-DD47B023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095F9-9201-4A2B-A36F-3DF6F85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DAD1-688C-472E-8B74-8C7D8544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4682-B54B-449E-85A0-C2A5ECE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97B71-878C-46EC-9E67-11D748F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B903-FF2E-41BF-9CAA-0BD81B6C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A51C8-9553-4427-8660-775A64AB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EF666-FE62-4A3F-85F4-D041D336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498DC-D57C-4C47-B556-F3D11C5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F083C-5669-4F0B-9F12-EDF8E873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3C6E5-74E1-4F7D-92A4-40E1896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66128-DA3C-49CA-8F2A-349C9E3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FB948-7BB5-4B90-8135-C9A4B05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42C9-D1FF-4479-9089-85743F5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93D63-E015-4415-9B22-9F9D3AA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96BD8-916D-4119-BDCF-622BB29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A2E6B-E027-4233-B53D-06F0787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E4727-437B-45EB-A866-7B02BC9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A62CC-AE84-4B6E-A903-C049B62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D76EC-1597-4B04-A6DE-CD52F2FA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98783-E7ED-4F4F-9B1F-19D34018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2B3D0-3DAA-49F3-A653-E42991B8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830DE-13AA-4EE3-900D-A3E66BBB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C4FFF-6E3B-4271-AC0E-B3BBE29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EC0-1BA2-4A75-ADB0-4D2F794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34034-2303-4EF4-9806-3C6301A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14DE5-99F0-4582-83C1-FEFB88D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2AD7A-9957-4656-AAAB-BEB3107B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294F5-D4A4-46C7-BC89-65F69D6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67593-91B6-4E33-AE7B-AAEF788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C68EC-E77A-4E23-A531-BE727A4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7C843-6EFA-4270-AC09-68B56984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96E3B-54AD-4361-A0CD-F334703F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B8484-1B18-4295-82E3-D39DE6DB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090-06B2-4A7A-820E-9049D94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467-02FC-4688-AC01-63AB87E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DED6-78DD-4E7F-BDE6-E9246A1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032-669B-4CFD-9DD2-0669049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AA8-A435-4F43-8127-E5AA95E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AAC-417C-49C7-951B-F4F45D0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DD59-00B3-4820-A155-6201978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5D3-7ACA-4F04-B1E5-831F2389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1452-595C-48AC-ABA1-068951DD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B325-DED7-4581-B192-1D8EEF3B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444A-DE4D-493E-A0D7-9823D74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092F-FCD2-44A9-AFFF-2ABFFFBD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7E13-54AA-4BE6-89AC-F74FA62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974E-A003-4BCB-B95F-9FF3F64D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6DC-B322-44FB-9C27-029595F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9FB4-97C9-441B-96F2-3472CBB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46D1-FDD0-4AA6-A900-44E0920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D22C-E443-467C-8EFC-CEFDD2F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4B2D-08A3-4101-B5B3-1F070B1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AE9E-9483-4F26-933C-3714238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1435-F373-46C9-B3A8-D2055084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EDE6-1AFD-4CDE-870F-A167FBDC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01CB-F4C3-409F-9789-6FE32AC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A32A-8656-4A1F-AAD4-4A6961B1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F3C0-329E-4C37-8EDB-842411B7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978-53F5-4F8A-86E9-1206206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EE7B-E28D-4D6C-9942-A0998DE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00CB-E271-4165-A755-F284447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9245-449C-4A0C-A7FD-49305E69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5183-E0EC-40AC-9205-25AAEC7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9A26-7BEF-4777-AD94-A3E603E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8A15-A675-4FBE-9D70-4D143E2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0396-D2BA-4AE7-A10A-B6F10C2E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8AC8-BDEC-47B4-BB85-222090D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DAFF-D5E6-4CE9-BC53-3E8A9D19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67E6-90E6-444B-BF05-D94D7B1A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C22-8084-449D-AF74-8434B48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E74B-FD34-439B-985A-D89F4FDF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2E63-BCE0-40A4-9FBB-26D9F1E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1E95C-CAD4-438C-B63F-D7F612A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D441-B438-4C28-86D1-B5892549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B17B-829F-4FD2-8DB0-5ED79B4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2308C-6153-494F-9118-85FE3DD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E191-69DC-4230-8802-24FC662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C0A9-284A-42B1-B573-42DB7AD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B1F7-0B8B-483A-AC1E-6F70BF2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F6C8-60FA-4FD3-8236-78BE02E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0E0-1E3B-48DA-AE4C-1B594D29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3967-EF3B-42A7-B2A4-BFF97714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E0F9-AB75-4643-A264-0E4A2ACE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707F-8D51-41EC-9C4A-B8D40FC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744AB-D774-4728-9A60-F5026F51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1916-8F8B-4F62-BC2A-E01FC54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BDD5A-5395-4F6C-A5EA-6CFE50C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5B88-99F9-493C-81E1-F88B544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9D70-9DF9-46E1-93E5-7E68760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DAAB-D2A3-4666-8228-6425054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7236-EB87-497A-98C5-9A8032C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A85-2482-4207-B84C-DA884DA5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2C17-43B2-453F-A93C-91B0F0E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382E-9F76-47E3-9A3D-8496E7DE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F670-65E2-4820-9ECD-88CDAA73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D3F3-B361-451C-A847-C7CC4A2E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1E418-F707-4D55-B3FB-A5941ABA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C693-717B-45C8-8AF4-3C757A1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2EED-A10B-48F9-8BA7-23562A5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E126-992C-4853-8D64-7E4E2840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A6207-50E0-4CA9-8CD4-781713D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9EE43-61E8-473A-BD8F-38C44BB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7BC-F51D-4E76-A929-456DC42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0C7F-52D0-4675-8610-D32822DE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3958-36BF-44ED-AF1A-4E0DB05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73D3-5ED8-4F4B-BA4A-0ACC4C6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659D-E07D-43E7-85E8-C68A0438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ACF0-AE22-43E2-AD98-0793E438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B47D-4666-4FB0-9610-E96AD3BE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131F-640C-497D-AD0A-01D44373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3B08-4470-4402-B5C6-54393D6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BA519-DF7B-4B76-9A21-086E1E33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4274-E1D8-40C8-8AFB-42E1E6C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A10-86E1-43AB-9FED-C37E14A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9D59-1A8B-43EC-BE92-85828299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6138C-214F-4C00-9F98-506A35C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3959F-3C10-4275-94BA-0FF615E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C911-BB9F-4A96-9D71-C838926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76E8-8C08-4706-9E0C-259F67A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5B4F-C34C-4555-9EC9-DE3B5BFB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07518-F4C2-44FB-B875-05588A73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DB77E-76BE-46F4-B511-D03B1945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CD23D-1F7E-42AD-A626-48AE7043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A73A-DFDC-4C74-8BE0-446A2AE3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8E5-DD13-4E94-80EF-5E9F29F1D8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5BB4-342A-4899-A8FF-3F460B08A1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8766-3694-4B6B-97CE-75AE7B8F5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F31-B82D-42CE-AB29-6D584BCF6D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D65-CF35-4717-A9B5-C4B5EC01C6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6176-B612-415F-80F8-64DED3F6A7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EAF-C133-46E0-B131-FAAFEB84F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FD02-A047-4312-8D45-58B16AC666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CAEA-5909-4205-BEBE-32743CB983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CD3-FD54-4396-9E94-EEDA86872E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37B-9887-4EED-93EA-DF5AECB67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D82F-0090-48C3-A514-6A5DC62453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266-1444-4553-87B4-56370DDA55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5D4-1EB1-4992-AF16-68E868162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3D3-50CF-4C3A-B3AB-F10812FB80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1066-A7E3-40B5-8502-1D4956073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04A-8E9D-45EA-8F80-29CB27BA62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656-0AD6-443F-92B0-DEEE65953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7D4-EAB1-4FEF-A4AE-BF67E5EDD3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04F-8D17-4F63-A7D9-E6CBAE79C8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BBF6-2468-4E5B-8B1A-C43FE44313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95E-9374-475F-A2B8-DE1534E81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9299-C486-4126-BCF5-BAF305DE00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8D7-A013-4E54-8F2E-A9F9762B0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7A5-4022-42A6-9E3A-9B3F915724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B428-2F30-4BE2-9D26-F50A9DD573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黄昏下的码头风景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9:03:34Z</dcterms:created>
  <dc:creator>zouendong</dc:creator>
  <dc:description/>
  <dc:language>en-US</dc:language>
  <cp:lastModifiedBy>a</cp:lastModifiedBy>
  <dcterms:modified xsi:type="dcterms:W3CDTF">2014-12-21T03:43:4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