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680-2B52-4744-B8F9-EE5243B4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46D9-A728-49F9-9C3D-B0440856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A51-9876-42A2-A7DA-0931C153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73E-5152-427D-BA60-49DF52D8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74DD-4E39-4BC7-8642-A92BC4BA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8C62-29ED-4083-BECA-D32ECDD5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653D-6262-42D2-B2B9-DD0FE73C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469F-B416-4A10-8606-EBD4569E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4625-0674-439D-AF2E-E50FF9B6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4866-A4A2-48E5-BAF3-4F254BE3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1121-6343-4947-B5F4-B3BC446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47C-8251-42AF-999D-35522680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F843-8291-4E8F-9960-D3156718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6B8E-CAB9-421F-843A-E7A9E909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EA2-7ED4-4F03-8574-2B57B708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6CC3-D8C4-4F79-A453-8DF0D388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EC87-A683-4D04-96EF-E9A76200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DEB-B708-4F65-91C0-337C151A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ED4-04E8-40CD-868C-724D3932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309-890F-4F7A-B132-2A433BBE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E2B-6FB7-4EB0-9265-C44D52A1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7B8-0C10-4399-A81A-126F4905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F46-F30D-4596-8BB9-64656078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2A7-A154-47E3-8C2F-8915B723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4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AFDA-3F88-4043-BD70-2B10679E13E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5F10-F03A-42B6-BBFA-CFD4D377ED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5BEA-09C6-46EF-A64F-ED4EAE3DBA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D98E-5D32-4998-B8AA-AA968C6FE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4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360" y="1886040"/>
            <a:ext cx="779796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黄金树叶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4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04FF-20A2-4F26-84CF-310F0F549DB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D109-3B3B-4D23-8EEF-F60A8A4DDB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17:24:00Z</dcterms:created>
  <dc:creator>Owner</dc:creator>
  <dc:description/>
  <dc:language>en-US</dc:language>
  <cp:lastModifiedBy>a</cp:lastModifiedBy>
  <dcterms:modified xsi:type="dcterms:W3CDTF">2014-12-15T17:52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