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76F9-EC43-4F12-8162-F33F48831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040" y="957240"/>
            <a:ext cx="89852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040" y="3657240"/>
            <a:ext cx="89852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D511-AB70-470D-BBBD-D55F18DD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040" y="9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080" y="9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040" y="36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080" y="36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7380-DC76-4731-8F0F-3B425C27A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040" y="957240"/>
            <a:ext cx="2892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06080" y="957240"/>
            <a:ext cx="2892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4120" y="957240"/>
            <a:ext cx="2892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040" y="3657240"/>
            <a:ext cx="2892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06080" y="3657240"/>
            <a:ext cx="2892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4120" y="3657240"/>
            <a:ext cx="2892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96C6-9CF9-4B96-8DD8-6F7FC3C04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040" y="957240"/>
            <a:ext cx="898524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040" y="957240"/>
            <a:ext cx="89852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040" y="957240"/>
            <a:ext cx="43844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080" y="957240"/>
            <a:ext cx="43844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400" y="237600"/>
            <a:ext cx="822960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040" y="9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957240"/>
            <a:ext cx="43844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040" y="36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040" y="957240"/>
            <a:ext cx="898524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1F2D-E80F-4AD9-BB40-D9FCFA21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040" y="957240"/>
            <a:ext cx="43844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9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2080" y="36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040" y="9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080" y="9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040" y="3657240"/>
            <a:ext cx="89852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040" y="957240"/>
            <a:ext cx="89852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040" y="3657240"/>
            <a:ext cx="89852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040" y="9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2080" y="9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040" y="36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2080" y="36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040" y="957240"/>
            <a:ext cx="2892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06080" y="957240"/>
            <a:ext cx="2892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44120" y="957240"/>
            <a:ext cx="2892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040" y="3657240"/>
            <a:ext cx="2892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06080" y="3657240"/>
            <a:ext cx="2892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44120" y="3657240"/>
            <a:ext cx="2892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11D6-36E7-4EE5-89A1-B69591A35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040" y="957240"/>
            <a:ext cx="898524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EC0A-2A8C-4AD2-BB51-AFF79229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040" y="957240"/>
            <a:ext cx="89852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D019-F7EF-442D-91F4-D00FAFB1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040" y="957240"/>
            <a:ext cx="43844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080" y="957240"/>
            <a:ext cx="43844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B691-BC87-4F56-AABC-98082759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15AC-E7E7-4139-ACC5-89DC858A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040" y="957240"/>
            <a:ext cx="89852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B6F8-35F7-4BD4-870C-4D6612AE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400" y="237600"/>
            <a:ext cx="822960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3E84-4086-45EF-93CB-857AE505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040" y="9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2080" y="957240"/>
            <a:ext cx="43844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040" y="36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BA3DA-9380-4075-98FB-385E10D1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040" y="957240"/>
            <a:ext cx="43844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2080" y="9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2080" y="36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56AD-6BED-4F39-8C71-6607DE1D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040" y="9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2080" y="9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040" y="3657240"/>
            <a:ext cx="89852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AFB6-E47E-4ABF-B035-A2328E15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040" y="957240"/>
            <a:ext cx="89852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040" y="3657240"/>
            <a:ext cx="89852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5C01-5EFC-41EE-BD64-00F7AA22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040" y="9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2080" y="9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040" y="36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2080" y="36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FF68-3A49-41F7-AC2D-3145BC88B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040" y="957240"/>
            <a:ext cx="2892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106080" y="957240"/>
            <a:ext cx="2892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44120" y="957240"/>
            <a:ext cx="2892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040" y="3657240"/>
            <a:ext cx="2892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106080" y="3657240"/>
            <a:ext cx="2892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44120" y="3657240"/>
            <a:ext cx="289296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5214-81C1-4EB0-AACC-CA6D471E9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040" y="957240"/>
            <a:ext cx="43844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080" y="957240"/>
            <a:ext cx="43844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1EEF-AFF9-4314-9472-FDD4B34A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3BA1-AF3F-4A05-93DB-D1B227D9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400" y="237600"/>
            <a:ext cx="822960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FD54-7B27-4A7F-AB0B-B1F164CE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040" y="9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080" y="957240"/>
            <a:ext cx="43844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040" y="36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A02D-4B4F-47B5-BF6C-23A94C87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040" y="957240"/>
            <a:ext cx="43844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080" y="9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080" y="36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97B2-DD80-49A4-98C9-37345001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040" y="9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080" y="957240"/>
            <a:ext cx="43844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040" y="3657240"/>
            <a:ext cx="89852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36C2-A5DD-4B99-963F-8FD33873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m62.net/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m62.net/presentation-theory/bullet-points-dont-work/beyond-bullet-points/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www.m62.net/powerpoint-slides/" TargetMode="External"/><Relationship Id="rId7" Type="http://schemas.openxmlformats.org/officeDocument/2006/relationships/image" Target="../media/image4.png"/><Relationship Id="rId8" Type="http://schemas.openxmlformats.org/officeDocument/2006/relationships/hyperlink" Target="http://www.m62.net/powerpoint-training/" TargetMode="External"/><Relationship Id="rId9" Type="http://schemas.openxmlformats.org/officeDocument/2006/relationships/image" Target="../media/image5.png"/><Relationship Id="rId10" Type="http://schemas.openxmlformats.org/officeDocument/2006/relationships/hyperlink" Target="http://www.m62.net/presentation-theory/bullet-points-dont-work/beyond-bullet-points/" TargetMode="External"/><Relationship Id="rId11" Type="http://schemas.openxmlformats.org/officeDocument/2006/relationships/hyperlink" Target="http://www.m62.net/powerpoint-slides/" TargetMode="External"/><Relationship Id="rId12" Type="http://schemas.openxmlformats.org/officeDocument/2006/relationships/hyperlink" Target="http://www.m62.net/powerpoint-training/" TargetMode="External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8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ar 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040" y="957240"/>
            <a:ext cx="89852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419640" y="6270120"/>
            <a:ext cx="111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97200" y="6270120"/>
            <a:ext cx="36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256240" y="6270120"/>
            <a:ext cx="801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E4D7-2E8C-4B90-AE50-D5FD332B8D00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-88920" y="6453360"/>
            <a:ext cx="8528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4d4d4d"/>
                </a:solidFill>
                <a:latin typeface="Neo Sans"/>
                <a:ea typeface="宋体"/>
              </a:rPr>
              <a:t>m62 visualcommunications is the global leader in presentation effectiveness, from offices in the UK, USA, and Singap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4" descr="m62-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502480" y="6485040"/>
            <a:ext cx="381240" cy="257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60280" y="777960"/>
            <a:ext cx="2000160" cy="1457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2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87280" y="2673360"/>
            <a:ext cx="2000160" cy="1457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3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87280" y="4568760"/>
            <a:ext cx="2000160" cy="14572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8">
            <a:hlinkClick r:id="rId10"/>
          </p:cNvPr>
          <p:cNvSpPr/>
          <p:nvPr/>
        </p:nvSpPr>
        <p:spPr>
          <a:xfrm>
            <a:off x="332640" y="2290320"/>
            <a:ext cx="1730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5971"/>
                </a:solidFill>
                <a:latin typeface="Neo Sans"/>
                <a:ea typeface="宋体"/>
              </a:rPr>
              <a:t>Beyond Bullet Poi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9">
            <a:hlinkClick r:id="rId11"/>
          </p:cNvPr>
          <p:cNvSpPr/>
          <p:nvPr/>
        </p:nvSpPr>
        <p:spPr>
          <a:xfrm>
            <a:off x="339840" y="4188960"/>
            <a:ext cx="1497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5971"/>
                </a:solidFill>
                <a:latin typeface="Neo Sans"/>
                <a:ea typeface="宋体"/>
              </a:rPr>
              <a:t>PowerPoint Slid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10">
            <a:hlinkClick r:id="rId12"/>
          </p:cNvPr>
          <p:cNvSpPr/>
          <p:nvPr/>
        </p:nvSpPr>
        <p:spPr>
          <a:xfrm>
            <a:off x="325800" y="6084360"/>
            <a:ext cx="1706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5971"/>
                </a:solidFill>
                <a:latin typeface="Neo Sans"/>
                <a:ea typeface="宋体"/>
              </a:rPr>
              <a:t>PowerPoint Train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1" descr="bg"/>
          <p:cNvPicPr/>
          <p:nvPr/>
        </p:nvPicPr>
        <p:blipFill>
          <a:blip r:embed="rId13"/>
          <a:stretch/>
        </p:blipFill>
        <p:spPr>
          <a:xfrm>
            <a:off x="2521080" y="777960"/>
            <a:ext cx="6362640" cy="52480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2"/>
          <p:cNvSpPr/>
          <p:nvPr/>
        </p:nvSpPr>
        <p:spPr>
          <a:xfrm>
            <a:off x="28440" y="189000"/>
            <a:ext cx="9115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33333"/>
                </a:solidFill>
                <a:latin typeface="Neo Sans"/>
                <a:ea typeface="宋体"/>
              </a:rPr>
              <a:t>It’s not the </a:t>
            </a:r>
            <a:r>
              <a:rPr b="1" lang="en-GB" sz="2100" spc="-1" strike="noStrike">
                <a:solidFill>
                  <a:srgbClr val="333333"/>
                </a:solidFill>
                <a:latin typeface="Neo Sans"/>
                <a:ea typeface="宋体"/>
              </a:rPr>
              <a:t>design</a:t>
            </a:r>
            <a:r>
              <a:rPr b="0" lang="en-GB" sz="2100" spc="-1" strike="noStrike">
                <a:solidFill>
                  <a:srgbClr val="333333"/>
                </a:solidFill>
                <a:latin typeface="Neo Sans"/>
                <a:ea typeface="宋体"/>
              </a:rPr>
              <a:t> of your template, it’s what you </a:t>
            </a:r>
            <a:r>
              <a:rPr b="1" lang="en-GB" sz="2100" spc="-1" strike="noStrike">
                <a:solidFill>
                  <a:srgbClr val="333333"/>
                </a:solidFill>
                <a:latin typeface="Neo Sans"/>
                <a:ea typeface="宋体"/>
              </a:rPr>
              <a:t>do with it</a:t>
            </a:r>
            <a:r>
              <a:rPr b="0" lang="en-GB" sz="2100" spc="-1" strike="noStrike">
                <a:solidFill>
                  <a:srgbClr val="333333"/>
                </a:solidFill>
                <a:latin typeface="Neo Sans"/>
                <a:ea typeface="宋体"/>
              </a:rPr>
              <a:t> that count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8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ar 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ar TITLE"/>
          <p:cNvPicPr/>
          <p:nvPr/>
        </p:nvPicPr>
        <p:blipFill>
          <a:blip r:embed="rId3"/>
          <a:srcRect l="0" t="13242" r="0" b="38451"/>
          <a:stretch/>
        </p:blipFill>
        <p:spPr>
          <a:xfrm>
            <a:off x="0" y="907920"/>
            <a:ext cx="9144000" cy="3313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040" y="957240"/>
            <a:ext cx="89852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3419640" y="6270120"/>
            <a:ext cx="111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4597200" y="6270120"/>
            <a:ext cx="360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8256240" y="6270120"/>
            <a:ext cx="801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828F-C1A9-47AF-8466-F7EFEF85AF1F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8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000" y="1557360"/>
            <a:ext cx="759312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黑蓝汽车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07640" y="2781000"/>
            <a:ext cx="7581960" cy="9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08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ar TB"/>
          <p:cNvPicPr/>
          <p:nvPr/>
        </p:nvPicPr>
        <p:blipFill>
          <a:blip r:embed="rId1"/>
          <a:srcRect l="0" t="1205" r="0" b="86762"/>
          <a:stretch/>
        </p:blipFill>
        <p:spPr>
          <a:xfrm>
            <a:off x="0" y="82440"/>
            <a:ext cx="9144000" cy="8254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00" y="23760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040" y="957240"/>
            <a:ext cx="89852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4ba242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4ba242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4ba242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4ba242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4ba242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4ba242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GB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4ba242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4ba242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13:44:56Z</dcterms:created>
  <dc:creator>user</dc:creator>
  <dc:description/>
  <dc:language>en-US</dc:language>
  <cp:lastModifiedBy>a</cp:lastModifiedBy>
  <dcterms:modified xsi:type="dcterms:W3CDTF">2014-12-26T02:33:42Z</dcterms:modified>
  <cp:revision>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