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E78-EE43-43E5-8750-D61B19DB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4F3-464C-4254-84C0-1702DE06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460-60D5-4767-8D4E-2E0BC97E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56E-CEF0-4980-8FCB-5E93B7BD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C9A-BEA1-4BC7-8E5D-2927EEC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842-E882-437B-BE9F-B5AA9745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FF2-BFF9-4925-AEAF-86452924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869-0F6B-430B-AD55-CE17370B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72D-7C76-4400-AEA4-01EC31B8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C82-E1C3-4465-BD5E-231C3898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787-F3FA-47AF-A3D4-1B7D0774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15B-3AD7-4A41-8665-B4C29525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245440" y="6597720"/>
            <a:ext cx="863640" cy="247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1BAA-C05E-4883-8215-3AB03BE1CCAB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华丽商务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</cp:lastModifiedBy>
  <dcterms:modified xsi:type="dcterms:W3CDTF">2014-12-26T05:26:36Z</dcterms:modified>
  <cp:revision>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