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48-DD11-40C1-A579-12D77FA9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74C-CC09-44FA-9BFD-0066956A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8FE-6B27-46F7-9612-260980CE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30F-DCFB-496C-9673-BA78DBC8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4450-A2ED-4783-BE3D-E5A7CB0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A848-D6EB-4677-8C5E-FFE82AD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3522-8788-42B3-A36B-ACA45C3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EC6E-5290-438A-8F5F-CC1DBD3B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75EB-531B-4161-8B30-400E52AB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67B5-97B5-4F5A-B051-DB47D34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3C2-BF19-4306-9CD1-3171227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7D6-A348-4C57-8B0D-05DBD1D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968-0381-4E36-BCD9-4A1E6F67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03AE-22B2-4F8C-90E8-8EA329C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4EB-1C69-4DF7-B08A-A86F0E5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901-F15B-4254-96D3-1B7F492D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DF1-ED40-436D-9008-AF9F10BE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4C61-F6E5-4308-969B-CFA08E06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D4C9-AF61-4E10-8D20-876FCBB0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0EAF-F798-45D3-92C3-34306F67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8A666-83CB-4CA3-BC89-58CF2260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DB03-E8C4-4F36-97AE-81269577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C0B-AA33-4D2D-ADE1-3962A89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65BE-04E7-4904-8491-75535692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1822-9783-4252-B240-9FF4F4D9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44BF-C573-4760-A1B8-D869FDE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226A4-EF8A-430E-87A1-82460EE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E263-C5F3-420B-93B3-928EB522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B352-33D1-48F6-9216-3D8C7C82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DF2E-8819-46CA-9BCE-AA783E0C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D64B-0064-417E-9E49-71B24CC4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12A9-75F4-4920-B095-84B06812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AA2CF-A2C6-4B07-B866-236F293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31C-CED1-4B2E-9B79-FCE82F8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30F3-5910-44B3-95DD-EBF49B2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0E650-D035-42AC-A57F-7B98C36D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4673-FAEB-40DC-BE81-A6F50DB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30B9-5A4F-4531-890A-E3631218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6793-A43A-4A9D-A056-5C1FF2A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685C-F064-4DAB-BDB5-C99D7B5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1C32-49B5-4CC9-8DF6-0B19F6C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A793-32B7-407A-98BE-6C56AFBD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E8DE-F9D3-4A28-B2BA-FBD1C467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EE0-04D7-4E1A-A7C6-4CE816E3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A31-63B3-44C8-BE17-5D45FC6E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C3D-7805-43C9-95F9-739D8C46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99C-F83A-43C5-BD9A-93EEDE7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B93-32C3-4558-95E4-3E14C485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7B2-BA69-4326-A1C7-597055A18E67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8DF-B0E2-4132-84D1-817B7FE3C7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8288-AE52-4C83-A950-3DF9F679FE9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BD88-63BB-4089-B334-DF338CEE34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4F47-4B11-4CA0-B66D-48F166A9F0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8" descr="Unbenannt-2"/>
          <p:cNvPicPr/>
          <p:nvPr/>
        </p:nvPicPr>
        <p:blipFill>
          <a:blip r:embed="rId1"/>
          <a:stretch/>
        </p:blipFill>
        <p:spPr>
          <a:xfrm>
            <a:off x="2556000" y="2852640"/>
            <a:ext cx="2793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4:50:04Z</dcterms:created>
  <dc:creator/>
  <dc:description/>
  <cp:keywords/>
  <dc:language>en-US</dc:language>
  <cp:lastModifiedBy>a</cp:lastModifiedBy>
  <dcterms:modified xsi:type="dcterms:W3CDTF">2014-05-24T09:27:22Z</dcterms:modified>
  <cp:revision>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