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C64-71C9-4787-B8EA-45422500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F4E-17F8-404B-B9D0-C3F04866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5EFBB-9CA8-430F-A191-21272D96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AC4FD-72E8-4BA8-BA23-AA4F6679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BD384-EFF7-4F80-931D-FF476279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235E6-62A7-49A8-9550-2804AF2D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90CB4-9A01-48A2-9273-B43A7DF2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40496-0358-4E4E-B925-4EBDA051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22A04-9711-4C58-9623-445E8B6D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28EC2-0766-4E88-B481-87014B90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C8865-365A-4D28-8DC8-3C013368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25A8B-64A6-4BD7-A062-54045DA5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CB9-9E6C-4F81-9E09-8B1AD7CC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C9DA5-B84F-4643-AFE1-826671BC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D07E0-23D2-4AED-B661-418288A7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3B020-AB2E-4451-9CA4-4F134AE5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B5F59-57CF-423F-BBF9-C68977D3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497CE-B2D6-4CB7-A106-66595E98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69FA9-8C6E-430D-BF62-7B407DCF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256A7-AA23-4CED-8D14-FDEF5098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A5F96-C8C8-4056-94E9-39898F4D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F3CF0-DA15-48B9-9133-F92A73D3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A3775-3414-4D4C-B98D-5D7D21EF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301-32B3-4139-B269-168B33D7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FD3DF-AD4D-414A-BD43-8395BBA6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6EC36-D4C6-4D95-AA3B-5D4040B0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9CD0B-F4DF-497A-B786-B36E26DE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37D09-3147-45C5-A314-EB669F9F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5B6E9-2BB3-425E-AD8C-DAA12B34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F8516-7344-43C0-AE73-6B61C166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982FE-1B0C-4733-9398-5FA0EA20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E7CBA-5B70-497C-A17C-E7CB2AD2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BDCA3-A4E9-4F8D-93B0-394DCA11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50AF4-51D1-4C53-B715-F1484956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F476-7357-4431-A554-4F765929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E9F5F-4E31-4D18-8D21-C7A1F0E9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2FD95-09CD-49B2-B77F-ABCAF222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5E756-0E0D-4D1A-BE43-F6AC0169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3E8C4-A3E1-41B1-BED3-E51CDA67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37861-ABC4-43C8-B661-D9D3C141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990B3-4DE6-40C2-B97E-CA345D28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C0776-5D45-4143-A213-20449CC7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D482A-5F78-4765-A814-108CF4E2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3A784-9F4D-4B20-9F6A-63EC7A16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DF2CB-7CF1-45F5-8431-5E61F207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54C4-C4F2-4FB8-B8C7-A577708E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E7F51-2A0B-491F-A75E-BBAF9FE3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C2830-1E4B-44CC-BF1F-C62A2369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64038-9E54-44DD-A14D-9CBFFC46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EB1F9-FF60-4EF7-98D0-38A8656B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3CE46-1051-4184-932C-1F7E3A43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14E53-2F7E-4800-9E63-39B6BD38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1AFF9-AAEB-493E-9AEA-316D0C55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7771C-606C-45C2-97A1-B7B0D489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F568F-3B75-4591-A1C6-2A865400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FAA3A-F51B-48BE-9E4C-16CC41BC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FCB4-8709-40EB-8CDC-23B9709F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F8BAC-B7EB-429C-822E-DCD872D0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68FF9-E5AD-4307-953F-4C293CBD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1F5D1-8AB7-4D61-B394-D447E485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C08AF-201A-49C7-B66D-78471D81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9A534-DD7E-415B-9254-0E408CE9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F0EEC-B6EC-4114-858C-E0F7002B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86749-F784-49A9-9D56-84FE46D2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1972-0229-4C0B-9351-8AFC1D48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2613-D151-4743-9532-FBB95BCC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951B-141F-4B1F-AF24-7CFAAD39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2282-B886-4DE4-BD60-8BC394B7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1EF-4ABE-4C5D-99BE-C99FED4B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16AD-5FFA-4CD5-B7FB-A6FD1596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41E5-4B7B-401D-B15F-00B2B3B3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C413-B2C2-463A-B3DB-B7D080CA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CFBE-E8D0-4D8D-A16E-0BB4267E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F9A0-CC6C-4488-8384-BE47E769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4CBC-B395-475E-97FD-2E6A199D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AF40A-AF07-45A0-996E-D19231BD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AFF78-CE89-4CED-AF5E-B8FC2C85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CCF9-D315-49FA-9485-C192E298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FA090-1B5D-4305-AFD3-14B5BABF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B36-BA63-4D5C-B82A-EA8AF5DD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852B9-9406-450D-9098-ED6EA3DD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549B-3D8F-4912-8926-7DFDD6C6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F506C-52F6-4071-B5F7-B66CB502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46328-41C3-46E7-A74D-DC9504C5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52427-5655-4930-926D-A031685E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D570A-9169-4B0A-993B-4E3A7AA2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B6F6F-C150-4316-9088-304B3A54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5D712-62EA-4AEF-82C7-EC4BD034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A6658-A5BA-4224-B49C-971FE47A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7719F-CDFD-4499-B241-582B4EA3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B6E-97B3-476E-B31B-51430B47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A0DD6-B0AD-4867-B57B-ED1726E7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677BE-48C1-405E-8FBD-4C610ECC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AC3C5-B2A2-402E-B215-85C10A0E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E4B75-F442-45B1-86B6-D9FD9DA8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34856-EC74-4AE3-94F2-4D096C91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7E083-62C3-4BEE-8527-7AF7C96F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969E3-B92A-4F28-B93D-C9C5D390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16178-1020-4A9F-90D8-47EC5D04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0C900-6ABC-4F9C-ADE7-34786AE4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ABC26-E0A1-42FE-92FA-6EE1533D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495-DDC9-416C-A17F-BD2F6BDC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B90B7-0F9A-4E50-A817-A77BB0D8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0A77B-9895-4C46-8AC6-3ABAAC49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2B1A5-9056-428A-94E8-532F1981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E2BD9-040F-47F5-A61A-BEB57E4E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A08C9-495F-4221-9207-A3B53D83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124F5-1973-40BB-9BC3-4DFA2D02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CB986-A7CB-468E-A01C-7F287278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1A9CE-C5DA-4602-B4A6-D60C2C64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443F1-7AEA-4DA3-ACFE-537C73B3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17860-0CBD-423A-A860-57317856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DBD0-6C02-47E3-8D8C-ED890E5A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CBF45-1BC9-43FC-A9BB-F8D505EA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4EF96-78BC-4ED0-BB62-E0C12609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AB197-5A7A-46FA-97E5-292DC621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2B67F-8A83-4777-8D22-E36C3768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593D8-7028-4BE9-AD24-2220422C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B7DAE-2D71-4EBB-BEE5-43A07DD4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E9E28-991A-4425-8482-E0A15D72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9301A-FC54-4728-80B6-16AC2620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F3068-62A0-4D28-A50A-5417D761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2B8F5-0DDE-4DB7-9254-A57F13E9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689-1AF7-4C2C-8018-51A2BE3D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2B75-EF64-4876-A1E5-5EEF0843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CB8CF-316B-4B76-8FED-ABF9D580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33F97-409E-4FD4-A9AA-74895561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44156-DC71-4F2A-BACE-E74B7F35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8D6F0-59D7-4788-AA9E-A33FBA63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31382-E279-4EE1-BB62-13944384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B804D-CA26-4400-BC49-9857B894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687DB-C1D1-473B-861D-8629736A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C717E-8542-46B8-A12F-139F8832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EAEA2-E999-4EED-B10C-3318A597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D90-9D39-495B-8A4D-89761C92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5AE0B-05AB-41E7-97E3-6849C3A1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464EE-18F2-4875-B18F-AC9ACA23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8F7E9-4029-4D43-B313-994E04B7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95557-F932-4425-95AA-1D8E1CD9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41EF8-E274-4ADB-A60F-890838EB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A99DE-B7B3-496A-9966-2F370B5A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7B15E-015F-4AAF-BBAD-877F2B06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595FF-0C7F-4DA3-A52D-D0E53097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2EAA3-A4D1-4283-B1AA-F9816C8F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39554-38AF-4C91-92F2-09B36A17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8B0-0063-4A4E-8F05-0F4BC25C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8E3C6-E3D5-4F44-9D63-F23F2453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94DBA-48E4-4324-8C42-42F0454D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6C290-3C12-4F16-A54E-4A68C4F2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3C73F-3490-49B3-A9DF-D68B9394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DAF30-C280-486A-83CE-C517C1D5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2FDB3-91B4-4626-9C7B-B9319001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FDE68-6F8A-4F3C-B386-F8ED1412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8ECAC-81CE-4A98-A9ED-1ACD2CFE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CA4D5-CF06-47DC-B96A-F6992A2F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3A81B-6851-4BFB-9203-8212912D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7E9D-01E3-4825-A713-75795D8F486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D51A-812B-408F-905B-FF809B905AF7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0DF4-8CD4-449E-839E-EA543C69534D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3425-681E-46E5-BEEA-D55E533FD9F0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7385-96EE-4F87-9F00-A76C91F29670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BBCE-4718-4439-A376-0F180CDF2151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49F1-053C-4EEE-B0E9-3069E853DD24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364C-464D-4792-8D99-F2C46C74E543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51AE-EE08-4344-9D14-7F767E5DA8DB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5409-FF38-497A-A316-A30261CA76EC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EDB7-CFA2-46B8-A850-6C7FD3E69C8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2151-8111-4912-8F98-755FFE7E74CD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DF69-3E14-412B-8F25-E63870D83975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7D51-F832-4198-B4E1-5392B6E989B9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4FF5-1BA8-46EC-9A8E-64CB36E52BEF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3398-58E7-4B04-BA11-E8B57B982278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9943-924F-44CA-8028-07D0F04A627C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30AF-0E6B-4EA1-BEE6-AEDC845902F9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23A5-F344-4B1D-8EBB-AFB4A8F5CE6F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1CB4-89E3-4AAC-A1C6-5A69B83890CD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F78C-ABC6-41A3-8DDB-8419039368AB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A999-080F-44F6-9844-D05BC358F5EB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881A-2767-4600-8351-3B362E717809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A54C-D048-45A2-9564-A1BA1439287A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DCCD-E6DD-4BCC-B28A-8B88665718BD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85896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61e26"/>
                </a:solidFill>
                <a:latin typeface="Calibri"/>
                <a:ea typeface="宋体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1472760"/>
            <a:ext cx="64008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61e26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2"/>
          <a:stretch/>
        </p:blipFill>
        <p:spPr>
          <a:xfrm>
            <a:off x="7932600" y="4948200"/>
            <a:ext cx="117648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26560" y="342720"/>
            <a:ext cx="7859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61e26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826560" y="1338120"/>
            <a:ext cx="785988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61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61e2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560" y="342720"/>
            <a:ext cx="7859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61e26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26560" y="1338120"/>
            <a:ext cx="785988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61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61e2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342720"/>
            <a:ext cx="7859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61e26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26560" y="1338120"/>
            <a:ext cx="785988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61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61e2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543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18:51:47Z</dcterms:created>
  <dc:creator>Ric6000</dc:creator>
  <dc:description/>
  <cp:keywords/>
  <dc:language>en-US</dc:language>
  <cp:lastModifiedBy>a</cp:lastModifiedBy>
  <dcterms:modified xsi:type="dcterms:W3CDTF">2014-05-24T09:28:18Z</dcterms:modified>
  <cp:revision>2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