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81EE-EA96-45F8-898A-FD8A03F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FDD6-B877-4A14-82B6-9C2A4380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89C2-8495-43EC-841C-EAE64726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23500-35C0-434F-9B54-52B65C6C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997FE-0FF7-49B0-94BC-85EBC9BC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F160-D4D8-4941-800B-67933CD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A8DDC-00DD-44C2-BA5A-4C9BB28D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5E0F-5538-4D19-AAC2-F89868BE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AE4B0-20E2-45E0-AD68-50A8AB68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8C75E-9A6C-4D61-97CF-98C4A088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853D-FFA6-4470-A046-C61DE7E9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D96F-8286-4FF2-841A-54291CD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1E4C-24DE-4CB4-9F1E-03A9CF31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A9F3F-02AC-40C2-8EA0-BAA153B5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82E9-2F32-43E4-9AF4-09EC3F89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15DEA-14E7-4AF8-94AA-042513C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CEED7-11A0-4B64-94A5-FA3976F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F5A2C-E25D-4ACD-9112-5B02902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CA6D8-5583-49B5-965E-4AEAD86B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B7A1A-752F-44D3-B034-A46C2FF0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F217-84DB-44FB-99F9-67678362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0DE60-C602-4FC6-A0F7-08DB51F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37EAD-4DB3-485A-973B-B156E8EF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B6FDC-4282-4140-9759-43ACC1E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7232F-77D6-47A4-AB88-BCD3166A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D1DAF-B661-4C76-9A2B-6F6B1610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7203C-2C4B-4ED2-AC76-4854A7CD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757C3-6860-460F-AEE3-3B5EA2B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40C72-7B9E-4BAD-85E7-EE663E0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EB656-E418-43E4-9FE1-1B09880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DCD-98D8-4043-BED4-CE260F2A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4B444-97F9-416F-8873-0F8F57A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DDC26-F839-49DE-90B5-39A171A5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4DEF2-4D05-4186-9D07-19A51B6D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A8F36-673C-4308-827F-EBCE9AE9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D54DB-0D23-4008-A311-AEEAE7C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5DCA4-EEE7-47EE-9701-19A2850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5A556-BBD9-40F2-99D9-4AEA182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0B31D-5EB5-4E4B-883E-7C0A82EA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728D-6B7E-40A0-8D36-AE1DD2F3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5634-41D4-4B39-8F03-29F8E2C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0B1-D542-4C3C-9BA4-9092076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933B-97C6-4AEC-BE28-C2218FE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3568A-F006-4DFE-920E-34D456D9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F2EBF-9030-4CC3-BFBA-783762A3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DE06D-1F79-4977-A812-2C11490A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1B66C-1350-4B27-8728-26F1B193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C025-036F-441D-A2C0-E004CED0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13EF-8795-4133-B1E1-E11127F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460E-71A5-4400-8B0F-14EF1596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F1021-55C0-4006-807F-D7EBFF0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F06F9-E342-4BD6-BE80-3EC19F77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221-2AD3-46EB-9AB1-69410086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323AE-709C-4797-968A-AE570C1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B74CB-E527-49FF-92D4-8A0D19BB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58BA-D9DA-4E4C-888E-F0D47C10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97F00-571C-4FB2-8E46-BE027CCC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6D7A-5EB2-4C7E-B24A-0BAC47A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1AAB9-00C1-43BF-97C2-E38BD997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97B88-A823-4D59-927A-225AF0DF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555E1-62F3-49AE-BA24-EB82F780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5E86A-228A-469D-8C02-C406D59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A3E4F-3702-4F14-AD13-62434FA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1BB-AB58-4FB6-81F7-BDFA5B6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DD52-88C3-4673-9572-37D4D029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9D413-69D1-4A72-82FE-A7728218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00B24-08FC-4B34-9DF1-CD021340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F62E5-04FF-4DC1-B38B-64F562C8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E8D23-164D-4D09-AAF1-63F4702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7F933-8D53-4E5E-AD60-D25927E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00CC3-91E4-4FA5-9D80-0A6195B0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D732B-C6EF-4DBC-8928-349F0D60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9312-07E7-43F0-AB22-7B711D8A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196-A2DC-4C25-8D6B-E51840F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7A0-DCAC-4BFD-940B-B29E895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57C-A898-4E41-934D-07846AB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763-FB6F-4A97-BA7A-04CE26E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0BD-3F6A-4FD6-A9A1-00A8760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1D9-0E25-49DA-BDCB-DA2FFC63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94E-04D1-4640-AB66-53B400AF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ED0-A4BC-470F-B612-1166F98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A727-C11B-4721-BC36-2756B42B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5408-28B4-458D-949D-62EF326C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74F2-B67A-43FF-ACC7-15645C29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13B3-446D-4D39-A1CE-C982B41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7B63-E484-44BD-8EB1-8131A85D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F45-C80E-4C7A-9734-7C6B09CE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BC1F-7619-4873-B95F-EF19337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77BF-0098-4081-B3AF-76300B0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A5E5-1CF6-41DE-836F-FEAB9FE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F1C-C34D-467F-849E-5316A5C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0D96-9EF2-41CE-82D2-5D60D70F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9F5F-7CBA-4600-94BD-3FADFBE1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55C1-F78D-43EB-ADA3-59CB7DD0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8E01-F8CE-4787-B77E-D7401075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2741-7993-4BA2-97A3-BC888236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0016-9898-486A-802C-232D4557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A2F4-45F3-4902-A67E-4392E1CA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853A-D783-4519-9690-A5D28F0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E521-6EDA-4C7A-B55B-50F5CBD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3F7F-F8AC-42BC-92CD-76DAB71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6235-549E-47B6-94E7-ECDE064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4988-0AAE-4905-92DF-7105105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3D9E-0944-47FA-8835-E3E2E589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C2FD-6884-4C67-8017-3A01B9CE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73F1-B59B-49DB-8DFF-E2A24037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7854-5121-4E5F-A9AB-235265F0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9C3D-7107-4ED4-BC3A-DAD29E1E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594C-F8B1-4F50-943B-7713E754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C656-D516-4F9D-89DF-755E3A6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77AA-6E1D-40AC-BD2B-6DBE266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9799-0784-49D1-B61F-17F66E4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06B6-5037-4F5D-861E-9CA1C09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D23A-D5EA-46CE-AF22-99F0A2DB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FEE6-4B77-4C51-A40A-ED50F342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9BE1-17C5-417A-8911-81A961EA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18CA-2C89-4DF3-8A4F-AEE5E90A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97EEB-4375-4B00-BA19-D179C2C7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E805-8F6E-46D1-B5B8-B9622CE8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A419-B007-420E-95A3-A6473DC2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CD1C-348E-4FD1-B4D6-1570746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7776-B0D1-4B76-AD50-F348F43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54F1-05CB-43CD-A478-4A7E69C7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75966-0DA6-4A60-ABD2-0E6CCBDA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8F5F-A8A9-4841-A133-68A7D63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9B10-5075-44D8-BF58-23467E06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D124-6AD1-4F72-9769-846528F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2F7F-5AD9-4419-8B72-A3F0A3FE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8049-1EE9-49D0-9D3F-C6A5A853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CFBF5-A308-4252-B9EF-AACC940E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AD5A-83C5-426A-9D6B-CFE91DCF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BB8BB-D704-41D7-8A5E-08B7BA8D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76C3-E6DA-455B-8151-1FA1E30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6130D-4265-49A7-AA53-1D4E1455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69A0-925E-4A87-A602-91E8B6DA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11F95-A431-402F-A62E-2EA01FD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741C-2409-4D4D-808E-033A387C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43FBF-0766-4C00-9428-45740765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DE8D6-0161-40C1-A672-F612FAED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43FA-DAE3-4DFB-9E1E-63ED1CD0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6D09-019C-4162-95C5-08CB0B57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57696-BD04-4977-A246-D47C49A7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53694-46CF-460B-A95D-229A859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08E0-3DFB-4A58-A688-B32E807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na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69000"/>
            <a:ext cx="4572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c2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6669000"/>
            <a:ext cx="4572000" cy="189000"/>
          </a:xfrm>
          <a:prstGeom prst="rect">
            <a:avLst/>
          </a:prstGeom>
          <a:gradFill rotWithShape="0">
            <a:gsLst>
              <a:gs pos="0">
                <a:srgbClr val="ffada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未知"/>
          <p:cNvSpPr/>
          <p:nvPr/>
        </p:nvSpPr>
        <p:spPr>
          <a:xfrm>
            <a:off x="6624720" y="0"/>
            <a:ext cx="2427120" cy="657360"/>
          </a:xfrm>
          <a:custGeom>
            <a:avLst/>
            <a:gdLst/>
            <a:ahLst/>
            <a:rect l="l" t="t" r="r" b="b"/>
            <a:pathLst>
              <a:path w="1349" h="509">
                <a:moveTo>
                  <a:pt x="690" y="0"/>
                </a:moveTo>
                <a:lnTo>
                  <a:pt x="1349" y="7"/>
                </a:lnTo>
                <a:lnTo>
                  <a:pt x="1349" y="483"/>
                </a:lnTo>
                <a:lnTo>
                  <a:pt x="0" y="509"/>
                </a:lnTo>
                <a:cubicBezTo>
                  <a:pt x="456" y="293"/>
                  <a:pt x="589" y="105"/>
                  <a:pt x="690" y="0"/>
                </a:cubicBezTo>
                <a:close/>
              </a:path>
            </a:pathLst>
          </a:custGeom>
          <a:solidFill>
            <a:srgbClr val="ff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未知"/>
          <p:cNvSpPr/>
          <p:nvPr/>
        </p:nvSpPr>
        <p:spPr>
          <a:xfrm>
            <a:off x="6734160" y="0"/>
            <a:ext cx="2409840" cy="657360"/>
          </a:xfrm>
          <a:custGeom>
            <a:avLst/>
            <a:gdLst/>
            <a:ahLst/>
            <a:rect l="l" t="t" r="r" b="b"/>
            <a:pathLst>
              <a:path w="1518" h="414">
                <a:moveTo>
                  <a:pt x="776" y="0"/>
                </a:moveTo>
                <a:lnTo>
                  <a:pt x="1518" y="0"/>
                </a:lnTo>
                <a:lnTo>
                  <a:pt x="1518" y="414"/>
                </a:lnTo>
                <a:lnTo>
                  <a:pt x="0" y="414"/>
                </a:lnTo>
                <a:cubicBezTo>
                  <a:pt x="513" y="238"/>
                  <a:pt x="663" y="85"/>
                  <a:pt x="776" y="0"/>
                </a:cubicBezTo>
                <a:close/>
              </a:path>
            </a:pathLst>
          </a:custGeom>
          <a:solidFill>
            <a:srgbClr val="69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432-1D8E-4D80-A665-3D5D67D9ED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F25B-9AEC-434B-8030-71EA70F254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2B30-B394-4B28-9805-0826409E5B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47F-3060-4705-A444-A75F42760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CCAF-0DA5-450A-91EE-540F762433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70E-A932-427F-803D-5C51079426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4B6-4D79-4E4D-850E-968D8B99ED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49D-71B4-4B77-942B-1D8FE047C4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1CF-82E2-4482-8B84-FE1AB7497F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1E1-8B73-491F-9C0E-1FD243276F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E9A-75BC-408C-A011-15438C882C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ACD-C56F-4970-A2F7-4BFC3B3541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2744640"/>
          </a:xfrm>
          <a:prstGeom prst="rect">
            <a:avLst/>
          </a:prstGeom>
          <a:gradFill rotWithShape="0">
            <a:gsLst>
              <a:gs pos="0">
                <a:srgbClr val="69c2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4905360"/>
            <a:ext cx="9144000" cy="19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9c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main"/>
          <p:cNvPicPr/>
          <p:nvPr/>
        </p:nvPicPr>
        <p:blipFill>
          <a:blip r:embed="rId2"/>
          <a:stretch/>
        </p:blipFill>
        <p:spPr>
          <a:xfrm>
            <a:off x="0" y="2744640"/>
            <a:ext cx="9144000" cy="2162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7E63-99AA-4DC6-B639-D72F00B508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E3D5-7C9A-4EF8-9CC1-4146280337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6BC-F250-466F-8268-4FFAC722DB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4645-858A-4D3A-8070-2AC6499A8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8BF7-EAAC-4073-8288-7BFFDDB694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56C-F220-42BB-8CAE-76B3761C57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9002-7742-492B-8AD5-76CA6D125C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3A8-9CD0-4874-A0B3-CAE024631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974B-661D-4B9F-AB76-F4425BD0F9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AF3-C562-4CB3-AB5E-1B5E790D4B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C1C-048A-48F2-81D3-C1A571F2D3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0FEF-FBD5-4416-8443-133E4682A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461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化学分子化学课件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dc:language>en-US</dc:language>
  <cp:lastModifiedBy>a</cp:lastModifiedBy>
  <dcterms:modified xsi:type="dcterms:W3CDTF">2014-12-15T17:51:01Z</dcterms:modified>
  <cp:revision>132</cp:revision>
  <dc:subject/>
  <dc:title>PRRSV感染相关的microRNA_x000b_寻找、验证和初步功能研究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