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B30-D4C1-4E4C-A281-085927A6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950-9BC5-4857-AFCF-1C43FB9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0FB-3E78-4FD2-8088-6A9499C2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34B-1357-4AE0-8AE8-2628C5DD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ED6-8FD8-4F2B-918F-25DB510B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87D-3F1D-4AEB-BF3E-85B36C0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340-996C-4691-B321-203B558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C4C-0D06-41D0-82B9-E797100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2B2-2B1B-4DDB-A8B8-9E1D6868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F7B-A5B5-4772-A90D-899A9AD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4EB-2B71-4579-9730-B31AFA8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28D-3311-4792-9018-5D83F1B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C401-49FA-4E76-AEFA-949E2B87F1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E6B-4C7F-4416-AFE5-1C4DF74D5A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网络行业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fbfb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1:52:00Z</dcterms:created>
  <dc:creator>Moyea Software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IT IT PowerPoint template</cp:keywords>
  <dc:language>en-US</dc:language>
  <cp:lastModifiedBy>a</cp:lastModifiedBy>
  <dcterms:modified xsi:type="dcterms:W3CDTF">2014-12-26T05:24:29Z</dcterms:modified>
  <cp:revision>1</cp:revision>
  <dc:subject>IT</dc:subject>
  <dc:title>Moyea Free IT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