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216B1-F278-41FF-B159-372A6B851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B5D15-21C4-4AF7-A0C3-9E020AB22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C37C0-8D74-4BE5-AFFB-7FB06269D4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10FE6-65CD-4CA6-8041-F3429629B1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76ACD-C8A5-439B-8FA1-0AADAA322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B5839-4C3D-4F11-92DA-F57C880F3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CC988-A922-4749-9B1B-AEA9F8970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1FD65A-1151-4F4F-AA81-318DEE8516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4ADEEC-CE4B-4DCE-BEBD-AF98B93447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08A135-13F0-4DCE-B516-E45BFA80E0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50C53F-99E0-41F1-8B2F-B2EB063ED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699C8-CC31-4DD2-850A-978E6BEFA9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AF1746-C2CD-4A38-AEF0-B597F7FDA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A2AA2-5362-43BE-B8BD-B7F2616D8A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AE26C-2C69-47FB-9E3D-266D48324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1E827-ECD8-41C3-894B-082315309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BA2DF-CEF5-428E-A3B0-9C06D39B9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E5D2B-25FF-49C5-9766-930603C773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549954-0D54-42FE-BBC4-6AE1637D2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FA242-793A-49E8-9997-25B7F99FFB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17EFEE-6E3A-4FA1-9CC2-9C4BB9F473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659E9E-77F7-4249-8B1A-8A1A80E06F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525E04-29AD-43DB-B0DF-39F1FA81E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2ED4A-493D-439F-9B27-95DA8D6365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57A031-145A-4F06-A25C-020E16D42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73ABD-5587-4AB3-90DF-82FB767EAA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C71BF5-9E2B-44A8-B274-7488DD0B9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0E579-397A-4860-868A-09D73FA3F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AC518-1596-479C-885D-2FCBA0366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5B2AD-A9A8-4E70-895E-787F02EB76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0C7E6F-37EB-4C9A-87A4-AD7761DA29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7E19EF-3BF0-4728-8B18-DCE5D22319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BCAC4A-F3AF-42DC-9685-178B87CD5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D2879F-C039-4FE6-9BFE-CEE12309B3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2D7926-856B-4ACF-9717-CD24211FA9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5A9BBC-5DDB-4949-865B-BA538B9950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7B4F34-F3FA-40F2-B979-1ED03B7E5A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AB84DC-3ED1-4000-901A-86978113FE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383A4F-4D6A-4C1F-924D-11BF467843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DF44F7-8BB8-40B9-9AA7-6EAC1BA530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322C29-4E52-4233-B955-CFB1AF9E72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A879CD-A02B-4645-928C-B4F33B914C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C1DD0C-EB15-4D8F-9B31-AC923501B7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66617B-86AF-422B-9CD8-74F3148692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335B72-00A1-476D-A891-6CF16F37B2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BFED51-8F3F-4D56-8FE0-9AF5740418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EECB4D-E344-41B1-8179-88FB72F1AC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63AA03-92AE-4800-9BDB-34F7E76A10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A8C46D-4E0A-4AF2-B61A-0BC5FE3E43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7A49BD-D066-409E-9F0F-3A85F2BB2A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9B1460-61C0-4DF6-8E05-DDEB810FCC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C1B4CA-8FC2-420C-AA33-14D165D049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7C2C09-FC1E-440A-B6AA-AFD1A3CBC4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7082D9-949D-4F3A-B705-69942F6403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F188B5-490D-49D2-A431-BD53CED8E7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767207-5E90-4B0B-B6FA-6DFAA0B847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1B80A6-A5AE-4A49-A5F8-0A4368EAAD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7755F7-E23D-4CC9-8687-491CC43C45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A41F53-980C-4BF8-BA0E-FB5763E2DB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871AE9-8201-49CC-86F8-F3BDB4ABDF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8A47C7-C7D4-40E8-8D7D-D69FFE2DFF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2E3D4B-7A6F-4D73-AD8B-68FEFDF2E7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5C3D1D-318C-471F-9AB1-1481F003BF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A8B88C-A8DB-483B-A1BA-60E1960E04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0350FF-375C-4ECE-8CF3-50B22173FD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48417B-57D4-42D3-839A-4A106EFCB7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E6AE63-773E-4609-A2D8-BC21675A03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315027-7319-4C90-9E6E-C5E454A67C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1C9D6A-B638-4C75-95CF-611CAD5962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F8082-2EE6-454B-93C9-D24115A19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4B33-6824-45DA-A94A-D86474FA7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A099-F7AE-400A-B028-FA5659E3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EE5E3-85B5-447B-81AF-1D3609E3D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3838C-3CF1-4CC9-8025-316C8FAD5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A827-C710-495E-9BDB-D7D194FC9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1DF8-1274-4414-B4CF-A6EC917E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95A1-39E0-4F25-A39E-15EB1C61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F2F9-180D-4A38-9329-33E6920C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5A66-AE5F-40FA-BBF7-89230F11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F0F55-860A-4FBD-8CAD-DBB4B3B2B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32AF8-7753-4C60-B050-9F91D02F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016CE-3610-4D20-BC64-E2823C1C2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BA723-D296-450B-AC23-FC8518D16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A3771-1F3C-402D-8EE1-29BB736CD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B9415-E6E0-4110-92E2-EB1E704FE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66D9F-944A-41EC-A6E0-39DE4F2A6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05E87-23E5-4720-8EF0-A81B94E96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B5EF1-2CA0-4FAD-874A-42F17901D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20FC-6EF0-4172-8D49-033AC453C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6BEE-F600-40C6-A0C2-B26E676ED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48D9-69ED-4022-9BB4-C004B8969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ADC91-ACE6-474B-BEBF-E246048BF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715FD-4F64-4B8B-92E0-44A12F42F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697131-3BFA-4E81-A903-459AFCB28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F9D8F-289B-4073-8F29-E86726B37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B83BB-6920-4370-AD9F-8DCA0A28F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47021-731D-40B1-8536-1741DBD05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7CF23-104F-4B36-9738-C4C18E38C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53902-8276-4471-B30E-DBB4C0413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DCA13-16ED-443B-9F92-9868F4E92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4C7D7-1A20-4CFC-B30B-89029A8FB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88DF3-0836-4F86-AAC7-0578CA9D0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58B5D-844F-4C9B-BEE5-C6AB6DB1A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659F8-9DFF-4FF8-AA86-6AFB5CD047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732D42-0C43-43F5-8127-F73944DCE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D90848-FDC3-48F3-82B8-655DEFB5B2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5BEF3-EA23-4EB5-B361-DED6EC90E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0DF51-9845-4943-9AC4-05D389E67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F640E-398E-4E81-BBCB-F44E03BB3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81090-857A-4631-9621-2267A5DAD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A9D06-8BDE-4DAB-AD61-E1CD1A208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E178E-541B-470D-8AB4-709D5251C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B8217-7CEA-4C78-9816-594E7732D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18E73-D324-4AC0-A4B3-1ED671AFA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62450-6891-443C-BDAD-9873DE0E3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76A50-9238-46B3-996C-A33308C96A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8DDF8B-E328-4EC7-ADF3-AA221AAFF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681D4D-04BD-4D40-91FA-6CC247BAD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DFDB9-5D4A-4D4C-A97B-3EF736BBE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3FF58-C1FD-41CA-A94C-58FEA4EA0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B969C-26C1-4AD1-B2E7-DD900971F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D9044-8387-4AAF-A759-03811C8B0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48607-CB7A-42E5-B4D4-75362751A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F4DA3-D82B-4F0A-BB8D-02A5EC633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A7603-E82D-4B42-B4A8-03B9A980E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183D6-F62F-4D78-96B7-906C23F41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265A9B-E73E-4B27-BE55-2CE9DD6EE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EA2AB-7FF4-476D-8A9C-9C01AAD7CD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946B5-DB21-436E-B528-A9835DAB4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282752-327B-4C77-9975-900DF3AF4E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17CE0-C22D-4D42-B673-8A663DA552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8405B-EF85-40B5-BE14-2FC0BF725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0731D6-BCC9-4A95-B345-4A2CDAC83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7BDF37-4EA5-4428-9589-2CBAF213F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41290-980B-4A88-9C06-3C63EE7C4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609D6-6B45-4BB9-AA4E-217C8F168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E28CE-5B74-47A0-804A-F181B4C0F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6B7D2-EAF1-4D95-87B0-FE036E2E4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2B4FD-BC77-4FF4-9749-4A8317971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8DC853-406D-40CA-874B-1B2A1BB1CC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1EDC76-A3E4-42AB-A945-F88FDA12C4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5771E2-CF76-4293-AC39-3118993A00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FDCC1-7A8E-4574-BB6D-10E5F57020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6D458-C31B-41E5-AF68-49FCB5C735CF}"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rPr>
              <a:t>Click to edit the title text format</a:t>
            </a:r>
            <a:endParaRPr b="0" lang="en-US" sz="4400" spc="-1" strike="noStrike">
              <a:solidFill>
                <a:srgbClr val="491403"/>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Click to edit the outline text format</a:t>
            </a:r>
            <a:endParaRPr b="0" lang="en-US" sz="3200" spc="-1" strike="noStrike">
              <a:solidFill>
                <a:srgbClr val="491403"/>
              </a:solidFill>
              <a:latin typeface="Microsoft Sans Serif"/>
            </a:endParaRPr>
          </a:p>
          <a:p>
            <a:pPr lvl="1" marL="743040" indent="-28584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cond Outline Level</a:t>
            </a:r>
            <a:endParaRPr b="0" lang="en-US" sz="3200" spc="-1" strike="noStrike">
              <a:solidFill>
                <a:srgbClr val="491403"/>
              </a:solidFill>
              <a:latin typeface="Microsoft Sans Serif"/>
            </a:endParaRPr>
          </a:p>
          <a:p>
            <a:pPr lvl="2" marL="11430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Third Outline Level</a:t>
            </a:r>
            <a:endParaRPr b="0" lang="en-US" sz="3200" spc="-1" strike="noStrike">
              <a:solidFill>
                <a:srgbClr val="491403"/>
              </a:solidFill>
              <a:latin typeface="Microsoft Sans Serif"/>
            </a:endParaRPr>
          </a:p>
          <a:p>
            <a:pPr lvl="3" marL="16002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ourth Outline Level</a:t>
            </a:r>
            <a:endParaRPr b="0" lang="en-US" sz="3200" spc="-1" strike="noStrike">
              <a:solidFill>
                <a:srgbClr val="491403"/>
              </a:solidFill>
              <a:latin typeface="Microsoft Sans Serif"/>
            </a:endParaRPr>
          </a:p>
          <a:p>
            <a:pPr lvl="4" marL="20574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ifth Outline Level</a:t>
            </a:r>
            <a:endParaRPr b="0" lang="en-US" sz="3200" spc="-1" strike="noStrike">
              <a:solidFill>
                <a:srgbClr val="491403"/>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ixth Outline Level</a:t>
            </a:r>
            <a:endParaRPr b="0" lang="en-US" sz="3200" spc="-1" strike="noStrike">
              <a:solidFill>
                <a:srgbClr val="491403"/>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venth Outline Level</a:t>
            </a:r>
            <a:endParaRPr b="0" lang="en-US" sz="3200" spc="-1" strike="noStrike">
              <a:solidFill>
                <a:srgbClr val="49140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3CDC-3385-4D82-81C5-FCD6ED93731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A8EC-4376-42F0-B673-3D57ADD1EC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77EC-4D4A-4594-953D-4BB1680360A6}"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A4A1-3832-44C9-8403-3F21F44C09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82FD-DCF4-4F16-8F03-AE3DA085364F}"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BEF-B5F2-4AE4-BBD2-F3D5AA4736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95A4-E179-4FFF-B39C-8C97CB59F480}"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274E-4C50-4B06-A680-428651AC00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D909-1020-48B2-9E85-7473624A14DC}"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8C15-A867-4C4B-8BE4-B013ABE325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rPr>
              <a:t>Click to edit the title text format</a:t>
            </a:r>
            <a:endParaRPr b="0" lang="en-US" sz="4400" spc="-1" strike="noStrike">
              <a:solidFill>
                <a:srgbClr val="491403"/>
              </a:solidFill>
              <a:latin typeface="Microsoft Sans Serif"/>
            </a:endParaRPr>
          </a:p>
        </p:txBody>
      </p:sp>
      <p:sp>
        <p:nvSpPr>
          <p:cNvPr id="39"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Click to edit the outline text format</a:t>
            </a:r>
            <a:endParaRPr b="0" lang="en-US" sz="3200" spc="-1" strike="noStrike">
              <a:solidFill>
                <a:srgbClr val="491403"/>
              </a:solidFill>
              <a:latin typeface="Microsoft Sans Serif"/>
            </a:endParaRPr>
          </a:p>
          <a:p>
            <a:pPr lvl="1" marL="743040" indent="-28584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cond Outline Level</a:t>
            </a:r>
            <a:endParaRPr b="0" lang="en-US" sz="3200" spc="-1" strike="noStrike">
              <a:solidFill>
                <a:srgbClr val="491403"/>
              </a:solidFill>
              <a:latin typeface="Microsoft Sans Serif"/>
            </a:endParaRPr>
          </a:p>
          <a:p>
            <a:pPr lvl="2" marL="11430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Third Outline Level</a:t>
            </a:r>
            <a:endParaRPr b="0" lang="en-US" sz="3200" spc="-1" strike="noStrike">
              <a:solidFill>
                <a:srgbClr val="491403"/>
              </a:solidFill>
              <a:latin typeface="Microsoft Sans Serif"/>
            </a:endParaRPr>
          </a:p>
          <a:p>
            <a:pPr lvl="3" marL="16002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ourth Outline Level</a:t>
            </a:r>
            <a:endParaRPr b="0" lang="en-US" sz="3200" spc="-1" strike="noStrike">
              <a:solidFill>
                <a:srgbClr val="491403"/>
              </a:solidFill>
              <a:latin typeface="Microsoft Sans Serif"/>
            </a:endParaRPr>
          </a:p>
          <a:p>
            <a:pPr lvl="4" marL="2057400" indent="-228600">
              <a:spcBef>
                <a:spcPts val="799"/>
              </a:spcBef>
              <a:buClr>
                <a:srgbClr val="49140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Fifth Outline Level</a:t>
            </a:r>
            <a:endParaRPr b="0" lang="en-US" sz="3200" spc="-1" strike="noStrike">
              <a:solidFill>
                <a:srgbClr val="491403"/>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ixth Outline Level</a:t>
            </a:r>
            <a:endParaRPr b="0" lang="en-US" sz="3200" spc="-1" strike="noStrike">
              <a:solidFill>
                <a:srgbClr val="491403"/>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1403"/>
                </a:solidFill>
                <a:latin typeface="Microsoft Sans Serif"/>
              </a:rPr>
              <a:t>Seventh Outline Level</a:t>
            </a:r>
            <a:endParaRPr b="0" lang="en-US" sz="3200" spc="-1" strike="noStrike">
              <a:solidFill>
                <a:srgbClr val="491403"/>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9A9C-AB90-4795-B084-DD04A4CF169E}"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A590-AD91-4860-9374-F777FB1D5E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5AA1-917D-4BD2-8865-56664375692C}"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0F7B-23A1-43F6-9944-4C3511E8E2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6F3C-6EE4-4FE1-A4F5-7024EDD6C969}"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6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16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37F3-0054-4AA3-83FA-B7803C98F9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1FE9-5B69-4E70-8463-B31FB5DF0FCB}"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46A4-9ADC-4314-9F00-63B0437EF0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9EDF-1766-4729-87CF-DC8BC5E9CCDE}"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4B96-7AB4-4792-ADCE-7B6587A5C5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BB76-8C30-4B6E-A6A8-552097C02A64}"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B9E8-228C-45DF-88FA-BE161D5A4D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2AD8-02D9-4D9C-B70C-F8F872810D95}"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4d4d4d"/>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23CE-BF9C-4D10-8431-18AC94B786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80880" y="3049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91403"/>
                </a:solidFill>
                <a:latin typeface="Microsoft Sans Serif"/>
                <a:ea typeface="宋体"/>
              </a:rPr>
              <a:t>金笔商务</a:t>
            </a:r>
            <a:r>
              <a:rPr b="0" lang="zh-CN" sz="3600" spc="-1" strike="noStrike">
                <a:solidFill>
                  <a:srgbClr val="491403"/>
                </a:solidFill>
                <a:latin typeface="Microsoft Sans Serif"/>
                <a:ea typeface="宋体"/>
              </a:rPr>
              <a:t>ppt</a:t>
            </a:r>
            <a:r>
              <a:rPr b="0" lang="zh-CN" sz="3600" spc="-1" strike="noStrike">
                <a:solidFill>
                  <a:srgbClr val="491403"/>
                </a:solidFill>
                <a:latin typeface="Microsoft Sans Serif"/>
                <a:ea typeface="宋体"/>
              </a:rPr>
              <a:t>模板</a:t>
            </a:r>
            <a:endParaRPr b="0" lang="en-US" sz="3600" spc="-1" strike="noStrike">
              <a:solidFill>
                <a:srgbClr val="491403"/>
              </a:solidFill>
              <a:latin typeface="Microsoft Sans Serif"/>
            </a:endParaRPr>
          </a:p>
        </p:txBody>
      </p:sp>
      <p:sp>
        <p:nvSpPr>
          <p:cNvPr id="569" name="PlaceHolder 2"/>
          <p:cNvSpPr>
            <a:spLocks noGrp="1"/>
          </p:cNvSpPr>
          <p:nvPr>
            <p:ph type="subTitle"/>
          </p:nvPr>
        </p:nvSpPr>
        <p:spPr>
          <a:xfrm>
            <a:off x="380880" y="914040"/>
            <a:ext cx="7772400" cy="685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91403"/>
                </a:solidFill>
                <a:latin typeface="Microsoft Sans Serif"/>
                <a:ea typeface="宋体"/>
              </a:rPr>
              <a:t>Company name</a:t>
            </a:r>
            <a:endParaRPr b="0" lang="en-US" sz="2400" spc="-1" strike="noStrike">
              <a:solidFill>
                <a:srgbClr val="491403"/>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1403"/>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560" y="29484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1403"/>
                </a:solidFill>
                <a:latin typeface="Microsoft Sans Serif"/>
                <a:ea typeface="宋体"/>
              </a:rPr>
              <a:t>Slide master</a:t>
            </a:r>
            <a:endParaRPr b="0" lang="en-US" sz="4400" spc="-1" strike="noStrike">
              <a:solidFill>
                <a:srgbClr val="491403"/>
              </a:solidFill>
              <a:latin typeface="Microsoft Sans Serif"/>
            </a:endParaRPr>
          </a:p>
        </p:txBody>
      </p:sp>
      <p:sp>
        <p:nvSpPr>
          <p:cNvPr id="571" name="PlaceHolder 2"/>
          <p:cNvSpPr>
            <a:spLocks noGrp="1"/>
          </p:cNvSpPr>
          <p:nvPr>
            <p:ph/>
          </p:nvPr>
        </p:nvSpPr>
        <p:spPr>
          <a:xfrm>
            <a:off x="1219320" y="1828800"/>
            <a:ext cx="6705360" cy="4502160"/>
          </a:xfrm>
          <a:prstGeom prst="rect">
            <a:avLst/>
          </a:prstGeom>
          <a:noFill/>
          <a:ln w="0">
            <a:noFill/>
          </a:ln>
        </p:spPr>
        <p:txBody>
          <a:bodyPr lIns="90000" rIns="90000" tIns="46800" bIns="46800" anchor="t">
            <a:normAutofit/>
          </a:bodyPr>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Gulim"/>
              </a:rPr>
              <a:t>Your Text here</a:t>
            </a:r>
            <a:endParaRPr b="0" lang="en-US" sz="2000" spc="-1" strike="noStrike">
              <a:solidFill>
                <a:srgbClr val="49140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1403"/>
              </a:solidFill>
              <a:latin typeface="Microsoft Sans Serif"/>
            </a:endParaRPr>
          </a:p>
          <a:p>
            <a:pPr marL="343080" indent="-343080">
              <a:lnSpc>
                <a:spcPct val="80000"/>
              </a:lnSpc>
              <a:spcBef>
                <a:spcPts val="451"/>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40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91403"/>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1403"/>
              </a:solidFill>
              <a:latin typeface="Microsoft Sans Serif"/>
            </a:endParaRPr>
          </a:p>
          <a:p>
            <a:pPr marL="343080" indent="-343080">
              <a:lnSpc>
                <a:spcPct val="80000"/>
              </a:lnSpc>
              <a:spcBef>
                <a:spcPts val="451"/>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40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91403"/>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1403"/>
                </a:solidFill>
                <a:latin typeface="Microsoft Sans Serif"/>
                <a:ea typeface="宋体"/>
              </a:rPr>
              <a:t>Print master</a:t>
            </a:r>
            <a:endParaRPr b="0" lang="en-US" sz="4000" spc="-1" strike="noStrike">
              <a:solidFill>
                <a:srgbClr val="491403"/>
              </a:solidFill>
              <a:latin typeface="Microsoft Sans Serif"/>
            </a:endParaRPr>
          </a:p>
        </p:txBody>
      </p:sp>
      <p:sp>
        <p:nvSpPr>
          <p:cNvPr id="573" name="PlaceHolder 2"/>
          <p:cNvSpPr>
            <a:spLocks noGrp="1"/>
          </p:cNvSpPr>
          <p:nvPr>
            <p:ph/>
          </p:nvPr>
        </p:nvSpPr>
        <p:spPr>
          <a:xfrm>
            <a:off x="1981080" y="19047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Gulim"/>
              </a:rPr>
              <a:t>Your Text here</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a:p>
            <a:pPr marL="343080" indent="-343080">
              <a:lnSpc>
                <a:spcPct val="80000"/>
              </a:lnSpc>
              <a:spcBef>
                <a:spcPts val="499"/>
              </a:spcBef>
              <a:buClr>
                <a:srgbClr val="4914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40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91403"/>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1403"/>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91403"/>
              </a:solidFill>
              <a:latin typeface="Microsoft Sans Serif"/>
            </a:endParaRPr>
          </a:p>
        </p:txBody>
      </p:sp>
      <p:sp>
        <p:nvSpPr>
          <p:cNvPr id="575"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91403"/>
              </a:solidFill>
              <a:latin typeface="Microsoft Sans Serif"/>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6" name="Group 2"/>
          <p:cNvGrpSpPr/>
          <p:nvPr/>
        </p:nvGrpSpPr>
        <p:grpSpPr>
          <a:xfrm>
            <a:off x="0" y="0"/>
            <a:ext cx="8466120" cy="6858000"/>
            <a:chOff x="0" y="0"/>
            <a:chExt cx="8466120" cy="6858000"/>
          </a:xfrm>
        </p:grpSpPr>
        <p:sp>
          <p:nvSpPr>
            <p:cNvPr id="57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1" i="1" lang="en-US" sz="4000" spc="-1" strike="noStrike">
                <a:solidFill>
                  <a:srgbClr val="4d4d4d"/>
                </a:solidFill>
                <a:latin typeface="Arial"/>
              </a:endParaRPr>
            </a:p>
          </p:txBody>
        </p:sp>
        <p:pic>
          <p:nvPicPr>
            <p:cNvPr id="57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i="1"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a</cp:lastModifiedBy>
  <dcterms:modified xsi:type="dcterms:W3CDTF">2014-12-21T03:37:06Z</dcterms:modified>
  <cp:revision>39</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