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284-83F6-454E-B2F7-9DF16287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556-9806-4B36-A764-C5229C3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715-26BB-4037-B58F-F5F0082A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554-D82F-4525-9CE2-0C704CD7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9A5-7D0A-4089-86F6-6E91C114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2D4-0957-44C1-9DDE-676E25C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E00-059A-40BA-8720-B53017D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3E5-62E6-4C82-A256-6F14B7C6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C5D-0BEB-4B49-BB65-B70044A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C7F-8157-4E2D-B5FE-A45CA24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711-4FB0-4A05-847F-07414FB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637-B973-49F1-A513-6F35031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11D-D7EE-4C72-AE0F-84A55703C12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840" y="5256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15:12:21Z</dcterms:created>
  <dc:creator>sg</dc:creator>
  <dc:description/>
  <dc:language>en-US</dc:language>
  <cp:lastModifiedBy>a</cp:lastModifiedBy>
  <dcterms:modified xsi:type="dcterms:W3CDTF">2014-12-30T15:17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