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52F-8C56-4CB8-8332-2F8B788D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9D6B-2566-43AE-AA5B-A9F6BCF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E4A-6A80-4C31-8A48-09F117B2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72D-4EED-472F-B957-D593FFC1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1245-E6D1-43B6-BF96-F20BF3D8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FD5B-2403-4DEB-957E-04C7CEDE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8458-E93A-4F57-9EE4-576EE1B0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F00C-F722-470A-A3B1-69934710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9128-B9D2-4B15-B8E7-DEB37DAF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9E4F-3312-4AB0-947C-38B421EA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FDDD-0311-4E2C-AB4F-8E83A198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ACE6-8265-4E59-A782-B66B5120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8E41-1FD1-43D0-AC53-9001053B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A0E9-49BA-431A-990D-8E8BFD51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17C5-148F-47EF-9092-11747C35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9975-88FB-42FB-A7D7-297178EA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7227-1313-4C59-9887-2BDA4CB2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E63-FFA7-48E1-B87B-AD41AF08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4694-15B3-4314-9222-01BA97CD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39EA-8827-4140-93A6-F42243A5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109-6A08-468B-B962-D84FF21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844-DB4B-44B3-A328-BBA9009F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1964-D6A5-41A2-94E5-2E9440A2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B71A-B4A7-4337-88C0-CE63ED0D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0677-8FBB-4727-8EE4-722D38CCFC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D853-D894-4A84-85FF-7D6D7E9C3F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洁白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083960"/>
            <a:ext cx="842472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3324240"/>
            <a:ext cx="8281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Administrator</dc:creator>
  <dc:description/>
  <dc:language>en-US</dc:language>
  <cp:lastModifiedBy>a</cp:lastModifiedBy>
  <dcterms:modified xsi:type="dcterms:W3CDTF">2014-12-26T05:18:1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