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29E-47CE-4CB4-9002-1CA185E4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9EB-11DC-44BB-9D0A-FFEE0EFE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655-3E12-479A-9752-83EB26EF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D69-44D8-4A38-AE7D-7540377D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401B-BB67-4BC2-AA1C-72D9F2B9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5FF6-74A8-4653-9D4A-B955AB23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977C-3CF1-4B97-8006-8CB97FA9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F478-CAFA-4EE2-BB69-5D8EF3B4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623A-2CFB-406C-ADC9-584FB497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1190-D2E3-480F-B74A-A4A1F1EB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D569-369B-461E-9A56-61DD9E6E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388-6A24-4BD7-BBB0-79A3666F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07E6-FCE1-426A-9054-E3A72727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B66E-AE24-4BEA-898C-6D1128E9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0AC2-8A8E-4C26-A6D8-66C12E7A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F320-75AD-4AE8-BBFD-34469502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E22A-E810-410A-8437-6DDD6111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80D-DBFD-4D9B-922B-4ED69908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423-B39D-4943-81DA-B9DF859C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621-5E13-45D7-944D-7356424D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F52-5D05-4DBE-B01B-D7F4A53D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03C-AFD5-4D78-A36E-5F9C32C6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486-187E-42B1-9768-6E598BD6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A0E-D9AA-43AE-B45E-484FD13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1BC-55BF-4223-8239-16E19DAF1B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DA89-6DDA-433B-9B84-D9C39DDAF5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C306-8652-4EC5-9EE0-8F6FD447F1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FD48-E449-4770-B5FD-A391DC4526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-36360" y="3213000"/>
            <a:ext cx="78102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7c3b06"/>
                </a:solidFill>
                <a:latin typeface="Arial Black"/>
              </a:rPr>
              <a:t>胶卷生活</a:t>
            </a:r>
            <a:r>
              <a:rPr b="1" lang="en-US" sz="7500" spc="-1" strike="noStrike">
                <a:solidFill>
                  <a:srgbClr val="7c3b06"/>
                </a:solidFill>
                <a:latin typeface="Arial Black"/>
              </a:rPr>
              <a:t>ppt</a:t>
            </a:r>
            <a:r>
              <a:rPr b="1" lang="en-US" sz="7500" spc="-1" strike="noStrike">
                <a:solidFill>
                  <a:srgbClr val="7c3b06"/>
                </a:solidFill>
                <a:latin typeface="Arial Black"/>
              </a:rPr>
              <a:t>模板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3"/>
          <p:cNvSpPr/>
          <p:nvPr/>
        </p:nvSpPr>
        <p:spPr>
          <a:xfrm>
            <a:off x="3000240" y="3786120"/>
            <a:ext cx="6143760" cy="1857600"/>
          </a:xfrm>
          <a:prstGeom prst="rect">
            <a:avLst/>
          </a:prstGeom>
          <a:solidFill>
            <a:srgbClr val="7c3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2928960" y="5572080"/>
            <a:ext cx="385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 rot="5400000">
            <a:off x="1643400" y="4391640"/>
            <a:ext cx="2286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7c3b06"/>
                </a:solidFill>
                <a:latin typeface="Arial Black"/>
              </a:rPr>
              <a:t>Tit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2928960" y="5854680"/>
            <a:ext cx="385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2928960" y="6140520"/>
            <a:ext cx="385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71880" y="3857760"/>
            <a:ext cx="1928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00400" y="3857760"/>
            <a:ext cx="1928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29280" y="3857760"/>
            <a:ext cx="1928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矩形 9"/>
          <p:cNvSpPr/>
          <p:nvPr/>
        </p:nvSpPr>
        <p:spPr>
          <a:xfrm>
            <a:off x="0" y="0"/>
            <a:ext cx="2857680" cy="2071800"/>
          </a:xfrm>
          <a:prstGeom prst="rect">
            <a:avLst/>
          </a:prstGeom>
          <a:solidFill>
            <a:srgbClr val="7c3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285840" y="642960"/>
            <a:ext cx="2286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Black"/>
              </a:rPr>
              <a:t>Tit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3071880" y="857160"/>
            <a:ext cx="38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071880" y="5283360"/>
            <a:ext cx="38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3071880" y="5568840"/>
            <a:ext cx="38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71520" y="1357200"/>
            <a:ext cx="53578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2071440"/>
            <a:ext cx="28576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6680" y="4500360"/>
            <a:ext cx="24285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714720" y="999720"/>
            <a:ext cx="24289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矩形 7"/>
          <p:cNvSpPr/>
          <p:nvPr/>
        </p:nvSpPr>
        <p:spPr>
          <a:xfrm>
            <a:off x="1206720" y="6488280"/>
            <a:ext cx="41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http://home.rapidbbs.cn/?fromuid=22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8"/>
          <p:cNvSpPr/>
          <p:nvPr/>
        </p:nvSpPr>
        <p:spPr>
          <a:xfrm>
            <a:off x="428760" y="4786200"/>
            <a:ext cx="7500960" cy="2071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7"/>
          <p:cNvSpPr/>
          <p:nvPr/>
        </p:nvSpPr>
        <p:spPr>
          <a:xfrm>
            <a:off x="0" y="357120"/>
            <a:ext cx="4357800" cy="4286160"/>
          </a:xfrm>
          <a:prstGeom prst="rect">
            <a:avLst/>
          </a:prstGeom>
          <a:solidFill>
            <a:srgbClr val="7c3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9"/>
          <p:cNvSpPr/>
          <p:nvPr/>
        </p:nvSpPr>
        <p:spPr>
          <a:xfrm>
            <a:off x="2571840" y="142920"/>
            <a:ext cx="6357960" cy="4357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0"/>
          <p:cNvSpPr/>
          <p:nvPr/>
        </p:nvSpPr>
        <p:spPr>
          <a:xfrm rot="5400000">
            <a:off x="289080" y="1891080"/>
            <a:ext cx="2286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Black"/>
              </a:rPr>
              <a:t>Tit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428760" y="6070680"/>
            <a:ext cx="38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2714760" y="6070680"/>
            <a:ext cx="38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14400" y="0"/>
            <a:ext cx="64292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14520" y="4857480"/>
            <a:ext cx="1785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71760" y="4857480"/>
            <a:ext cx="1785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356920" y="4857480"/>
            <a:ext cx="1785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99680" y="4857480"/>
            <a:ext cx="1785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c3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0" y="857160"/>
            <a:ext cx="3071880" cy="4572000"/>
          </a:xfrm>
          <a:prstGeom prst="rect">
            <a:avLst/>
          </a:prstGeom>
          <a:solidFill>
            <a:srgbClr val="d9d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1785960" y="61920"/>
            <a:ext cx="2286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Black"/>
              </a:rPr>
              <a:t>Tit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 rot="5400000">
            <a:off x="-1213560" y="2714400"/>
            <a:ext cx="385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5"/>
          <p:cNvSpPr/>
          <p:nvPr/>
        </p:nvSpPr>
        <p:spPr>
          <a:xfrm rot="5400000">
            <a:off x="-927720" y="2714400"/>
            <a:ext cx="385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6"/>
          <p:cNvSpPr/>
          <p:nvPr/>
        </p:nvSpPr>
        <p:spPr>
          <a:xfrm rot="5400000">
            <a:off x="-643680" y="2714400"/>
            <a:ext cx="385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857240" y="857160"/>
            <a:ext cx="4572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00880" y="857160"/>
            <a:ext cx="26431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矩形 14"/>
          <p:cNvSpPr/>
          <p:nvPr/>
        </p:nvSpPr>
        <p:spPr>
          <a:xfrm>
            <a:off x="7929720" y="1357200"/>
            <a:ext cx="1214280" cy="4572000"/>
          </a:xfrm>
          <a:prstGeom prst="rect">
            <a:avLst/>
          </a:prstGeom>
          <a:solidFill>
            <a:srgbClr val="d9d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1"/>
          <p:cNvSpPr/>
          <p:nvPr/>
        </p:nvSpPr>
        <p:spPr>
          <a:xfrm>
            <a:off x="0" y="3214800"/>
            <a:ext cx="4929120" cy="785880"/>
          </a:xfrm>
          <a:prstGeom prst="rect">
            <a:avLst/>
          </a:prstGeom>
          <a:solidFill>
            <a:srgbClr val="7c3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1714680" y="3133800"/>
            <a:ext cx="2286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 Black"/>
              </a:rPr>
              <a:t>Tit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 rot="5400000">
            <a:off x="6287400" y="3071520"/>
            <a:ext cx="385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 rot="5400000">
            <a:off x="6571440" y="3071520"/>
            <a:ext cx="385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026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02604"/>
                </a:solidFill>
                <a:latin typeface="Arial"/>
              </a:rPr>
              <a:t>Enter 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0"/>
            <a:ext cx="51436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00080" y="3571920"/>
            <a:ext cx="328608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14920" y="1500120"/>
            <a:ext cx="32860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00320" y="3571920"/>
            <a:ext cx="514332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428760" y="2286000"/>
            <a:ext cx="62863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7c3b06"/>
                </a:solidFill>
                <a:latin typeface="Arial Black"/>
              </a:rPr>
              <a:t>Thanks!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2:57:00Z</dcterms:created>
  <dc:creator>YlmF</dc:creator>
  <dc:description/>
  <dc:language>en-US</dc:language>
  <cp:lastModifiedBy>a</cp:lastModifiedBy>
  <dcterms:modified xsi:type="dcterms:W3CDTF">2014-12-15T17:45:26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