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937-0C89-4830-A29C-4D97142D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79C-A7B4-407C-AB86-71BC8E64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878-5B06-4E6C-9836-27E8363C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90D-A7F0-4237-9B6D-1844B0D9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A18A-F37B-45A7-8136-054BCE27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BF4B-6809-4504-8AB4-485AD81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7BE9-C7D4-4CC3-BD47-CDADBCB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F457-50E7-4060-A748-AEA20E0B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2959-F2D8-418A-AEDB-016B99C9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4F28-4704-4A2D-8119-4F70DDE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89DD-0193-4586-B952-2187762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B2C-37B3-4A9C-9966-B4864A9F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2F51-2AF7-4CB0-BB2D-E13847EA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436-FEC6-47D1-96BA-7BD0EC81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B6CC-BE38-4EA6-AF61-2C1A3EA0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85DD-94C4-4061-ADB3-222805F2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7BA-D5D6-4606-9220-0CA7EFA2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D03-A642-49E9-AED7-21557CD2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86B-9519-4411-97C5-E21C88F3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CB9-054C-4D1F-96A3-8588F79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8BD-D1B0-4AEF-BC17-23B5D17A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D71-1F8E-4A49-BBEC-9C7A72C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FA3-E1A7-48E3-8B29-1AEC139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308-B45B-469E-A666-BE0B12C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A75E-95E1-47AE-BF57-8FFE40F4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CD47-59A4-40BC-B211-6BCC7E9CE4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8567-6E06-4B8C-97A5-152CA51AFC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cp:keywords/>
  <dc:language>en-US</dc:language>
  <cp:lastModifiedBy>a</cp:lastModifiedBy>
  <dcterms:modified xsi:type="dcterms:W3CDTF">2014-05-23T01:11:35Z</dcterms:modified>
  <cp:revision>46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