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DE0-C449-46AA-98D7-46E96388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422-E63C-4513-A075-364FA9FF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7FD-135E-4B2F-A89D-F92584A9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1C2-A131-4F6B-BF26-249975D4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D880-4BD3-4059-8951-15D41E83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1992-607F-4EA3-8EC0-2EA97111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D218-DA49-41D7-B072-75C0F38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554E-340E-480F-8AF3-E616C6AB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9E78-88C5-4853-8D3A-5DA79444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3787-F628-4C0A-953D-F8D3C9B8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4546-8241-4410-8447-A95FA45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9B3-F4DC-4802-BBDC-18C39700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D308-0624-47AE-99F0-B7E3855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1DD2-1281-434A-A7DC-FBB9C2CA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7D0D-F79A-4F8C-AA12-1881836F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9221-C4D7-4C9E-AB5B-232F35CA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9B94-7627-4DD0-83B1-0F443A85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B14A-C839-43CA-A934-A2A21281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E42F-270D-4707-B2D7-0D129E5D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F225-13D3-49B5-AAB6-6A0CF04F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02DA-EBDF-43F0-9E8F-E2202886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F533-0599-48DE-A058-3D2D0B4F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35E-51A8-409C-B21A-881AEE07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C399-91E0-4BA5-B7A8-8419E593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4FF2-AEA8-4999-A778-0DCB336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D411-F32A-412B-8C07-256AE12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2310-8051-4657-AD38-CFB3F60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8083-AA74-4DB1-B147-CBF4201B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4615-851F-4D60-A1B3-FB89DBE4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9A5C-EADB-4A3A-BEBC-472C828F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B87-E801-4341-9726-5492A4E0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548-CC73-43C4-9381-A155446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9D0-7420-499F-B6E7-B64FCE0C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34E-3534-4A0C-97B7-38D76A3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CBB-0ADC-46B4-831B-E91C2143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C71-BE53-4902-984B-CC3DC9EC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0"/>
          <p:cNvPicPr/>
          <p:nvPr/>
        </p:nvPicPr>
        <p:blipFill>
          <a:blip r:embed="rId2"/>
          <a:stretch/>
        </p:blipFill>
        <p:spPr>
          <a:xfrm>
            <a:off x="-33480" y="-312840"/>
            <a:ext cx="9177480" cy="734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73F4-CE42-4D97-ADB7-60AEF823C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1"/>
          <p:cNvPicPr/>
          <p:nvPr/>
        </p:nvPicPr>
        <p:blipFill>
          <a:blip r:embed="rId2"/>
          <a:stretch/>
        </p:blipFill>
        <p:spPr>
          <a:xfrm>
            <a:off x="0" y="-469800"/>
            <a:ext cx="9144000" cy="731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A4F5-F0BB-4F1B-B69F-40094E72F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907-D7E8-42F4-8AAF-9FD90196E9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A03-F5E9-491C-A437-5C54A732B3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272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微软雅黑"/>
                <a:ea typeface="微软雅黑"/>
              </a:rPr>
              <a:t>加勒比海盗</a:t>
            </a:r>
            <a:r>
              <a:rPr b="1" lang="zh-CN" sz="36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：惊涛怪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</a:rPr>
              <a:t>Thanks For Your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6:02:10Z</dcterms:created>
  <dc:creator/>
  <dc:description/>
  <cp:keywords/>
  <dc:language>en-US</dc:language>
  <cp:lastModifiedBy>a</cp:lastModifiedBy>
  <dcterms:modified xsi:type="dcterms:W3CDTF">2014-05-22T01:23:46Z</dcterms:modified>
  <cp:revision>1</cp:revision>
  <dc:subject/>
  <dc:title>加勒比海盗4：惊涛怪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