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70B-795A-4D87-BDF0-F452E3BC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933-6707-4346-9795-CFB7F87C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86F-52BD-472E-A6D8-D11548EA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536-605D-43FC-A372-39AD75B0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5BAF-A5D8-476C-911E-51F0572C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5975-0BAA-496D-94D4-E3901885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6BCB-C879-44D6-8C25-4B58092A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F03A-7826-4959-9A2E-86032ED7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B45C-6799-488E-891D-EF32E792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AD48-756C-4FB4-B2F7-DC55D3F8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DFE4-7E9C-41C6-B627-57205618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18F-6CFF-4C48-A25D-B0AB8C78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386F-0318-4F6D-A616-FD24D106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71E7-A17B-461C-B36E-50018C6B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BF25-0C79-4CF6-8868-A11CE0D3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A2F0-8F4F-48CF-95A4-47CD0DA7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3A40-C645-4CE4-B3C5-643A0046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899-3EED-4108-9C97-75CBA388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7D4-E4C0-4A35-9590-E1034571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2F6-3DB5-443E-AFE4-2E2814C8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22D-DF0F-4CB3-87E5-B787E402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CC8-4C9D-4AEB-BE41-3F459899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B24-97E6-4A12-A9C0-E4C003B5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216-5C64-41FB-8F51-FF4DDEBA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0757-4F78-4514-9097-A3BD995B794F}" type="slidenum">
              <a:rPr b="1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6D0E-683A-4AD4-BCAF-52E4A6AAB923}" type="slidenum">
              <a:rPr b="0" lang="en-US" sz="10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31046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92929"/>
                </a:solidFill>
                <a:latin typeface="Impact"/>
                <a:ea typeface="宋体"/>
              </a:rPr>
              <a:t>加拿大国旗</a:t>
            </a:r>
            <a:r>
              <a:rPr b="1" lang="zh-CN" sz="4800" spc="-1" strike="noStrike">
                <a:solidFill>
                  <a:srgbClr val="292929"/>
                </a:solidFill>
                <a:latin typeface="Impact"/>
                <a:ea typeface="宋体"/>
              </a:rPr>
              <a:t>ppt</a:t>
            </a:r>
            <a:r>
              <a:rPr b="1" lang="en-US" sz="4800" spc="-1" strike="noStrike">
                <a:solidFill>
                  <a:srgbClr val="292929"/>
                </a:solidFill>
                <a:latin typeface="Impact"/>
                <a:ea typeface="宋体"/>
              </a:rPr>
              <a:t>演示模板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Line 4"/>
          <p:cNvSpPr/>
          <p:nvPr/>
        </p:nvSpPr>
        <p:spPr>
          <a:xfrm>
            <a:off x="2971800" y="38098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89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89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1046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  <a:ea typeface="宋体"/>
              </a:rPr>
              <a:t>Elements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4" descr="canadian_flag_sld"/>
          <p:cNvPicPr/>
          <p:nvPr/>
        </p:nvPicPr>
        <p:blipFill>
          <a:blip r:embed="rId1"/>
          <a:stretch/>
        </p:blipFill>
        <p:spPr>
          <a:xfrm>
            <a:off x="3160800" y="4549680"/>
            <a:ext cx="2822400" cy="2117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anadian_flag_prt"/>
          <p:cNvPicPr/>
          <p:nvPr/>
        </p:nvPicPr>
        <p:blipFill>
          <a:blip r:embed="rId2"/>
          <a:stretch/>
        </p:blipFill>
        <p:spPr>
          <a:xfrm>
            <a:off x="6093000" y="4549680"/>
            <a:ext cx="2822400" cy="2117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anadian_flag_qx"/>
          <p:cNvPicPr/>
          <p:nvPr/>
        </p:nvPicPr>
        <p:blipFill>
          <a:blip r:embed="rId3"/>
          <a:stretch/>
        </p:blipFill>
        <p:spPr>
          <a:xfrm>
            <a:off x="228600" y="4549680"/>
            <a:ext cx="2822400" cy="2117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eclipse</dc:creator>
  <dc:description/>
  <dc:language>en-US</dc:language>
  <cp:lastModifiedBy>a</cp:lastModifiedBy>
  <dcterms:modified xsi:type="dcterms:W3CDTF">2014-12-31T03:53:59Z</dcterms:modified>
  <cp:revision>37</cp:revision>
  <dc:subject/>
  <dc:title>Silly Mi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