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888-FE14-43C8-93C8-81B56086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AE9-9E86-410A-8664-C17B3A71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C3A-EDFA-413F-AE97-76281B6C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07F-CC22-4462-9F97-89A0855D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FB92-E2C9-40E6-8E92-669EE736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CDC2-1A61-4B94-B704-DE213B84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1AFA-6A74-47E8-98BA-DAED0B65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9E23-01F1-4EB7-A5CB-4208039B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2E07-DC18-47DD-8F27-D00D2D00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D730-6955-4486-8A55-2F1731DD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F628-DD63-4969-8322-A1E4065D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A127-AA91-43AE-A0A4-DF6CEE7B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2608-0F39-40EA-8E87-AC7C9516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FBE5-8805-4F5E-938B-B5F93138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2469-CDAE-447A-8074-2B61981C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D104-00E1-41E7-AFCD-98A58011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6CFC-B417-4AD4-9DCA-FD2D0E9C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C8189-E4EF-45CE-8EBE-E1D98AF3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E078C-51B9-4E00-8F28-F7AB332D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7FFF1-194D-4E2D-A0C2-65AF7907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E6C4B-863A-4A08-8E26-BF6BA1E2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22C5F-E64E-45F2-A497-5D5DB3CA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36C-87A9-4C51-8D7B-6120EFD2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B7A06-7D2F-4894-86FC-3EA9F2D3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23325-45D8-49F1-BCA4-D79D6287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3ADCB-BD97-4332-A27E-3B7BB16F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BCB92-A833-430B-9E8D-982FBC5E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77B96-91AF-467B-875A-C14E592A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2975B-7A9B-43F1-889A-A5DA04F1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DA512-0E36-4A3E-A82E-1DEDC55C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F51-0BFF-4E0E-AF14-8DA03781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546-BFB0-4BFE-A5DD-C37FB4E8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004-5936-4BFC-AADF-892EBD86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D134-6629-4938-90B4-127FA5E0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DD5-93D7-4681-945A-E79C2C88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0A2-2654-4208-BF94-79CE3819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16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204162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F6F0-7210-4AE7-ABE0-53888095E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8785-7C87-4201-85EF-B41F7502762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8A7D-68A5-4FA1-B407-A4FF205E310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16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204162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59F0-E1F8-4705-8597-3B8450AF5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7432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04162"/>
                </a:solidFill>
                <a:latin typeface="Arial Narrow"/>
                <a:ea typeface="宋体"/>
              </a:rPr>
              <a:t>金属线条蓝之抽象</a:t>
            </a:r>
            <a:r>
              <a:rPr b="0" lang="en-US" sz="5400" spc="-1" strike="noStrike">
                <a:solidFill>
                  <a:srgbClr val="204162"/>
                </a:solidFill>
                <a:latin typeface="Arial Narrow"/>
                <a:ea typeface="宋体"/>
              </a:rPr>
              <a:t>PPT</a:t>
            </a:r>
            <a:r>
              <a:rPr b="0" lang="zh-CN" sz="5400" spc="-1" strike="noStrike">
                <a:solidFill>
                  <a:srgbClr val="204162"/>
                </a:solidFill>
                <a:latin typeface="Arial Narrow"/>
                <a:ea typeface="宋体"/>
              </a:rPr>
              <a:t>模板</a:t>
            </a:r>
            <a:endParaRPr b="0" lang="en-US" sz="5400" spc="-1" strike="noStrike">
              <a:solidFill>
                <a:srgbClr val="204162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28240" y="41911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4162"/>
                </a:solidFill>
                <a:latin typeface="Arial Narrow"/>
                <a:ea typeface="宋体"/>
              </a:rPr>
              <a:t>Your Subtitle Goes Her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162"/>
                </a:solidFill>
                <a:latin typeface="Arial Narrow"/>
                <a:ea typeface="宋体"/>
              </a:rPr>
              <a:t>YOUR TOPIC GOES HERE</a:t>
            </a:r>
            <a:endParaRPr b="0" lang="en-US" sz="4400" spc="-1" strike="noStrike">
              <a:solidFill>
                <a:srgbClr val="20416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宋体"/>
              </a:rPr>
              <a:t>Your Subtopics Go Her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  <a:ea typeface="宋体"/>
              </a:rPr>
              <a:t>YOUR TOPIC GOES HERE</a:t>
            </a:r>
            <a:endParaRPr b="0" lang="en-US" sz="4400" spc="-1" strike="noStrike">
              <a:solidFill>
                <a:srgbClr val="204162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4162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4162"/>
                </a:solidFill>
                <a:latin typeface="Arial Narrow"/>
                <a:ea typeface="宋体"/>
              </a:rPr>
              <a:t>Your Subtopics Go Her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581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162"/>
                </a:solidFill>
                <a:latin typeface="Arial Narrow"/>
                <a:ea typeface="宋体"/>
              </a:rPr>
              <a:t>Transitional Page</a:t>
            </a:r>
            <a:endParaRPr b="0" lang="en-US" sz="4400" spc="-1" strike="noStrike">
              <a:solidFill>
                <a:srgbClr val="20416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7:41:52Z</dcterms:created>
  <dc:creator/>
  <dc:description/>
  <dc:language>en-US</dc:language>
  <cp:lastModifiedBy>a</cp:lastModifiedBy>
  <dcterms:modified xsi:type="dcterms:W3CDTF">2014-12-15T17:43:41Z</dcterms:modified>
  <cp:revision>4</cp:revision>
  <dc:subject/>
  <dc:title>WRIGHT IS RIGH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