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478-A0F8-483B-93CA-52D195A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8C7-2BF4-4894-9B70-A84A21D1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24B45-3B21-40A3-8D7A-FC200BAC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4955D-53E7-494A-8B20-9C9A6CCD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70511-BD32-4AA9-803F-6DFB9879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8CB08-6D34-457D-860C-7C480C0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FB410-8179-4857-83EE-DC7C044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B86CB-73C7-42F7-A207-5DFAEA6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0F402-6BB5-40B0-B9DD-11D0320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6D83F-370B-424A-94B7-B6977745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0722E-5368-44FA-A430-9E6D3A9A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9C0AF-EB27-416E-8246-1CBA59E5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82-A819-46F7-9150-8EC252C1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A057F-F1F2-4F40-ACCD-607B1E8F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082C8-2962-469F-852A-BAFD5785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77201-7276-401C-A8AE-A05DBB2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02384-4998-4A9B-8A7C-AB133B6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51F6C-22B0-40C7-B81C-2E2F78AD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0BFE0-F0E7-4F30-B2B9-DC35232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50A64-876C-41AD-A16E-5094FEFA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B644F-63FC-4FA6-9BB9-DE588206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5C2F-68AD-4C8A-A146-F56FFEC7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F4DE9-52C7-42CA-9688-44BF8FFA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BE8-5B61-4C5D-B066-AB14DB34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281ED-96E5-48C1-91EF-B631BF2D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1A6B8-1501-447D-B0DE-4521871B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F824-E9F5-4354-8EBF-B3D4E73B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4517-EEB5-4D2D-AD6C-D01FA6D7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25C6F-2ED7-4BE4-B6DD-0D277B8F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A5271-543E-44DC-896F-D38386C0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6DF7F-3448-4762-B6A9-BBBA3D87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71B33-AC5D-418A-A596-503AFF1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F312D-9A88-4268-9F91-BEB1C965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CA68-FAE3-451B-8B12-6F9D9E5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8EE-5CDB-485B-A885-0500B1DA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5EE9-0B49-4EFE-9F45-823BFBE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A3F33-25D3-4284-8027-5386D1F6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7B405-B994-4664-AD77-2F445B08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EBCEA-82EF-47E5-8D3F-FAF0D216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2324E-7215-4AF1-971F-777CC69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150C8-808D-41D9-BBD3-744F4F5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7887-77EA-4398-9262-88A4D1DF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31E2E-C494-4F7C-8262-A7091A4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0B7B1-48DC-4BE0-8FC1-C204D00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57813-D9BA-4F05-899B-A027F63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075E-6B59-4027-BAAC-9AE3EFBB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84176-9B29-4484-AECF-ED338AA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7E5C3-33B4-4717-91DE-DBB4495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4331A-A06B-4E8A-8EA2-2993039D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62C81-A2B5-4621-9BA7-A1D97647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9EA23-FBEE-4F71-B748-395E5A67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CD464-E028-4003-BAE5-F492EA49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4C041-B5D2-4C4B-817B-D25F2B1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5D959-0743-4B40-976F-8E6FDEB9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FBB06-7AA7-424A-B4A6-7B92924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4BD7A-8B9A-473A-B2E0-DD94C537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2EF-D849-4000-8B7B-AA30242B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845FA-27F0-4F44-B94F-48EF3E3E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E42A1-3993-4C1A-BDA1-723A24B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80C31-339C-4AA9-8FB0-59B219E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4544F-CDFE-41FB-83AD-50AF7FA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6AD1B-9C3A-4FDB-8D8A-078F448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5C19E-F7FF-4AF4-A2D3-6761E3B0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04981-A322-4EFA-A25B-4ED86999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82E62-5F36-44AE-BA61-675667CC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FC2E7-3B6B-44E3-9084-CCD7A4B5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A9E91-0922-4F1F-B5AD-519FE87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8ED4-300B-4C40-ACE0-D3CB8AA2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DD095-F6DA-488B-975C-C2EAF01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32656-3356-410A-B589-7B7DAE9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3AF96-268B-4EAD-9AC6-816547DF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4F6E5-F0FF-40F8-B386-B7734BC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DCE79-F6D1-4D88-9C59-4A9B522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4F9E4-CA2F-41B6-85A0-C518761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D9E58-4C1B-4996-AEEE-D1EB31E1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4B804-F4EE-4B1A-A724-046ADB83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85976-5E1B-4E11-9855-352C090D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6A84-F72B-426B-B2FB-392B57C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4BF9-9575-495E-82D8-69CED49F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F8A1-7805-4DA3-B7B5-A349DCD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B3A-C250-4DD4-9013-C95D9D39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E42E-7C0E-4446-A4E6-D0A1555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776E-5623-48D1-8BE0-D317AA8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87C7-D215-4FF3-9F49-647D47F5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97F8-1CE1-41EF-8380-2F240D16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252-A18B-459F-AED1-A1409B6A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D3C1-D682-45CA-93A8-498BC0F2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78E0-725A-49F4-AB63-CD81627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F7BE-D70D-4073-832C-8395F30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03BD-40DC-436A-8D15-B701536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BDD9-625C-4AA1-A9EF-F251D29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AF2-18BA-44F3-B894-97DE373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35A0-8633-4807-B809-723A9C3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870E-9611-4C15-996D-2AB45EE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F721-96F7-4486-B6F4-1906785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1477-C674-49C9-BFF6-08EAB34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5A0A-AF90-42CA-99CC-FBE518A9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8862-1FC5-4D55-AC28-618E2FF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D0DC-4998-4D50-97B1-E81CB752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EEC5-EA4B-4B74-93B3-B0B818A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2C57-C7E6-40E5-9EC8-B02AA6D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782C-B2E0-4185-A62D-BEF2B10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660-2006-4747-A264-311C1D22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7607-0610-457D-B7DC-FA59A04D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83C2-B0BD-4414-A148-35D49DD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96B9-2F4A-435D-A82D-79E71ED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2316-70B7-4EC4-9B64-D96CCD1F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F050-6CD8-47F6-9233-3C47731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C664-17FA-439E-B093-3164DC7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93C4-CAB8-4B99-958C-483B9D47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5D49-1B6B-41B7-BB2B-AEEC82C5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C21A-B57A-4ECA-8F9B-1731D80F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0008-A2D6-41B7-A9F8-0842475E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FAE-F730-49FF-A882-42D765E8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8116-197B-4D3C-AC77-EBC564B8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522C5-7A3F-4636-9499-346641B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AEF7-4A91-4E64-862D-0FAECE37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8076-D706-404F-A731-A180EF83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84CF-2D83-494C-A61C-A0BA3834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A03A-4E58-4E1A-8FE9-CA378509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2D97-3F3E-448C-85F5-6AB89D4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F0E6B-B74E-402C-8F5F-CBC9A4A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F875-962A-4C08-AA13-E8466081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4984-0B7B-4157-AF26-BB921CE9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3AC-B3C0-499B-8006-DFBDC895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3E60-3FC5-4ED1-9C23-FAB9FA75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D0853-346D-4FDE-8D07-9ABE44FD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7A94-CD8E-4388-9AA8-3B80D306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763B-B8C3-4AE1-A6E8-4C047B1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3DDE-6A33-480F-A792-C2622D84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6C8E-1E1C-489D-A548-568D0B02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F1EF-5C22-4ECD-A768-5139B73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0FF3-ECF3-47BE-9411-10BE54B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A56C-FB22-484A-AD11-3E40701E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7258-6B8F-4B59-A9D8-A08491E2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577-AD1D-4EAE-8A8A-011237A7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265AF-9680-49E5-8BE7-CED917C8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276A-91A3-4B6F-A766-C88C40F4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4C31-3C2B-48B5-8ACA-77F2B529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73C0-0D0F-4CE1-8746-65E638BE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924C-B8C2-44D2-BD39-A85EFDA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B906E-E243-45E8-BD47-741D124D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2282-33DF-4044-BA18-3C985B6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6A1F-7521-420A-9308-9246945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E90F-51C9-4B76-8C28-DE374D66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706F-226E-4937-8847-FBF4A33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808-3809-40FF-BB8C-93AE9E4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ED863-C816-4603-8750-A6E6061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9F35-8B18-4484-87A6-E4871D8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F1F6-BE7F-4DB7-BF06-3DE9F8A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8DED-EB4C-4109-B7ED-0886BFFD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0AF36-CB85-4332-879D-9B3AD755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3ACA3-DEE8-4807-8DE6-A998F3DB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95649-A748-467F-A9E4-8F6A932C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FD69-F845-4FF8-9B9F-6972BF89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9AA79-7DB2-46C2-AE67-10A29637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9E7B4-1654-4304-BB47-72BC4084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1A8-8F18-415B-B05E-02053C6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E9DB5-8FBC-486E-901C-4C9F3C4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63F0A-37EC-4F2D-B180-9780550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5E420-833A-49E7-8482-1B33196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E7EDB-DC72-4AE9-97D4-5D3A548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A37DA-18A2-4B61-826E-90EC956E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B8C9-3D84-4D02-8FD9-CFEB08E8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534C-606E-4C9D-BAF7-C71FEF18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63D78-F750-4631-894C-DEA6FF26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E0544-07D3-4BA8-8AA5-B81B253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40554-2A07-4510-A658-54243F02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Demi ITC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C6E-979E-4C74-A7A7-1157B045A52D}" type="slidenum">
              <a:rPr b="0" lang="en-US" sz="1200" spc="-1" strike="noStrike">
                <a:solidFill>
                  <a:srgbClr val="000000"/>
                </a:solidFill>
                <a:latin typeface="Eras Demi ITC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FD0-B256-4A50-8B40-59DC331CD7B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7F7-221D-4A34-AE02-D2AF22FC8C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1ACD-23C0-49C5-ABA3-6DAFA34E7E2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5CB-D156-4EC8-AEB8-C9A8991138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4C7-5974-4299-BDC4-6247B169094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C00-F7A9-4B84-BD6A-8461BFAA7B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6EF-DF81-406A-9534-28DB53D2189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5701-D8F2-4699-9204-4F8ADAE5A0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472-0A7D-4139-8C7C-6033F125237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0C58-4DD7-41D2-83B4-608C4AE2BF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C78-E6A0-42B5-A014-28DD8CB8F30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78A-AC52-407D-8FD8-8E217C4AE6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Demi ITC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B27-DDB0-417B-A636-590EA3AEBD9B}" type="slidenum">
              <a:rPr b="0" lang="en-US" sz="1200" spc="-1" strike="noStrike">
                <a:solidFill>
                  <a:srgbClr val="000000"/>
                </a:solidFill>
                <a:latin typeface="Eras Demi ITC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797E-0A3F-452F-839A-295E5EABC13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B5D-DCED-42FC-807E-19CF3F8495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6F5-7DE9-4EC0-9C51-67DB9937DE2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79FE-BEA0-45D8-8A86-0B7EF5FCA3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CF8-A3CF-4D76-89B9-6BB573125EF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DFA-2422-4C9E-8B3C-8DEF635430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48A2-16EA-4D65-9617-6EE2FC81E57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8B72-18EF-4899-BF4C-AF767DA40A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6545-CA44-4C71-919D-22D76778161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399A-E807-412E-B6A6-EA96664C98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7980-4639-424E-938E-E47099A08D4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3CD3-DBB9-47B6-98E1-61F34974D7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金沙之抽象系列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Demi ITC"/>
              <a:ea typeface="宋体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Eras Demi ITC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/>
  <dc:description/>
  <dc:language>en-US</dc:language>
  <cp:lastModifiedBy>a</cp:lastModifiedBy>
  <dcterms:modified xsi:type="dcterms:W3CDTF">2014-12-15T17:43:12Z</dcterms:modified>
  <cp:revision>74</cp:revision>
  <dc:subject/>
  <dc:title>Golden Nebu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