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F3F-33C3-416F-AC0D-E781292D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CAB-F832-40AF-993A-89BEB9A2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17766-64B5-4026-8C3A-17D3CF35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4C6E0-0C41-4A5F-8CB3-49E80516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D805E-D078-4DFA-A35C-37C32DF1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EA32D-7D6F-4679-8EA5-F0F15124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8914C-1C9E-48FE-A97F-4D3272C7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0E122-9C74-45FA-BB8A-FC464D09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205C19-39BC-4D86-8855-68AFEF8E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5C3CE-793D-4723-92BA-1D40DB25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2827F-0A61-4FCE-8ED1-2D248D4F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649AF-8C6B-49D8-A1D3-09254AFB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80A-BEEB-46D8-84AA-9582D84E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1D429-D59D-4C36-B9AC-6A77CE50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D585A-CAE2-4F5F-AA2E-C0D622D5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36F2F-C394-4714-8604-42D7D3A0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93734-C361-4E60-9656-1F3F0796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24668-7CB7-44D0-BD75-24245E67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348C1-F33B-4C7F-B4B7-2568901F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E6333-801C-4045-AB33-CA30A05F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10645-9B1D-4941-AE34-E074B1A9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C3CBB-1705-4684-B625-2D1BD331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1F281-7CE3-419A-BB04-FF76481B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096-F167-475C-9E6D-225B7392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3A325-7101-45F8-B94F-5476108A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73991-24FA-4FF9-9B7E-6F6B4A54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66F2D-EDE3-484F-A76F-19248B17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37CE6-94FC-4A9A-82A4-BB56F935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55239-FD23-4E75-9E6E-82545B80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C96B7-6F09-4CE9-B911-86C718A1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72A35-244A-4DF3-BA38-B63339DB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4CB8F-6491-4572-9693-4A68A2A0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67365-2F70-4872-A9F8-408326C0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7EA2D-598E-4A86-AD0A-54972EE5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87B4-223D-4C73-A0E1-F6E25949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B76E6-7CEB-4359-AADD-F9FAA2EE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C1318-BD14-4FF9-9F4E-B22BC3DA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03D01-CC72-45E6-887A-0FE58300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A0B2A-7E6F-43F1-9F4A-D8774412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3A2CB-2998-4F2C-8627-2A47BCC6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09695-D608-45B9-889A-E454CA49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31398-08F1-4350-9B90-20A0A293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18AEA-83C1-4188-BACF-F45E8A30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E2089-78E2-41F9-B7A0-C8D98473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C21DD-7052-4734-A1F4-DA2B4F77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5DCA-C703-41CB-BDBD-8A7D75A3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286E5-F1C7-4CA4-885E-E46CC2B4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F3D3D-7311-497C-8FD4-BD90522D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ABD2C-26F0-4161-99E8-1CD0FE44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69217-1158-4A83-965F-F21814F0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E9276-B314-4F15-9360-F3D2F2E7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C1926-A959-414A-A1E3-AC95AF27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C2358-110E-4677-AEF6-CA47EB82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09EB8-6CAA-468E-A9E6-6D42CB78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CE75F-4F4E-4C36-BF83-9B41F40D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9A15A-34E0-45FA-B9FC-2AE675D6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6971-669D-4989-8D23-F2E32081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60F5D0-A0CF-4F5C-9C42-6B2060A2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4D746-B2AD-493F-824E-72FC915F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6162C-CE62-4DC2-BBF6-A2CE15F5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0772A-8375-4CBB-B0FC-A552C001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6B6A7E-3906-44FF-AD01-DC3DB418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89DFB4-6989-4919-A17D-FC1D62B1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3A0B45-7025-415F-8E8C-4074DA14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D351-3AE0-4348-814F-7A1CEB47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D545-6542-4203-B837-6A170BF9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5C66-61C9-4873-8372-FA29D5CE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FE33-14A7-4398-9A2D-1A1D522F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9E3-50D1-46B3-A8B3-171D4A59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4BC6-AB31-431F-A4C8-37B84F48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6CEF-9016-4218-B598-17C09E5F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845A-FEDB-46AF-8178-F65E2E6F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87C8-086C-42C1-BB85-22246A3A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CE33-4551-445F-9D09-59E7E8FD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F9971-41BB-4D91-B832-F68F1191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42625-3916-45A4-B163-ADC4F96C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7C7A-7105-40B0-8A75-49763082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43048-29B1-47B2-B3A2-2CAB1B3E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1090-44D5-4EA3-AFF3-A1D014B2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3E84-9FEB-4332-973C-B45A3D5E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07D0A-DEEB-4546-9330-6F479F8D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60604-59EF-4733-A86E-750603FC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169D3-6107-458E-807A-B780B26F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8ECE-A123-419A-8C68-F268E9F1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E5DD-F64F-44A4-8CED-50534861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4226-BBA9-4682-9888-A2D6629A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F703D-5134-41DA-BA13-678FE998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25D39-DAE6-4705-836A-ED02D260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F0E4E-492D-4E8A-8383-CBFE1DA1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8E60-44B9-4847-A1E6-35D85B5F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037-6381-4733-AE89-88FAF9CB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16B56-65DF-4E4B-80A9-09556C13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C458C-1116-411E-927E-30A482FD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82F69-7D92-459F-A44E-A8C3C615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F3AA2-C8FF-4080-B142-683DBEE6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8F94B-0350-4FCE-BE09-43FFDBEA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6D96C-6D76-45DE-BA13-F2DEC813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7886F-7E6C-4436-9342-88CBC34D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62DFA-F340-49D0-AB86-0737AED8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39D1E-2F10-4FE9-968E-51DBAAEC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7B02F-9B89-441F-892A-53A6119F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040-208E-425B-9F23-44A4A0FB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BB1C6-A512-4CA6-B2C8-519C2CA8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A4F22-45CF-48C0-96B4-A179E061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DBFBE-4FFF-4E01-A98C-D0E9B7B4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16E51-5F86-4775-B70A-857A4493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A968A-F9D1-443D-9772-43B2716B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83F95-849A-4F37-AC33-80A0F1C1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CD1BA-012F-4B68-ABE6-7008B3BD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7F411-4421-46A1-B81F-514C04B3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41DD6-00C7-4617-B7F0-1F85A467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3790D-5F31-431F-9440-647DF42D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223-51D4-45F4-9489-3D9ED55F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74207-8C57-4944-89DC-AA595455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C4FD6-616A-4AA4-BA7C-3F01B153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CB91C-090B-419D-A4D8-E5A4A938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B213E-7AEC-4820-A128-3BE052D2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CCA29-21D3-43C9-9095-2BFE3F7D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FB73F-32E9-405D-B10F-42413C87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9A834-AE5B-4CE8-AFCC-7A5BA8EB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477C7-1F9B-43A7-A43D-92D0538A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A9A6B-2B7F-46CA-AB47-3A09AC42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9AE99-8A67-41FB-90D9-1583AA5B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5C7-76AC-4180-9FA9-66C9DD95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3AC4A-8C24-42D6-B173-8E898AF2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6A297-1ED6-4BD0-A2AB-956C2B9EB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4B13E-51C6-41C0-9389-E219707D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AC080-E17C-4A88-BFAD-AF20960B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9966F-18F2-406C-8074-D4FB786D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F20D6-47BE-4ACF-82C6-FCC55D3F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758FC-4651-4E5D-B939-60285579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8F60A-0489-41EE-A8F1-CC790C4F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0B0A2-76FB-4067-83D8-9BBE2EE5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3A336-DD14-4B3F-844A-E31B83BE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A7F-B53B-42FF-8450-E7D9E2A8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D6AE1-5953-4EDE-901B-D17B3B5A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4A7F9-E500-4B3A-BDC8-21E6F653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A4A78-B001-4463-BB8B-A9E27D4B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A51C5-70AF-4998-A453-88166E7F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16720-D99F-44D0-B925-BE232067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E3D4C-EA4E-4E0D-B889-8951A89D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369EF-A298-49A3-B026-1AE087BE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7207B-31AF-451C-88A3-8EF2072F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0F7F9-8AC0-400B-A10E-67E66EB9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1BF11-E396-4C1F-9690-091812BE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CD2-0C8D-432D-BD55-6F330435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FDB25-470A-4BD3-9728-DF352836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B7FEF-5301-47D7-A2F2-9EA8D0FA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CF0A2-5EF1-41E3-AE8D-338A4379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6DC0F-3F50-421E-9208-6D69F4C8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F6957-5BBF-4BEB-BC62-205DCB09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DBACE-46FE-47A2-B633-88CE4DDB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EE9FC-FAE6-4A84-8435-B51A3B8C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3BDBF-A1FD-4794-A5FE-CDD4C4FA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6E781-CFB6-44E1-B4AE-196A9D63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0BB890-5E1D-4612-B29A-56381C35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B11E2-8910-4305-A39C-310B9F878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2E9129-0E12-42CA-B0D6-B7C2BCFCF2AF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9503F-18F5-4170-8A5D-8C564F78367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CAA3D-986E-4835-A2A4-C348CAFFC7AE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42B73-28B3-4B83-BA1B-F20023F08ED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9E44E-0009-438A-9ED7-330824D68B72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D7A17-DD01-497E-B5B9-E354C2ACB29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28671-4379-4943-8E4F-32614F75EBCB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E27F5A-9426-426B-AAD9-165063CBC92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8C090B43-58BC-474D-885F-A688A627A419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fld id="{46F1CE63-7A1A-4729-A6F0-52F678F2294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E9618B-6BA6-49A8-BB81-94911A59C489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F2AEA-527C-4C73-81C2-9A5990B6FB0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38906-A182-44FB-A467-7EA60350F86D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9A6809-0B92-4BE1-B602-A9E2DCAB556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E24496-893C-4B30-847D-92B22B87F319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3C48D-6012-48D4-B9C4-74BA854EB7D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3242F-AD41-43C6-966A-9E26A2ED0122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28BCF-636D-4B14-85C8-808A274868B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A2673-AA18-4CCC-BD43-A8162C64B328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A48C6-63E1-44EB-AE0E-0CA82654862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74E174-0F7D-4CA9-8314-5FDB921208BD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CD2BA-CC70-4587-9236-5AACE56F223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5DAFD2-0407-4156-99B6-4A26D8A76249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858340-6377-4C9A-9CA8-736FBA78C8B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4" descr="未标题-2.png"/>
          <p:cNvPicPr/>
          <p:nvPr/>
        </p:nvPicPr>
        <p:blipFill>
          <a:blip r:embed="rId2"/>
          <a:stretch/>
        </p:blipFill>
        <p:spPr>
          <a:xfrm>
            <a:off x="6858000" y="285840"/>
            <a:ext cx="2057400" cy="464796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6" descr="未标题-2.png"/>
          <p:cNvPicPr/>
          <p:nvPr/>
        </p:nvPicPr>
        <p:blipFill>
          <a:blip r:embed="rId3"/>
          <a:stretch/>
        </p:blipFill>
        <p:spPr>
          <a:xfrm>
            <a:off x="228600" y="285840"/>
            <a:ext cx="1905120" cy="464796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7" descr="未标题-1.png"/>
          <p:cNvPicPr/>
          <p:nvPr/>
        </p:nvPicPr>
        <p:blipFill>
          <a:blip r:embed="rId4"/>
          <a:stretch/>
        </p:blipFill>
        <p:spPr>
          <a:xfrm>
            <a:off x="1752480" y="285840"/>
            <a:ext cx="5554800" cy="278280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8" descr="未标题-4.png"/>
          <p:cNvPicPr/>
          <p:nvPr/>
        </p:nvPicPr>
        <p:blipFill>
          <a:blip r:embed="rId5"/>
          <a:stretch/>
        </p:blipFill>
        <p:spPr>
          <a:xfrm>
            <a:off x="2666880" y="971640"/>
            <a:ext cx="3714840" cy="37148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9" descr="未标题-1.png"/>
          <p:cNvPicPr/>
          <p:nvPr/>
        </p:nvPicPr>
        <p:blipFill>
          <a:blip r:embed="rId6"/>
          <a:stretch/>
        </p:blipFill>
        <p:spPr>
          <a:xfrm>
            <a:off x="5403960" y="1428840"/>
            <a:ext cx="195552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图片 7" descr="未标题-1.png"/>
          <p:cNvPicPr/>
          <p:nvPr/>
        </p:nvPicPr>
        <p:blipFill>
          <a:blip r:embed="rId2"/>
          <a:stretch/>
        </p:blipFill>
        <p:spPr>
          <a:xfrm>
            <a:off x="0" y="133200"/>
            <a:ext cx="9144000" cy="396252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10" descr="未标题-5.png"/>
          <p:cNvPicPr/>
          <p:nvPr/>
        </p:nvPicPr>
        <p:blipFill>
          <a:blip r:embed="rId3"/>
          <a:stretch/>
        </p:blipFill>
        <p:spPr>
          <a:xfrm>
            <a:off x="2819520" y="971640"/>
            <a:ext cx="3332160" cy="333540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1" descr="未标题-3.png"/>
          <p:cNvPicPr/>
          <p:nvPr/>
        </p:nvPicPr>
        <p:blipFill>
          <a:blip r:embed="rId4"/>
          <a:stretch/>
        </p:blipFill>
        <p:spPr>
          <a:xfrm>
            <a:off x="7772400" y="2952720"/>
            <a:ext cx="981000" cy="19540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13" descr="未标题-3.png"/>
          <p:cNvPicPr/>
          <p:nvPr/>
        </p:nvPicPr>
        <p:blipFill>
          <a:blip r:embed="rId5"/>
          <a:stretch/>
        </p:blipFill>
        <p:spPr>
          <a:xfrm>
            <a:off x="380880" y="2952720"/>
            <a:ext cx="981360" cy="195408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14" descr="未标题-6.png"/>
          <p:cNvPicPr/>
          <p:nvPr/>
        </p:nvPicPr>
        <p:blipFill>
          <a:blip r:embed="rId6"/>
          <a:stretch/>
        </p:blipFill>
        <p:spPr>
          <a:xfrm>
            <a:off x="3936960" y="2092320"/>
            <a:ext cx="109224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544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02:42:06Z</dcterms:created>
  <dc:creator>Arkey L</dc:creator>
  <dc:description/>
  <cp:keywords/>
  <dc:language>en-US</dc:language>
  <cp:lastModifiedBy>a</cp:lastModifiedBy>
  <dcterms:modified xsi:type="dcterms:W3CDTF">2014-05-29T01:19:55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