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EB85-2821-44A0-8DC8-9035581D7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51AE-05FA-457D-881B-D8224BC5878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2C10D2-119A-47B1-B909-36D93D20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CA4CCD-A9E6-40C9-A198-888FC0C2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A22381-371A-4E5E-A7B0-1A1AAE39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6D2577-4FFC-4E7E-99C7-B98C4F7E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0BD03E-1689-4F56-AD9E-ED8B1777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375120-78B0-48E2-94F4-38805BC9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6F6A0B-1EBE-4DF5-A7A7-D190E045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B164CC-7BDA-4DDC-8AE5-67C56E54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972AB7-930A-4E4F-8000-0C1A9243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0B34F-3F8C-4196-B256-BBBED9D3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A72E-C973-416F-8F9C-9BFAB64A0B8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F3789-01A1-4E39-B092-DF8FBBB4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96DAE-EAD5-4882-940A-51DC683B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FD5900-2DD4-4B6C-8655-6FF1FB5E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F9B1C-2F32-474F-8E6F-0634A535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B09AC-C71E-43FD-ADE7-ECB6E2FA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2D98C-AEF6-4420-8448-CA702E60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72B88-E5F5-4347-81D8-BD5FA114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5365F-0987-4F3A-82C0-88D649CB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6E24B-9261-40B1-B0C7-1C39C99D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FD482-E234-47BF-AD78-BA608058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39A3-E983-4CF2-B170-C054C20E6DF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17A01-1048-4BB8-B030-16BDBC29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638ED-155C-4AC7-8761-8EBF25E8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9FE8B-867E-4506-9701-E009870D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96BAB-08B3-4850-96D8-A88FD1F2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F06D7-063B-436B-A087-90B9B3CD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F4A61-DC47-47A1-9058-1E057CBC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CFFBC-61B1-406E-9D01-F3959580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EEFE5-6C01-48F3-BE5D-7A257DBB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C2C70-0786-4978-9F3F-D7AD0AFD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8CF6AD-31FC-4C3B-8B06-6A695961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F7823-0890-414C-B7CB-6753A0D0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DD5BB-7319-4761-A476-53D943E0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E9C46-C588-4A66-84B8-C1AE399C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9603ED-7121-4D08-92E6-FC678BF4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A4B840-E36E-4578-AEA6-7DBB8B50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025EF9-E8CC-455C-B675-2E31D719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05E6E1-A77F-4C69-89FC-325C2557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4E8438-825A-4E02-896C-CFD5EEB0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8FACA2-844B-4E20-8B7C-12C6D62C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A9998F-21DC-49CB-B00C-5041F3D9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8C9FE3-03EB-48AF-BB25-A47AA177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732CCE-5D1C-4151-9979-6FB3ED53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707A38-C7A5-45C8-8C25-A49CEB6A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3B5F5D-A30C-4519-AA38-C7B6D0D5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2DC48D-5EEE-4C19-8610-1CA71F05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3A26C-1526-4C4F-AF49-57F3650C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DF1721-45F5-49C4-8E46-00095290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26E2C-9C10-4F73-B12F-9350E8BB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6693B-79F9-4AF9-9306-65C8A789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85A0A-078C-4690-8543-B12F1B22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2DCB3-2CD9-4BB0-8780-9EEDB66B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F957A-8DAE-442B-8842-A0204492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1F8E4-72F3-47FE-9A72-D940322D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A607D-C13A-4270-AD42-85C0142B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8E8678-2B62-4EE2-9D17-3291973E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B9193-D905-4B5D-9B79-DD51B357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2653E-B194-4B71-9A3F-18546C38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0C8670-12C1-4030-913A-5F5882C3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9C7A32-D174-48FE-83F2-0F9216A7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552230-05DB-4423-84FD-FF2A5613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8A1540-685D-4C46-97CD-06F74ADB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DF7526-07D8-45A7-8AFB-3DC17744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A3DC51-1775-4DB6-8700-7909584A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064A44-AF71-4311-94E0-C0EEAFD7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CB45BB-D42C-4733-B4A8-BB96EEFA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930EF1-8CF1-4DF0-82B6-E4E70AC9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7AF234-2021-4705-A85A-2B82093E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FDB52D-0DD6-487C-A33C-E55281BE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786B66-942F-4190-90EF-6CAC2565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FC55-21D0-446A-8A64-D05068CAB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D7B0E-D854-4575-865A-4708C50F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DC3CA-042C-476B-B04E-EB337C9A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EBC78-AD3C-4ECD-9C62-04C8263C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D013C-00BF-4ACA-A7AB-2847FBB8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F2228-1244-46BC-952B-F5343690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9623-A23B-4E49-A9D3-B04E98E845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9F9B7-7873-491C-A186-ADDF2A94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980B4-F24B-4530-B986-400B4A66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9DA32-4BA0-498A-8C75-9BB48ECC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1DB73-71C6-47E9-BF29-AC36D59F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48A11-04D8-4661-A33A-4B6BF5E8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03D41-1028-4089-BB27-303269DD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7FA6C-78DF-4D7D-8A2A-356C2302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128D5-1CB0-4BC8-BC32-CB1AF57C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2766FE-FED5-40CF-9307-E3DF8CD6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9005C7-2A46-448B-9019-14F1F901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7273-9FCE-4CD4-89F4-F85A7E947B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64FC8E-F1B6-46DF-B5D4-7B8BB328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F6E0FB-99F1-4071-A3BF-DEC4BA19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11F876-A2D9-4B25-B23C-259FF870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81391-1C65-4A20-A1A9-DC28EB76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24E3F1-AEEA-4D79-BC79-BF6D6CF6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82558F-6C87-44F2-9F02-E9649424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E82097-A63D-4CAF-8DE0-58ECE3F0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102770-910B-45B2-805D-09CFB4EF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83C581-048B-4B1B-9592-716E7FD9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9F4189-07FE-4535-97EF-E13A65AD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217E-1985-4F0A-A9CA-4860D71C8DB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384663-7692-4C6C-9DD8-72CF4436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E7E497-60F6-40D6-A1CB-14FADF80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1F9B1-50B1-4C1E-80FD-0A0A6635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B14451-332E-42B5-97F5-03A17F61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58277F-A65B-4051-8357-95E9F982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414066-25A8-4A6D-8349-2C6EEA4C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0D967-1F7A-488A-806A-D0FC4051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15EE4-C0FF-484C-8E34-65E193D6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F5B42A-A8F5-4BEF-8AF8-72D1B570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64D29E-F8DA-4652-83E8-DABB7C73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7107-0550-4BE3-9B48-C10898D2314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AAD03-60E4-4476-85FC-F4C9CE81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D4C835-123B-496C-9D60-D15CA748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E244F3-F48F-443D-8E72-5A99F9F7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5F1840-AAAF-4DDB-8A08-3B8086EF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E6994A-683E-498E-B1A3-16D6B6EC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439B2B-1466-4D10-8A0E-C4F10975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EE215D-9D41-4ED6-8A82-8543940D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6CFC7B-C776-4460-8C16-133E70AE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5CEF6A-870D-4D80-8D71-AE8B4EDE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D616BC-0AA8-4A36-A847-D87031AE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2E7B-7F55-459F-BBFE-D868DD3A860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8C12C1-3B78-4AAE-8D58-6A9B86F4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DAA0C3-8DDB-4EC4-8229-DA76042E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D7BDE2-EED9-4E4B-9141-1456A344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79C75D-3C32-4506-A8CF-95790044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FD8885-CC63-4388-BF53-56C33988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6548D3-58E8-468F-A58C-8EF83296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6ABE14-0520-4C8C-9E20-C9A7F289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3E9DB6-CA31-48F6-8E19-38F97297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34DBD8-4ECF-464C-B9AA-C398C2AB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794721-EA13-4CFF-A1B1-B76DEC75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6AF9-F7C6-4535-B0C1-35DA067D803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555338-F053-4CA6-96B1-24C793E7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23A8C6-4897-49C2-9C7B-D63144C8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4C2BA9-4BEF-498E-BEB6-9A79BDCE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041C55-757F-4E3F-8288-AB9F225E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E8D58C-25B9-442F-A8B8-F11D515B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866018-D35A-4641-8952-2C55CE05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B57811-75E9-49D0-9CFD-9677791E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42F09B-2ED1-4EC9-A42A-D0999A96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089171-1EA6-417D-A5EE-3DDAA053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415FCF-DD4F-4551-B3AF-51431E85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FF30-769C-4861-B08D-F33317C5541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A9B91A-4C32-46B4-BC2F-7734F0DE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C91F9D-2DE5-4ED1-A7BE-52E214F0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9F68FD-CFF0-42D8-ACC9-372B860B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6FCD5E-8D44-4095-A3A3-B75DA427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C9E907-691C-4218-8AD8-7BBED8CF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F7ECB8-CF7B-4FCC-9E17-69302F87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D2090F-E380-499C-9703-92CCC077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7C1ABE-86AA-424B-A08B-1A512AC5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99DF6B-3DD9-4750-96AB-F4BF0A86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0F1F2D-A77E-45CA-A5BE-DED78455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2" descr="bg2"/>
          <p:cNvPicPr/>
          <p:nvPr/>
        </p:nvPicPr>
        <p:blipFill>
          <a:blip r:embed="rId2"/>
          <a:stretch/>
        </p:blipFill>
        <p:spPr>
          <a:xfrm>
            <a:off x="-14400" y="-22320"/>
            <a:ext cx="917604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9188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23700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48EC117-860E-44AB-ACA4-8C94AC6430D3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115560"/>
            <a:ext cx="633564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102E-F3DB-4BE2-A197-7B7D0D131A8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EA4B-249C-4044-8B3D-115829D4D0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48AD-9B21-489D-B925-0D3265D1B4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593B-ECC6-4A2B-B721-AFF50DD447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7733-84FF-4148-B5DC-794989E2685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BB2A-7192-40F1-93F2-7D3718DDAA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7784-FA7C-486F-98F1-485F8D15C8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6EBE-B070-425F-A842-271BC66A84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B56E-EAD9-426B-A497-778979FCD3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C804-443B-42BF-8127-A0148C1BB7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4" descr="bg1"/>
          <p:cNvPicPr/>
          <p:nvPr/>
        </p:nvPicPr>
        <p:blipFill>
          <a:blip r:embed="rId2"/>
          <a:stretch/>
        </p:blipFill>
        <p:spPr>
          <a:xfrm>
            <a:off x="-31680" y="0"/>
            <a:ext cx="917568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09188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68000" y="115560"/>
            <a:ext cx="633564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8286-2576-4C2E-997A-9AB3305D8A3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6DDC-6416-4208-A079-DB2FD390E5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9509-E33A-497D-8192-0881E15E62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87D0-C4E9-4265-8AA7-88E61858DB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592E-2481-4CA4-BCC3-F14AA27151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9E73-4EC2-4262-A02E-BFB30D3558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6B5C-9F86-4B20-ADFB-62DC832AC4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1A7B-9A8E-4501-9DBD-411FC94636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8CD9-EE84-44A4-B0AF-A449CB23B2D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F043-B411-4D4F-ADF0-C0A55378C1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C507-8D76-4ED7-916A-1808800726E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8148-5F8E-44FB-8A14-7577F96D9D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68E4-94CF-4AEC-8AD3-9FE314A3FD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9212-156A-46D9-B5D8-557378DC4D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66560" y="35492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金钥匙商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WordArt 10"/>
          <p:cNvSpPr txBox="1"/>
          <p:nvPr/>
        </p:nvSpPr>
        <p:spPr>
          <a:xfrm>
            <a:off x="539640" y="2421000"/>
            <a:ext cx="48135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单击此处添加标题文字</a:t>
            </a:r>
            <a:endParaRPr b="1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3" name="WordArt 11"/>
          <p:cNvSpPr txBox="1"/>
          <p:nvPr/>
        </p:nvSpPr>
        <p:spPr>
          <a:xfrm>
            <a:off x="-4273920" y="2673360"/>
            <a:ext cx="4813560" cy="3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000000">
                        <a:alpha val="37254"/>
                      </a:srgbClr>
                    </a:gs>
                  </a:gsLst>
                  <a:lin ang="5400000"/>
                </a:gradFill>
                <a:latin typeface="黑体"/>
              </a:rPr>
              <a:t>单击此处添加标题文字</a:t>
            </a:r>
            <a:endParaRPr b="1" i="1" lang="en-US" sz="2400" spc="-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37254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633564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109188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Administrator</dc:creator>
  <dc:description/>
  <dc:language>en-US</dc:language>
  <cp:lastModifiedBy>a</cp:lastModifiedBy>
  <dcterms:modified xsi:type="dcterms:W3CDTF">2014-12-15T17:49:36Z</dcterms:modified>
  <cp:revision>25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