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135-E360-49BC-8CA4-307EF26C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A76-F74D-4153-AA92-6AE6D401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993-4DB5-4FAC-B82F-6151F70E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F41-45CC-46A0-81CF-BBEFA154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7F4F-82F9-476D-B474-B3981A77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F210-AE65-4F14-B2D3-209791A4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DA0F-974E-4D55-A072-7A6D1ABF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E2E4-CB69-418E-B11A-A691DB9E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9CF2-17EB-4C89-A3EA-91C6581B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4D10-AF48-4ECA-8381-087FE890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B512-9E2C-4434-8CFC-2B4FB24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48C-AE83-4403-AADB-F10DA084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00F4-6C7A-4E02-846B-35469DC6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1871-0326-4186-A794-584AAA5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4145-8100-4CE0-B9D5-DF9AD888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059A-E3A6-475D-B0E5-E5E7DE94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335B-FD99-417E-B052-331A34E6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FAC-AD6D-4370-BB80-2C52B27C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DDB-BAC2-4B44-A997-DFEC0855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20D-F036-443D-A037-6A3C722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FD7-093B-42E8-ACF8-ECB659FF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389-28F4-4CE2-AFB2-8A8CB8F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697-C6C6-4DF7-B6CA-BA29703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A66-AA41-4CB6-93CD-3B06A4C4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89D2-B04D-4B1B-B469-0FD55722EB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E475-18E0-47E8-A155-C78F3B75F1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B496-3EAD-4BCA-9A67-3D8D0F10CE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8042912444646[1]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1[1]_副本"/>
          <p:cNvPicPr/>
          <p:nvPr/>
        </p:nvPicPr>
        <p:blipFill>
          <a:blip r:embed="rId1"/>
          <a:stretch/>
        </p:blipFill>
        <p:spPr>
          <a:xfrm>
            <a:off x="-104760" y="-23760"/>
            <a:ext cx="928512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21:17:55Z</dcterms:created>
  <dc:creator>Administrator</dc:creator>
  <dc:description/>
  <cp:keywords/>
  <dc:language>en-US</dc:language>
  <cp:lastModifiedBy>a</cp:lastModifiedBy>
  <dcterms:modified xsi:type="dcterms:W3CDTF">2014-05-22T01:24:0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