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0AA-5439-4E9D-BB17-265DE6F9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E39-C64B-4EA5-BAEE-DE3BAD2A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DA2-767B-4904-9F98-ECE9A24E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95B-9C93-489E-B2FB-99DAC891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A5B-60CD-4811-9C6E-1B86CC1B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CB84-9017-43BB-A986-0959C523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D847-2B3A-442C-BB8E-441E9AD1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13AA-55C9-4849-AD99-CBD7E428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7BFA-926F-47AB-8882-E595D023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0097-E01E-4965-8D4B-3B5681B2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559-5247-42C4-B1C8-0F307689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F403-F912-43C8-B312-D9633328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60FF-39B0-41C2-B8F5-60098CDF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79B2-8D51-4B55-9DFF-9F0D6C84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303D-7A3B-4AAD-B2BD-66975376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5A38-50D3-4E3F-823F-87945138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559B-8EEB-4338-9FB8-0C21496B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5374-1D33-468C-9A97-376E611E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96CF-8207-48E8-9446-F01CF482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8FC4A-BFBB-493B-97E2-82B27B18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BFDA-C006-4EDE-8D48-511D6AC3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328-A056-49D7-8499-F87660DE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6A50-CEB5-44E2-9985-81E24EFF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04099-AB96-4ADF-AFDE-42E4FF20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8EF21-4555-4AB4-AB27-D1299E05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ABFD8-7CEC-4FCD-BF75-F2777D4E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AF8E1-C950-4412-B6A8-399B2322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B1560-D6FF-4863-8315-C6485E10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043AA-5C83-4026-B240-7196C57A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7640-054A-4B99-B484-924836AE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73D72-5946-439B-A25E-3550060C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B79-CCAA-45BA-8D03-028E63EA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E3C-A4B2-4319-AFC7-366D6C60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97C-6F4A-4DD5-B9A8-89289569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EEB-9BD6-4FE4-9C65-C9BE8F8E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BBC-0498-453C-8389-E6BFE199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4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1EC0-7B96-4A13-833A-AC0130D64F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8">
            <a:hlinkClick r:id="rId4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3ADB-7660-4F74-B4B7-21FE22417FD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96E4-E965-4733-A1C3-9E974237C1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4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116856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5812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C2B6-9D88-4C18-994A-5336947A28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简约钢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35053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首页主标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粗；副标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页标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粗；内页内容文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（宋体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标题 1"/>
          <p:cNvSpPr/>
          <p:nvPr/>
        </p:nvSpPr>
        <p:spPr>
          <a:xfrm>
            <a:off x="3276720" y="2571840"/>
            <a:ext cx="43099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48:25Z</dcterms:created>
  <dc:creator/>
  <dc:description/>
  <dc:language>en-US</dc:language>
  <cp:lastModifiedBy>a</cp:lastModifiedBy>
  <dcterms:modified xsi:type="dcterms:W3CDTF">2014-12-15T17:44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