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F514B-3078-416E-B706-6C78BADC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20B7-602F-465E-BFED-56E4BCB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34F8-C21D-42FB-BF2C-4FB6568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F0D6-5A9C-46BD-83C7-A3ACDF6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7C1A-CD65-4D3A-BE97-185890A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C73D-C8CC-40BB-AF59-8FF52D3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D4F6-AE27-4ED2-835C-BA232F4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3B72-6417-4E85-8218-A42F581C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AB44-45B7-46E5-8BA1-2FA7B668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401DF-B8EA-4E28-AD00-2753C71D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4FC51-B139-4E15-A21B-06DF8580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DD52B-E9D8-42FD-99D6-DF77AAF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62D0-E7C4-48F1-B31B-FCA5559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FEC62-6B58-476C-8101-641E887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6E12C-EFC5-4B63-A8C0-805F1DD1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14AB-69A1-4ABE-B344-5D55436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6ADC8-5E30-4F5E-8DF8-2EE2753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B2EA-0583-4AFE-A593-04C802D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32137-4561-4409-ADB1-AE3571CD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54A0A-1867-466E-A7E0-4539A7E8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21307-1242-4875-864C-33B4BB9E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200A2-0A94-4463-96F9-818099B0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FB639-2BCE-489F-96A7-119AB847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6C732-10FC-4C9A-98F4-CAB0D7CB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0128D-4D58-4C87-99F8-2E49F69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2DB9-D663-4859-B022-1177CF8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1BF8-8B85-46EF-95FD-FADEF07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F7252-1AE2-46D2-8419-5979225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76C5E-E752-412B-A7C6-A6D7372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C385C-AD49-4230-AEAC-69280E52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D7208-D674-4FE7-B2D8-E6E9CDA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2B491-57A1-4700-8615-42E75C15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86AAB-D501-4800-A3C5-E82166D2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A537A-E549-4514-BA5B-B201AF04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DCA2E-B20B-4AB9-A83E-B459D04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C0D26-5C0B-4B20-9ADF-71421F6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561D0-DFC5-4F03-BCA6-8F72768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DB04D-AEDF-42D5-AE18-8498AEB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EC801-9210-4417-9D18-C0672B36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BAB6B-D8B9-47C4-9981-BBC53BAB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E839A-C27A-4DA8-9B05-0777445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F2AB5-5C69-4700-9431-5B1AB2D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67E0A-2C35-418F-9F9D-2DA3E13F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32454-DFB8-4CA7-9EC8-4986F2B6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A3AF0-EBB0-4447-B825-3E2D163E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8C47F-EDA7-49C0-BD31-9A40AA80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170D3-8D37-4341-8B4C-8D24AE32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EC056-4B22-49E4-8094-A7EAE0F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CB4A4-C9AE-4EFE-AB47-F16406AB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DB39B-2523-48A7-8640-BD2D6BF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D97F-8372-4346-9ACB-D4D1052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4C57-00B2-4ACC-8044-5F9E99E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68C62-980A-4CF2-BFB0-F471C9B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359A-B026-4C20-B0B4-D9FC7FE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1FA78-9A21-408D-B55C-64CB419F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7A5F-75E3-4468-AC6C-7D4B32C4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71C85-67DA-4A8B-A7A7-8FC43EE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8B178-5E1B-479D-BA9D-2077216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0A6C5-31C6-4F49-9CAC-35B6C2A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A43A-B12C-49CB-B4C7-88728440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26B5B-269C-4AB9-AEA1-F9DB7D71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96235-122C-4D28-A9EB-ABA75911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42296-5CBB-40BE-A29B-CB78DC15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D7F10-62D6-4FD6-8C6C-7080B4A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0B4C3-1F9F-400B-91D7-07A5DC7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B76C5-0628-404E-B765-5BE1BE7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AA3F9-3C78-4036-B9BA-1B49CCE0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EEEE2-831C-4D6C-A031-03BE4165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C8C53-2393-40BB-B907-1A0CF591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BAC-8103-4062-A864-636EDA77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E82-9B9C-4246-81D5-29BAD11E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85C-3B21-45E1-A977-830C5DF1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945-3CC4-4BEB-A631-70173996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860-27AE-46A8-A9DA-0E4EE8BA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18C-53C5-479E-A80A-8D089BD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B76-18D9-4D9D-AB81-35CAE79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7F0-E212-42B3-B8C3-A384F45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D3D-DD94-430C-A01A-0ACDB17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582-78E4-4F98-A97E-220E9A8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A68-1744-4C0D-8B76-9CFA9A54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323-E753-486E-8FA3-601E5FFA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B8B-0820-40F3-8C06-EB3DF5D7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8E1B-B82C-4CD8-AEFA-CF56246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9375-AF82-41A3-9A7D-D5C650F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01F1-BBC1-4607-A20B-6303EEE6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EA10-8054-40B5-8C5F-B470FE92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F8B3-1CFB-4772-8004-24164800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5D65-8B20-444B-8D6E-EEE5013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336-A876-48AB-95F6-F89EE81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1C2A-74CB-48F1-A0AF-DE67D4C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454B-EC7B-46A5-A03A-BD70EB31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63D-9D14-4BC3-8BDC-35583A59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5A5-9A2F-4A49-A64D-FF7122E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9F7F-1444-4CE9-868A-CA986DC3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F0F3-55CB-4217-8BD9-7D16918D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9658-2BD2-4258-A66D-FB0ADDC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62C8-221B-429D-866A-4C5F7906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0479-B60B-4ABD-A0BF-095325D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AC31-EB54-44A7-A627-887E57E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3069-F75A-495B-BF55-ACABEAE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4968-3A28-48D3-B269-BFCD797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D010-DF44-47DD-BBB0-49EF3CD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F2C3-06A2-4E18-B584-CD7545B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0AAF-C865-4E4C-8942-DE9DF647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DB25-265C-45C3-A400-AFA31328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3C65-8FA5-4185-9020-0134038A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0B954-3FB9-4AE2-875D-5D11EDF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211F-46E6-400E-9ECA-88C60F73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3606-9AE3-479E-A093-99C2F9CA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C6E0-D69E-4CF1-BF61-FA81E51B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B96F-CF77-4678-ACD2-6549DB3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B9E3-A378-4B18-B087-0E396A7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77E5-7371-406E-97A7-EAB4EC4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5D2D-0918-49DD-8BD3-3C12D8B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ADF6-EE3E-42DE-9290-9CD179A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E38F-0DC4-4FBB-B0B7-CCA0CA05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35E1D-AD1D-4EC2-8345-374D6783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4A79-3566-4212-AE28-74B0884D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9BA3-15BF-4C6E-AD58-0BAEF2F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DAD9D-0271-4BA8-B54B-8769CC9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F3C6-BDA5-41FD-BF7F-84AAC45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B05E-499B-4F12-AFB4-96F561C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2305-526B-47A6-ADC0-9EF8CC4D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3ED3-7DCB-465F-BA6F-A44BFAF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636BA-5E27-48DF-AA08-FBC1B8E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6BA8-5CAF-4E42-8A7E-87E3470F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59A7-8074-47A8-BDBF-90BBADC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1B5D-D82D-4DFA-A66E-2E19008F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C23D-AEBD-4D9A-958A-89DE34E5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ACBB-27E1-459B-A331-E37D6F88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2979-C8E7-407C-9A39-676DAFAA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F8D0-4A40-4024-B397-E1899D4D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DEFF-D81B-4574-9361-6D675DE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C202F-9FED-41A4-9B89-98E10675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1736-D837-42BE-82DB-A543F9B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D71C-8C32-4327-AD61-FB1383E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95E0-9243-450B-9752-9E9007D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2A43B-A296-47BC-A6DC-2AAD042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E8DF-FB87-4A2A-BA28-667EC180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0EFD-3E15-4FF8-A340-19990917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43D5D-938B-42A3-9BEE-37356754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9348B-977A-41A7-AF90-F116B0BA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0C6B8-BB0B-4D1B-92E3-DB5F5A5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02031-EA03-41C2-90B0-DFD9C21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38160"/>
            <a:ext cx="8886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29492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5A3-9436-48E7-B817-93257E41F38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BDF-059F-4154-895F-E5F9F6922E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8CFA-23D9-4FD8-93D2-ABFA19DBE21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8408-75ED-44AC-82DE-06D664B524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8B3-753E-48ED-8F22-79F4A4A446F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5A7-DB51-4DB6-9414-FFFFE13055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437-366E-4BFD-A323-1F6C7C12C7E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6FC-0D24-4495-A1EB-E915D80ADA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5E9-E1C7-4691-8639-D077385E4FE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0CB8-1E12-4DF4-B102-A47735E25A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760" y="38160"/>
            <a:ext cx="8886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129492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682-51A8-4230-BAB5-066FC3B7960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42A-6691-4CBA-8822-EAD8075445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C9E-AA78-4098-BEEB-EBEB26F644F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F411-6380-42BC-9D93-CE71BE9FD7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A49-EBA3-4E78-8873-F849241BA9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A967-85CD-4245-84BE-D3636E24F8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8DF-28DF-4A7E-A7FE-A3D34027987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9C2-5132-4176-B25D-A432A0DF5F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A0D2-0DD6-4706-AE67-2BD1118019A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ED1-1D62-4A46-A9E5-5B27BE491A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EC99-5E31-4E0F-BD49-1FD923925A7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3D9-E0C4-4CEC-B5F1-A6326C033F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32A4-1698-41A5-A026-4C75484ADC2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DEC-4676-4A22-A8B9-183E3E04F7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5076720" y="693720"/>
            <a:ext cx="3818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禁烟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模板免费下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39280" y="1901520"/>
            <a:ext cx="7921800" cy="34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输入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06200" y="188640"/>
            <a:ext cx="8886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输入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输入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输入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6:03:27Z</dcterms:created>
  <dc:creator>willon</dc:creator>
  <dc:description/>
  <dc:language>en-US</dc:language>
  <cp:lastModifiedBy>a</cp:lastModifiedBy>
  <dcterms:modified xsi:type="dcterms:W3CDTF">2014-12-15T17:41:01Z</dcterms:modified>
  <cp:revision>4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