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05B-CFCE-4B25-9491-2ED4A42F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4F4-078D-42F6-83D8-1A8A070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2A3-615D-4948-A89E-6DFBDF14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E89-4F0A-4C14-919E-8C59D82F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D876-E400-4DFB-970E-9655AD60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6EA-9218-4D9C-AABC-5BB4513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9AD3-DFFC-4079-8935-C44E7ED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B3FA-1AE9-42DD-BD64-5E3B65F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52B-7B50-4AA5-966B-D425CA45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185-A724-4EDE-AD5B-950B079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2A18-021D-4365-B142-F51397A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0BE-904C-4592-AF0B-EDC30F8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CF3C-1A1D-4860-B806-4B9918CD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C82-FDAF-4390-ADB2-9B7554C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9974-2857-4830-BDF3-917971A8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90A1-E3C7-498F-BA03-AD23991A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04C2-68BD-4925-A621-363786B6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D042-561D-4ADE-93F0-52E34240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85AF-DF87-4ADC-B676-B9A0EED3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3F08-61D1-4FE7-86FD-0EE7323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9C00-5A86-4838-8226-F282784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4A71-E63E-4D1F-97A6-47946DA5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F2E-B645-4815-A350-A4E4FD8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A1F1-F911-45DD-967F-796C878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D390-3650-4067-BC49-1FCF253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6E37-5824-49B3-937A-7138B14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EE69-0606-4D0D-8294-F6B3E04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9464-35D8-4CD7-AE0A-57641E6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4CC0-1CD4-463A-8CF6-A3E7EAA8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D108-3B34-405B-8C7B-87BA8954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FF9-09A2-4C93-AF08-A25777F0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44A-638E-4297-8780-D2E5473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860-515C-4CC3-8215-5676471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F73-2A29-4248-9C24-C609FCC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638-4925-4C3A-88A5-C8BD772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E0F-B81C-45E3-8035-9989F16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olden_wheat_harvest-wallpaper-2560x1600"/>
          <p:cNvPicPr/>
          <p:nvPr/>
        </p:nvPicPr>
        <p:blipFill>
          <a:blip r:embed="rId2"/>
          <a:srcRect l="0" t="70935" r="0" b="0"/>
          <a:stretch/>
        </p:blipFill>
        <p:spPr>
          <a:xfrm>
            <a:off x="0" y="4075200"/>
            <a:ext cx="9144000" cy="16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08F-A578-4754-B832-C75325F74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31840"/>
            <a:ext cx="7067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35280" y="1344240"/>
            <a:ext cx="70675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686B-17CC-44C1-B7B1-FBA0EA6CA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golden_wheat_harvest-wallpaper-2560x1600"/>
          <p:cNvPicPr/>
          <p:nvPr/>
        </p:nvPicPr>
        <p:blipFill>
          <a:blip r:embed="rId2"/>
          <a:srcRect l="0" t="0" r="82142" b="0"/>
          <a:stretch/>
        </p:blipFill>
        <p:spPr>
          <a:xfrm>
            <a:off x="0" y="22320"/>
            <a:ext cx="163368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lden_wheat_harvest-wallpaper-2560x1600"/>
          <p:cNvPicPr/>
          <p:nvPr/>
        </p:nvPicPr>
        <p:blipFill>
          <a:blip r:embed="rId2"/>
          <a:srcRect l="0" t="0" r="0" b="74690"/>
          <a:stretch/>
        </p:blipFill>
        <p:spPr>
          <a:xfrm>
            <a:off x="0" y="223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CF69-FDF4-4A43-99E0-939DD8A36B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-9360" y="3182760"/>
            <a:ext cx="91533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5280" y="231840"/>
            <a:ext cx="7067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5280" y="1344240"/>
            <a:ext cx="70675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55240"/>
            <a:ext cx="84247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3546360"/>
            <a:ext cx="8281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>a</cp:lastModifiedBy>
  <dcterms:modified xsi:type="dcterms:W3CDTF">2014-12-21T05:47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