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063-0BBE-4D2F-9E7F-9EC76984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D4E-6184-48C5-B83A-F31B34D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C3F-715A-4CEF-9949-8D6C0D22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577-3D41-45AD-AF8F-76BBC5B7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9E4-A56B-46BD-8633-5969A61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25C-A301-44F4-86AA-61B24BF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921-3C10-4C72-ACB3-1AF2593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F2F-B881-4388-95FE-C4A2D9EE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3C3-8522-4CAE-BCE7-B6ACBD20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BFC-1475-4991-B873-70952CA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B3F-D1C2-4126-80C7-2836DF9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ABC-46BD-43C3-8BA5-A968A3D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477-6BFF-4D32-ADF7-69C5B1F73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388360" y="0"/>
            <a:ext cx="755640" cy="1916280"/>
          </a:xfrm>
          <a:prstGeom prst="rect">
            <a:avLst/>
          </a:prstGeom>
          <a:solidFill>
            <a:srgbClr val="00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02000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704000" y="0"/>
            <a:ext cx="755640" cy="31417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388360" y="1916280"/>
            <a:ext cx="755640" cy="4941720"/>
          </a:xfrm>
          <a:prstGeom prst="rect">
            <a:avLst/>
          </a:prstGeom>
          <a:solidFill>
            <a:srgbClr val="ff00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04000" y="3141720"/>
            <a:ext cx="755640" cy="371628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02000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0" y="1440"/>
            <a:ext cx="7020000" cy="6856560"/>
            <a:chOff x="0" y="1440"/>
            <a:chExt cx="7020000" cy="6856560"/>
          </a:xfrm>
        </p:grpSpPr>
        <p:pic>
          <p:nvPicPr>
            <p:cNvPr id="48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0" y="1440"/>
              <a:ext cx="7020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 rot="20940000">
              <a:off x="62820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 rot="20580000">
              <a:off x="210960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69140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75760" y="0"/>
            <a:ext cx="75564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375760" y="3141720"/>
            <a:ext cx="75564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9140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673200" y="0"/>
            <a:ext cx="7018200" cy="6856560"/>
            <a:chOff x="673200" y="0"/>
            <a:chExt cx="7018200" cy="6856560"/>
          </a:xfrm>
        </p:grpSpPr>
        <p:pic>
          <p:nvPicPr>
            <p:cNvPr id="58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673200" y="0"/>
              <a:ext cx="70182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 rot="20940000">
              <a:off x="11890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 rot="20580000">
              <a:off x="2669400" y="314100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539640" y="1411200"/>
            <a:ext cx="2303640" cy="1079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59280" y="1427040"/>
            <a:ext cx="3600360" cy="10796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39640" y="2709720"/>
            <a:ext cx="1584360" cy="1079640"/>
          </a:xfrm>
          <a:prstGeom prst="rect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简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85000" y="1427040"/>
            <a:ext cx="1719360" cy="1079640"/>
          </a:xfrm>
          <a:prstGeom prst="rect">
            <a:avLst/>
          </a:pr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79760" y="2709720"/>
            <a:ext cx="1719360" cy="1079640"/>
          </a:xfrm>
          <a:prstGeom prst="rect">
            <a:avLst/>
          </a:prstGeom>
          <a:solidFill>
            <a:srgbClr val="8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315120" y="2709720"/>
            <a:ext cx="2289240" cy="10796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简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9640" y="4005360"/>
            <a:ext cx="1944720" cy="107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716200" y="4005360"/>
            <a:ext cx="2503440" cy="1079280"/>
          </a:xfrm>
          <a:prstGeom prst="rect">
            <a:avLst/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435640" y="4005360"/>
            <a:ext cx="3168720" cy="107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言简意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325600" y="2709720"/>
            <a:ext cx="1830600" cy="1079640"/>
          </a:xfrm>
          <a:prstGeom prst="rect">
            <a:avLst/>
          </a:prstGeom>
          <a:solidFill>
            <a:srgbClr val="3333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917640" y="727200"/>
            <a:ext cx="34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什么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833560" y="2479680"/>
            <a:ext cx="38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Bookman Old Style"/>
              </a:rPr>
              <a:t>Mayb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097160" y="2425680"/>
            <a:ext cx="21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Bookman Old Style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 flipH="1">
            <a:off x="2483640" y="320976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□ □ □ □ □ 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8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838512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68160" y="0"/>
            <a:ext cx="75600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68160" y="3141720"/>
            <a:ext cx="75600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38512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1346040" y="1440"/>
            <a:ext cx="7039080" cy="6856560"/>
            <a:chOff x="1346040" y="1440"/>
            <a:chExt cx="7039080" cy="6856560"/>
          </a:xfrm>
        </p:grpSpPr>
        <p:pic>
          <p:nvPicPr>
            <p:cNvPr id="82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1365120" y="1440"/>
              <a:ext cx="7020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 rot="20940000">
              <a:off x="14680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 rot="20580000">
              <a:off x="294948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539640" y="1411200"/>
            <a:ext cx="2303640" cy="10796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059280" y="1427040"/>
            <a:ext cx="360036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美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9640" y="2709720"/>
            <a:ext cx="1584360" cy="1079640"/>
          </a:xfrm>
          <a:prstGeom prst="rect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美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85000" y="1427040"/>
            <a:ext cx="1719360" cy="107964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379760" y="2709720"/>
            <a:ext cx="1719360" cy="1079640"/>
          </a:xfrm>
          <a:prstGeom prst="rect">
            <a:avLst/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优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315120" y="2709720"/>
            <a:ext cx="2289240" cy="107964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善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9640" y="4005360"/>
            <a:ext cx="1944720" cy="107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716200" y="4005360"/>
            <a:ext cx="2503440" cy="1079280"/>
          </a:xfrm>
          <a:prstGeom prst="rect">
            <a:avLst/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唯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435640" y="4005360"/>
            <a:ext cx="3168720" cy="107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2325600" y="2709720"/>
            <a:ext cx="1830600" cy="107964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917640" y="727200"/>
            <a:ext cx="34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什么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762280" y="2479680"/>
            <a:ext cx="382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man Old Style"/>
                <a:ea typeface="微软雅黑"/>
              </a:rPr>
              <a:t>也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564000" y="2479680"/>
            <a:ext cx="211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ookman Old Style"/>
                <a:ea typeface="微软雅黑"/>
              </a:rPr>
              <a:t>就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 flipH="1">
            <a:off x="2483640" y="3209760"/>
            <a:ext cx="38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□ □ □ □ □ 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8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349280" y="0"/>
            <a:ext cx="755640" cy="415620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8160" y="0"/>
            <a:ext cx="756000" cy="314172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68160" y="3141720"/>
            <a:ext cx="756000" cy="37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49280" y="4156200"/>
            <a:ext cx="755640" cy="2701800"/>
          </a:xfrm>
          <a:prstGeom prst="rect">
            <a:avLst/>
          </a:prstGeom>
          <a:solidFill>
            <a:srgbClr val="3399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4680" y="0"/>
            <a:ext cx="747720" cy="1916280"/>
          </a:xfrm>
          <a:prstGeom prst="rect">
            <a:avLst/>
          </a:prstGeom>
          <a:solidFill>
            <a:srgbClr val="00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Arial"/>
                <a:ea typeface="方正行楷简体"/>
              </a:rPr>
              <a:t>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4680" y="1916280"/>
            <a:ext cx="747720" cy="494172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117880" y="1440"/>
            <a:ext cx="7019640" cy="6856560"/>
            <a:chOff x="2117880" y="1440"/>
            <a:chExt cx="7019640" cy="6856560"/>
          </a:xfrm>
        </p:grpSpPr>
        <p:pic>
          <p:nvPicPr>
            <p:cNvPr id="106" name="Picture 9" descr="C:\Documents and Settings\Administrator\桌面\20120320150307363.jpg20120320150307363"/>
            <p:cNvPicPr/>
            <p:nvPr/>
          </p:nvPicPr>
          <p:blipFill>
            <a:blip r:embed="rId1">
              <a:lum bright="70000" contrast="-70000"/>
            </a:blip>
            <a:srcRect l="8587" t="0" r="12839" b="0"/>
            <a:stretch/>
          </p:blipFill>
          <p:spPr>
            <a:xfrm>
              <a:off x="2117880" y="1440"/>
              <a:ext cx="70196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/>
            <p:cNvSpPr/>
            <p:nvPr/>
          </p:nvSpPr>
          <p:spPr>
            <a:xfrm rot="20940000">
              <a:off x="2526480" y="1434600"/>
              <a:ext cx="4460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600" spc="-1" strike="noStrike">
                  <a:solidFill>
                    <a:srgbClr val="ffffcc"/>
                  </a:solidFill>
                  <a:latin typeface="Brush Script Std"/>
                </a:rPr>
                <a:t>Simple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 rot="20580000">
              <a:off x="4007880" y="3141360"/>
              <a:ext cx="405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Brush Script Std"/>
                </a:rPr>
                <a:t>Beautifu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25520" y="1411200"/>
            <a:ext cx="3600360" cy="1079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约≠简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5520" y="2779560"/>
            <a:ext cx="3600360" cy="10796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约即时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5520" y="4156200"/>
            <a:ext cx="3600360" cy="1079280"/>
          </a:xfrm>
          <a:prstGeom prst="rect">
            <a:avLst/>
          </a:prstGeom>
          <a:solidFill>
            <a:srgbClr val="ff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&amp;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92000" y="153036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约不等于简单，它是经过深思熟虑后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得出的设计和思路的延展，不是简单的“堆砌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和平淡的“摆放”，它不是粗浅的“直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70480" y="2805120"/>
            <a:ext cx="261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单的东西，没有加入太多累赘的元素，相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更注重生活品味、注重健康时尚、注重合理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约科学。简单是现代的一种时尚观，前卫却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受拘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57880" y="429084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&amp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美有一个共通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强调功能性设计，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条简约流畅，色彩对比强烈，很容易就吸引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众的眼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303280" y="1989000"/>
            <a:ext cx="45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美的东西从来都无需太多华丽的陪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只要简简单单，就足够美丽。美，或许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在平常处，最简单的也许就是最美的。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惜您身边每一位简单的人，每一处简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风景，将每一个平平淡淡的日子过得细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方正行楷简体"/>
              </a:rPr>
              <a:t>长流。幸福，其实就这么简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4428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886840" y="227664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cc00"/>
                </a:solidFill>
                <a:latin typeface="Arial"/>
                <a:ea typeface="微软雅黑"/>
              </a:rPr>
              <a:t>谢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660066"/>
                </a:solidFill>
                <a:latin typeface="Arial"/>
                <a:ea typeface="微软雅黑"/>
              </a:rPr>
              <a:t>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59480" y="0"/>
            <a:ext cx="593640" cy="6858000"/>
          </a:xfrm>
          <a:prstGeom prst="rect">
            <a:avLst/>
          </a:prstGeom>
          <a:solidFill>
            <a:srgbClr val="00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420520" y="318276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微软雅黑"/>
              </a:rPr>
              <a:t>观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ff6699"/>
                </a:solidFill>
                <a:latin typeface="Arial"/>
                <a:ea typeface="微软雅黑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659480" y="4587840"/>
            <a:ext cx="2652480" cy="13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600280" y="1844640"/>
            <a:ext cx="2652840" cy="13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04:31:06Z</dcterms:created>
  <dc:creator>Administrator</dc:creator>
  <dc:description/>
  <dc:language>en-US</dc:language>
  <cp:lastModifiedBy>a</cp:lastModifiedBy>
  <dcterms:modified xsi:type="dcterms:W3CDTF">2014-12-31T03:56:06Z</dcterms:modified>
  <cp:revision>48</cp:revision>
  <dc:subject/>
  <dc:title>简·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