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C064-ADFF-4049-8B1E-48E2979F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82296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9480"/>
            <a:ext cx="82296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3196-5C66-4F18-BFD3-EAEBCF74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5412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948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948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367E-6B41-4631-AF76-4214C64C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26496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54120"/>
            <a:ext cx="26496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54120"/>
            <a:ext cx="26496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9480"/>
            <a:ext cx="26496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9480"/>
            <a:ext cx="26496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9480"/>
            <a:ext cx="26496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2104-ADAB-45C0-A673-1975B552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C25F-0AFE-4487-8085-9B98339B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5412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7B7E-3970-4E93-99A9-44A7ABEE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B816-AF1F-4B26-ACA4-11C24E65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4015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54120"/>
            <a:ext cx="4015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A654-203E-4789-A3A0-8B1D1E10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6F7A-CF51-4E48-8F89-42B37F34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960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EA9F-6D87-4CFF-9AB0-4D446179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54120"/>
            <a:ext cx="4015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948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EC96-6422-4D8C-9B8B-125DB0D0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5412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4006-E1C1-480D-9D4D-C6F3AD81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4015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5412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948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3BE4-9C8F-4348-98B3-0D3168A4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5412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9480"/>
            <a:ext cx="82296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7D38-76D7-46C5-8108-B898AE67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82296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9480"/>
            <a:ext cx="82296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A2C7-5691-4706-BA70-7633979B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5412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948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948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D67C-215E-40DD-9005-1E00EF28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26496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54120"/>
            <a:ext cx="26496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54120"/>
            <a:ext cx="26496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9480"/>
            <a:ext cx="26496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9480"/>
            <a:ext cx="26496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9480"/>
            <a:ext cx="26496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9E87-EB4B-406F-940B-BF888676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5412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4015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54120"/>
            <a:ext cx="4015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F074-B151-4236-98B7-1782937D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960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54120"/>
            <a:ext cx="4015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4948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4015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5412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84948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5412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849480"/>
            <a:ext cx="82296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82296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849480"/>
            <a:ext cx="82296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5412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4948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84948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26496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54120"/>
            <a:ext cx="26496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54120"/>
            <a:ext cx="26496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849480"/>
            <a:ext cx="26496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849480"/>
            <a:ext cx="26496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849480"/>
            <a:ext cx="26496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4015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54120"/>
            <a:ext cx="4015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1D03-CE7E-4E2F-8AF5-52482E67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4E80-5D86-42AC-88DD-7AA3FE9F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960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18FA-EF9B-4E9E-8CA4-4377BA74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54120"/>
            <a:ext cx="4015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948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F424-42F3-4783-A364-14E7EE96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4015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5412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948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B51-6827-4EFF-8016-2530C5D9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54120"/>
            <a:ext cx="40158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9480"/>
            <a:ext cx="822960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B67B-3291-4A37-A564-5D9BEEC7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53760"/>
            <a:ext cx="82296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64200"/>
            <a:ext cx="21337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64200"/>
            <a:ext cx="28958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64200"/>
            <a:ext cx="21337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09CF-84F4-4BC4-8DBA-1BF3AEFBF1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5412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09520" indent="-2206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52680" indent="-2206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96920" indent="-22068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96920" indent="-22068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96920" indent="-22068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063840"/>
            <a:ext cx="21337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7705-A142-4AB9-9CA9-124378258782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63840"/>
            <a:ext cx="28958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63840"/>
            <a:ext cx="21337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698E-7130-418F-941D-647D66406AAA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53760"/>
            <a:ext cx="82296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114360"/>
            <a:ext cx="7772400" cy="1173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昆虫总动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483080"/>
            <a:ext cx="6400800" cy="9921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53760"/>
            <a:ext cx="82296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53760"/>
            <a:ext cx="82296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131760" y="0"/>
            <a:ext cx="8221680" cy="6659280"/>
            <a:chOff x="131760" y="0"/>
            <a:chExt cx="8221680" cy="6659280"/>
          </a:xfrm>
        </p:grpSpPr>
        <p:sp>
          <p:nvSpPr>
            <p:cNvPr id="127" name="矩形 4"/>
            <p:cNvSpPr/>
            <p:nvPr/>
          </p:nvSpPr>
          <p:spPr>
            <a:xfrm>
              <a:off x="802440" y="0"/>
              <a:ext cx="6419160" cy="6732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31760" y="1664640"/>
              <a:ext cx="8221680" cy="499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Box 7"/>
            <p:cNvSpPr/>
            <p:nvPr/>
          </p:nvSpPr>
          <p:spPr>
            <a:xfrm rot="20926800">
              <a:off x="1995840" y="3463200"/>
              <a:ext cx="4532400" cy="11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1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1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1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1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1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3:46:35Z</dcterms:created>
  <dc:creator>Administrator</dc:creator>
  <dc:description/>
  <dc:language>en-US</dc:language>
  <cp:lastModifiedBy>a</cp:lastModifiedBy>
  <dcterms:modified xsi:type="dcterms:W3CDTF">2014-12-21T03:41:4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