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4A0-C183-4010-B652-A456929B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829-D969-4C3A-BA03-481423A7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26104-01B7-4DC0-80D0-31714F26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5AEB4-D146-47DC-BCEC-5236ADA4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364D5-FE3B-407E-B178-59E62435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ADFF8-AE1F-4B8A-A816-CE9413F2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B6D98-F745-4293-998B-996A5F7F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9E356-3375-4411-9C4E-545E6A5D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94E46-9D61-4020-8653-06DBFFAC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030C5-A745-42DE-8B9B-08EEFC3A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32091-1E3F-4CF3-B6F1-6A968366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6B9DE-64B1-42BC-B1E8-214415E2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CFA-E4E9-4FE2-A93B-60D81626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15F70-89D6-455A-A005-C43AD6C4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591EA-989A-450B-8033-E3D9B837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8D926-A376-40E3-8EA5-F58BB75E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8BCAF-C143-4781-8677-ECDA7327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FD040-9684-4485-B583-01028F09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42BF2-065D-4888-93E0-C42691C6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A699C-148A-4D88-BB54-F57D8D19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855AD-1A30-4D86-8A78-B97D2ED6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F3C56-2B70-4431-922C-B2635C05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7A9DC-A197-40B4-8839-4BD044F5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7FA-E8B1-4ED3-AF55-69EE3EA7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F9264-9191-4EF8-9057-D83DF362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870ED-9747-4471-ADA1-942A180A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51A1B-EE4D-4CFE-A673-665A66E5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BA1E8-5BCA-4B2D-A70B-EB8BF18E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21901-886D-4D5C-A7F2-2E33316F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21BB6-8039-4BE1-AD7E-7A079B8D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91F37-5D8D-4F05-B1A2-D5CBF8FE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010AE-DAA7-43FD-90E2-76985E7A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8CF05-9BD2-4E1B-A23D-7D5AA021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9EEB3-27EC-407B-BA97-6A6A850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895E-F3EC-4EEF-B08B-0E4406AB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8A0C4-38FC-4304-A280-0128E745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9E4CC-C263-426A-A97B-318EA242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D9EFA-F0F1-4DE2-B798-4060E889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69663-4A15-466F-91D6-FECE8CC2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B15F5-3CAD-4EE1-B7B7-50AD0F6A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6E159-B44E-4727-B7C4-1301B0BD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86F62-A319-4CC5-857A-E5315541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E59BD-5B81-4A62-B572-E1ADDB28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86FB0-DEE3-4C1D-ABAC-D336856A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501E7-2040-4015-B9B1-43AF373C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3F2C-C747-46CA-A2F4-2D40606D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C4BCD-1466-4349-BB80-284B7FEB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A9060-BB6E-4559-A432-5ECF2ED7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2D2C7-1A7C-491B-9E2D-909BEB29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DEFE2-6410-4482-8EDC-EF710E5E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74974-A8FA-4F75-9C21-B9E793C5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C58C7-9A12-43C4-8CE3-B898F5AF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57521-6381-442D-8DC5-47B3D483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EFF30-665A-4327-9945-22B7EE78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A2990-CC14-4752-8F94-CBE5D07E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287C6-3B87-4A76-BD64-906D2568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8DF3-00DE-4B9E-BB5F-0766241E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9E4DA-633A-440B-93EB-C98C97A5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CBDA8-BCDC-4A4B-AE52-4800E83D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02082-7A27-49DC-970C-3419F677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827E96-99F2-442B-A53A-02CCAD1E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D8457-4B96-48DB-AB98-DC9A7A95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025A2-108C-4EB6-8323-A3137675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17B53-2A4F-4059-9E64-4BEDDFB8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DC0E-66FC-405B-A646-BEE09EA2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E5FD-93BC-44E4-95C1-B076E824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9DA9-D23E-40C5-AAC7-C92068C3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B396-D92C-4996-87F2-1D4EC4CA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D83-CA3C-4B9D-98A4-0EC960A0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C477-C76D-4012-979C-7EF65F94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25CE-A78E-4C76-A387-13A18459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7C52-E978-47C5-911F-2A96A277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49E8-CF73-4131-86E6-2802EC0C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2734-BE8C-43A1-980C-D8AF5F97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2A96-7D95-4F2E-A673-35200DDD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591C-7F9F-4675-8AEE-388CDC8E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66E3-E87E-4802-B0C6-DD0D402E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EE23-30C8-4523-8855-BFB4557E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5C41-ABB9-47C9-8BE4-0F40CDCA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908-A7A0-4C19-83CF-B48FB909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B861-D8E5-405A-BF81-4E824088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1E499-CC93-4302-ADC6-1EA55C36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42E18-6079-4789-B070-F311AE6C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C82B-8605-4B59-8824-AA693BFE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A778-CF47-43FC-AC74-997C7091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B52D-297F-4C03-9515-FF283BA6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07CA7-F4E4-4A59-AA8B-6DEAD0E2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3A18-F44C-4764-A485-F7BFD7B1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D83BD-BEA8-48E0-88DA-E0CC6527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E033E-8292-4098-8039-8DA8C545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E4F-E23D-4FD9-962D-0DFC157E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EB69C-E20B-4372-B42B-833818E5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178D-FBDB-4576-A91F-FB0FDB32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0A2CD-30A8-4F04-9957-DC9AA85C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B2B18-A121-45F9-9639-0A50D1B5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23016-A502-4479-BE0F-404A0D39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AC0BB-244B-435A-8144-54FFDACA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98F15-6DE4-416F-9132-3278F45A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C992F-0B06-4311-98F4-5CF07E71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7983-F0B2-4814-8215-523A9615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776A8-2BC6-48CE-BC29-C9CF062D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C70-02DB-49EC-A2DD-2E18D39F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E4C62-DFB5-471E-AB38-5F440C9A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34A5A-0DE5-495F-9D87-9D71E5AE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7726B-B206-4F60-9F3C-67466EAD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9D00B-BCB9-430E-ADC9-A46E655A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F059E-7DB2-4E28-AB17-A2239092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19A17-EA15-4B23-8300-0EDCE931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8778D-ED7E-4070-9117-AF4B058B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6BE19-EFF2-4EDC-B5BE-7EDF3B9B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44783-EEF0-461B-A4A3-70878662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1A807-558C-4A87-A715-DECBD366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DDA-3BAF-4C17-8F92-0246FC05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57DAB-A044-497C-B687-5E85F580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FDC1D-3172-4FF1-9F36-B8A24464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3311F-20E8-4F43-BBFD-48AFF42F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71B39-7A0F-43F7-805A-270B9D0C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2C162-A631-4F6B-AE79-686A4E45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7CC84-218C-42ED-8BEF-22FFDB29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7EE89-7F17-4C88-93BD-713C38B7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19228-AB63-43AE-944F-C30BB62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C359C-6C4B-41A9-9CC2-4CAEDECB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C238D-E3CF-40D9-A3B3-C376A491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827-C530-4B08-869B-10358E31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85BF9-A760-474D-BD5E-DB6B2CF8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AFB92-108C-4951-8959-2C46CCB5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1BE2C-C776-4DB7-AFC4-5B42DB27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60090-21C8-4457-8D0D-5F9DCD4D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77FDC-1474-432E-A8FF-8B0E3E01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6B532-A5DB-4271-A051-F3EAB4AF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592DE-1F48-4C6F-8769-039390E7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6F886-16C3-4E7D-A125-5578C7D7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43967-73E9-4AA0-B625-6163EA06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AAAAA-6AB6-4930-9522-37E098FF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040-4E2A-4B15-A7C1-395B5DBC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35399-A7C2-4417-B928-D345075F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4BD5A-CB69-418D-AB5A-C837AA80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3ACBE-1F4C-42CF-8B45-BDB429F9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7AC22-291B-439F-B340-574EA4A5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E55BC-F6AC-4D5A-9C04-B347733D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870ED-04CD-45B7-99BB-173C154A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0F006-9D7C-45CE-AF41-B2AA456E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1D80C-7B38-45EA-9297-1D0C0247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7A8C3-16B2-41E1-B2CD-01AD1FA1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80A92-1BF1-4DD9-8367-9A64C434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0D1-DBED-4C4A-ADD4-26FFA619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FD3CC-2F24-4E46-9411-697D229D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D16B5-1D24-4441-9122-7F5EF98A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4FE07-198E-454E-AAAA-D7B51AED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C06C0-47B4-494F-AEB8-54154E4D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977CA-8C29-43C3-955E-0ABEA898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0E0A2-7EBC-4596-8413-286168CF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A8C7C-7F70-43E0-B8DD-BBA36FC9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DFB16-4A73-444C-991D-D7E09385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9FCC1-1B9B-4F66-A79A-465AD8DB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46AFC-5139-4EBB-9338-0745BF50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43FC-387D-460C-9314-295EF4EEED7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5632-2A54-414E-A70C-CB320E4D4984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1F2D-9C99-488C-A031-26F75CB483AC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1705-EE1E-4D91-B2FE-EE90C5264A75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23DE-1C18-49D1-8075-492E60564B98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C955-A3E6-428A-B237-0F3CD8474F6E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E0D8-D172-4D63-8E68-64032E2AA728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F5C7-CD4B-4113-AE75-1DBD6F9EDBCF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2414-43EF-4B7A-A17C-C398829DBB4D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696F-5FAD-46D9-866F-CCA836747543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CE15-3244-4C60-AA4D-EE5183D76DB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E5C0-F576-435C-8F12-A6CEEC5F548F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1FD2-BA44-42E4-A0B5-87C10E3BC963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315B-392A-4FF7-A035-34F64CD03D3C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F138-02FC-4F16-BF66-256732BD6B14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1047-8FFE-4B07-A2F4-D170CE552632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A5F6-219D-4A8B-8025-D5330109C1EF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78E0-60F4-4EC6-87AE-25C4C2569CCE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70AF-B771-4FA9-BFE3-23D0110A023E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B0C8-F9AB-4464-BDF4-3AA589CB157C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3D48-91AB-4BAD-9261-AF0F31C1DA5C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9776-62A5-4864-AE3B-E3012F67CD97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1F18-ACBE-4885-B541-9D6E57F3B2D7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E0E4-1AA5-4FE7-8AB2-253401E981BE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1393-FE88-4160-AD09-08386CE93B47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57984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Calibri"/>
                <a:ea typeface="宋体"/>
              </a:rPr>
              <a:t>咖啡</a:t>
            </a:r>
            <a:r>
              <a:rPr b="0" lang="en-US" sz="4400" spc="-1" strike="noStrike">
                <a:solidFill>
                  <a:srgbClr val="0d0d0d"/>
                </a:solidFill>
                <a:latin typeface="Calibri"/>
                <a:ea typeface="宋体"/>
              </a:rPr>
              <a:t>PPT</a:t>
            </a:r>
            <a:r>
              <a:rPr b="0" lang="zh-CN" sz="4400" spc="-1" strike="noStrike">
                <a:solidFill>
                  <a:srgbClr val="0d0d0d"/>
                </a:solidFill>
                <a:latin typeface="Calibri"/>
                <a:ea typeface="宋体"/>
              </a:rPr>
              <a:t>模板免费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422748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d0d0d"/>
                </a:solidFill>
                <a:latin typeface="Calibri"/>
              </a:rPr>
              <a:t>Company N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2654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654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24000" y="206280"/>
            <a:ext cx="6562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124000" y="1200240"/>
            <a:ext cx="6562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542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FR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1:47:08Z</dcterms:created>
  <dc:creator/>
  <dc:description/>
  <dc:language>en-US</dc:language>
  <cp:lastModifiedBy>a</cp:lastModifiedBy>
  <dcterms:modified xsi:type="dcterms:W3CDTF">2014-12-15T17:39:43Z</dcterms:modified>
  <cp:revision>5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