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E7D-7698-455A-B19D-4B681110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5280" y="3964320"/>
            <a:ext cx="649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241-1507-4D82-BA98-3AA1B85A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216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21680" y="396432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60F-A8C8-4596-A848-5203A587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9840" y="160020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4760" y="160020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95280" y="396432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9840" y="396432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4760" y="3964320"/>
            <a:ext cx="208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ED3-F817-477E-9E14-D7AD5AC1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8AC-DC17-4CC7-90C6-E2011E3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B54-97BE-4653-A53C-E0333D16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1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21680" y="1600200"/>
            <a:ext cx="31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181-7369-4C20-8B1B-63F509F4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4CE-049D-45F4-9594-14BE2D0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A3F-BDB6-4AAB-AE8C-9652A0A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1680" y="1600200"/>
            <a:ext cx="31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129-EE5B-4472-AF78-846FF82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1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16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21680" y="396432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EB5-9517-459C-A692-0D652AB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1680" y="1600200"/>
            <a:ext cx="316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649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AB5-879C-443D-BDF7-8D71E9A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8510" t="0" r="0" b="8706"/>
          <a:stretch/>
        </p:blipFill>
        <p:spPr>
          <a:xfrm>
            <a:off x="0" y="0"/>
            <a:ext cx="8161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117360"/>
            <a:ext cx="9144000" cy="674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9"/>
          <p:cNvSpPr/>
          <p:nvPr/>
        </p:nvSpPr>
        <p:spPr>
          <a:xfrm>
            <a:off x="0" y="11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B8B-F26E-4656-8E95-8C7709516C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A120-45DC-4E88-9B8D-505CA2A752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24001" r="0" b="0"/>
          <a:stretch/>
        </p:blipFill>
        <p:spPr>
          <a:xfrm>
            <a:off x="0" y="0"/>
            <a:ext cx="914400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1372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3d2d"/>
                </a:solidFill>
                <a:latin typeface="微软雅黑"/>
                <a:ea typeface="微软雅黑"/>
              </a:rPr>
              <a:t>卡通版母亲节节日</a:t>
            </a:r>
            <a:r>
              <a:rPr b="1" lang="zh-CN" sz="3600" spc="-1" strike="noStrike">
                <a:solidFill>
                  <a:srgbClr val="3e3d2d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3e3d2d"/>
                </a:solidFill>
                <a:latin typeface="微软雅黑"/>
                <a:ea typeface="微软雅黑"/>
              </a:rPr>
              <a:t>模板</a:t>
            </a: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e3d2d"/>
              </a:solidFill>
              <a:latin typeface="微软雅黑"/>
              <a:ea typeface="微软雅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1360" y="16002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3d2d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29:00Z</dcterms:created>
  <dc:creator>果因PPT工作室</dc:creator>
  <dc:description/>
  <cp:keywords>XS-普屏 4：3;SC-淡绿色;BG-浅色;DH-静态</cp:keywords>
  <dc:language>en-US</dc:language>
  <cp:lastModifiedBy>a</cp:lastModifiedBy>
  <dcterms:modified xsi:type="dcterms:W3CDTF">2014-12-31T04:00:05Z</dcterms:modified>
  <cp:revision>4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