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538200" y="4387680"/>
            <a:ext cx="57801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26F1-AA80-48E1-9C84-9F65204E35C0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063F-A155-4BB5-9706-7F748FC9A55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0720" y="880920"/>
            <a:ext cx="645480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封面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0720" y="880920"/>
            <a:ext cx="645480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0720" y="880920"/>
            <a:ext cx="645480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0720" y="880920"/>
            <a:ext cx="645480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0720" y="880920"/>
            <a:ext cx="645480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3C3-5FDD-4BE3-8317-05EF90AD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760-018D-43D1-82CE-A16FCA9F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FD26B-3983-4BCD-B5C9-1B8C7B6E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E5B97-E539-471D-B009-E34F3360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641C0-FDC2-4DD5-B53A-E268D7A4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45A17-9920-48C6-B07B-AAEFDA4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C3DCA-8270-45A3-ADB8-629528BE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8452A-6B61-44A9-9826-6384427D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13D41-B63E-4A61-9BEA-50C98E29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C73CC-6046-4589-A602-644851A1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BCEF1-F198-4F91-AA8F-C94478C5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EC403-3308-43C3-8B3C-107D886D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13C-1A03-46E1-8A93-64D19685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25386-477B-4D59-94DD-2933A141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BA93A-52C5-4EC3-8F85-0863D183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373D5-6272-48F8-8FCF-C0DDED2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72044-CB60-40F3-9D6C-EDD9CCDB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10CFC-2005-4946-BD4E-E1451199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78560-F31D-4F0A-BD82-17F08A94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44076-19DE-4DA7-BCD1-6D8D7BCA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8CA0C-3708-4E0A-9484-6EAB75D7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0230B-0355-40D8-87ED-599D4C1C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1B824-0F6C-4B7C-83F4-DEF60983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D63-4C03-4C7C-A8C0-19D5D2F3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46BD6-E782-4135-BB4F-DFED3670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DDBF2-3208-483B-8506-0D3F9DD7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9354D-8FE0-4168-8543-E5F8F834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830BA-0612-4310-9815-ABC881DF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B408A-44DE-4AD0-8432-088C41C3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95201-091A-4ABF-9CA2-73ED4655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66A1D-5FDE-4847-8EBD-4EA6B7E1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D9D50-23B1-4820-A75A-1A08A8A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4B804-D8B0-422B-8AD0-5C687FE1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176A9-BE18-4A28-9C24-1655E03D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F0826-7ACA-4CB6-B0DD-27815952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C2859-D756-4137-85F2-7BE7527F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D2AED-D201-40AB-A442-889A14CE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48CCE-F786-4692-BA05-FBFD7081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967FA-8420-4400-97D4-531AF589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2F32E-9D41-4D95-BA0D-3B2519EB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2D1FB-08D5-462E-B7C8-1EDB12CC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667A9-F455-4737-8576-FAB12204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88082-1F19-41ED-8D11-DF91F12A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CCE54-DBB4-454D-9AD1-FB74608E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04498-A54F-44B4-BAA2-0B5308B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15F96-7E69-468D-A6FA-9C2F59AB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05C84-E60E-4EB7-992E-08A441CC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10528-9699-47C8-BA8D-720E0FBB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65E45-ECBE-4E26-80B6-06A68258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94328-7459-4FF4-BA1C-C793168B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7540F-73CF-486C-8D6A-F8499F0F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3C916-3643-4993-96B5-56DF19D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070CF-BB77-4C72-A95B-F6FB44FD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27E73-AEE6-4C31-AB88-FD88EBF9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C3BF8-6014-4643-9F5A-1CC1F6AC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BB8F6-4D11-4860-BF3E-0967D178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6BF8F-C7C1-4291-ADE9-0ACB795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5199A-89B1-41F6-AC68-B0B7F738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555E2-CF0A-4805-BACD-C22A5C64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159FD-3697-42C9-992C-4E0520B5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94B4B-15FB-441E-9EE4-8E536124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A853A-75B4-48D7-A7F9-5C6580CB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D8BD6-31DF-4DC4-A58C-7FD5124E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53E8C-4FE6-4473-AE1C-5642DD5B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85144-B246-468E-B16B-AA19F93E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28FF8-194E-4EF5-B588-6B8AD450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58DFB-4ADC-4AC8-AACA-C8E901C8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CEB59-6349-48C1-A7E6-379F792E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97C12-B39E-4C9F-A441-E6D322D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C8179-F7AC-454B-94DA-BB7F5D66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0AA11-BBB1-455C-AC88-7AD70FE6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F59FF-9ABA-4FFD-BEC2-9A84B88B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DE072-25DB-4558-98E0-EA381671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D2E-BE1F-4EDB-8BB1-6368AEA0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C9F3-20F8-40F7-B380-8F2A7215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2FAF-C2FE-46EF-B6F5-9A93C147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F352-07A2-493E-81E2-53400DF9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5592-F294-4B8B-88C6-4A0ED71B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5F4D-758D-4DFF-BAFB-F9ABA969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C63-D13A-4418-9475-AAB4FFD5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93A0-7F5E-4BBB-95AE-8AF2FDEE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18E7-8278-48E1-B9B0-F67640B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39C1-4066-4660-A907-93A94975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CC49-5D5C-4140-B393-6D9DF8B4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F19D-D591-4E52-9ED0-15DABE56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67FB-DAF7-4B95-B402-3437F308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B8B4-A1C3-4046-B8B0-A58D98C1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EEC8-F287-41D6-BCF8-AE3BE03F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EE569-0D36-428D-8586-C5D3C0B8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A7D0-8283-4367-BEFE-3FDF6E4D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786-672A-452F-AAE2-3F1BBCE9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77B9-E4FE-4473-9AA9-0979AD8E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4291-398E-47FF-8350-48A40ED3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4449-79F8-417B-B740-744830D6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9366-E9DC-42F4-9A43-C2C014EA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8DBA-AAC1-448B-8F93-778D9497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34152-9B54-4691-924B-E5071F68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C276-9C57-444B-B906-9E73FA5C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1AA1-5798-40D4-9BD3-D05DD416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64B7-483B-43BF-B8D0-C9F656EA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057BF-2A81-4C2A-8056-011A5479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452-1280-49D8-8B4F-C162B797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6E8D4-768F-42AD-A1D9-50282EC5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BD258-D238-4905-8DE4-2B7B6A24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01DB-D9EE-4C19-B050-A512EF06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A17F0-ED2A-4B89-ACBE-E92768CE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FC0F-0D92-421E-A2AF-7FB625D7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7D5E-39C0-44C0-92CF-EC0F7A24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9CDCC-03DE-4BC2-96D0-B66C7EB0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ACB25-923E-4087-AFC1-3C5E81A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1289-68AE-4CA6-B284-DFACAB35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C49B4-63EC-4B0C-83FC-8DEAADA2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392-B014-4502-AE75-F0855C55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4B9CA-7EDA-447A-B1D9-46C43213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1E07C-8BB9-40E7-ADE8-B35264C0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029F9-19CF-433A-8373-D210819D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CF55F-F9B7-41F7-8CFB-7670F912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83AE8-49C9-47D3-80B3-C9D3474F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D1C39-A8AE-4E50-81BE-AEC7B407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212B-05DF-4224-9340-CE20AB43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BD119-C3BF-41DE-AB1B-F5F13C1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A71BF-5884-4164-98B6-55F44C44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3A183-FAC6-496F-8EDC-FEA553A0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352-271D-470A-919D-BF19B4C5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FDCA9-19B0-4BAC-AEE0-871FA9A4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24DFF-60C8-468C-BE6E-0A421C5B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51128-542A-40E6-8A0E-F09FA3C3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8523D-37E4-414E-BCA5-022821B6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F9300-FDEC-4133-A955-7F44F77E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E5DE-BE68-4FCC-8984-2CBB9968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ECD7E-0D0E-490E-97F4-C3538310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638B4-3AFA-40DD-9E90-07DACBF0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A1D35-34CB-4E3D-939B-FAB20586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1C3DA-418A-48F0-AD9B-A7EE8947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10B-5564-4CC0-8A58-0FE57386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199E7-3ECB-48DC-B911-CA840256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0304-F01D-4DAC-B66E-F360E64D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57C6C-02D4-457D-A478-785D432E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8A528-78B0-48A6-B26B-9F7A72E5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C19C0-EAC2-41D3-BC69-E193B13E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F59A4-5CFE-451F-80EE-322D7770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84382-DB1D-4DB2-9086-8B9513FC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DAD81-2018-42D1-A9A4-1BDCD887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DACA6-B47B-48D4-98E1-4C4844CF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6D38C-E36E-42B9-8B15-B8CF851B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737-A48F-4D46-A328-9EA13B2A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FEE4E-8A23-4F30-9BCF-C749774D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480B6-F70E-4187-89DD-E52CD32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F576F-F81B-40EB-A896-E3D3AE68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A0CC7-422E-48E2-A6FE-2BF80580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C8D0B-A244-4380-A26D-6E4D4270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E301A-40EE-43D9-B3AC-9AAC8519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35C6B-1BDE-473D-941C-7E1160B7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FC3C5-DC65-4C5B-A93A-1BA0BDED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B0962-84D6-4B12-85D3-AA68646B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ADC06-8790-41FA-9C24-4153FF72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20F9-39EC-4E5D-8C9D-8329241CF6B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F694-19E2-409A-B5FC-A403B843E2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1C0C-6747-4AC4-B492-C81EED758B3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1A84-DEA1-4FDE-8BB3-B0D685CFC5D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127F-2086-4103-954F-026B116532F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C50F-FE96-4BE4-A2B7-DCDAF32CADD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E7A9-C1A0-4566-997F-563C0114104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3990-C1DD-478D-9795-D7DD53D0228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A452-D8E7-48BF-A485-D88A60C06CF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79FD-71E4-4EF3-9377-AD73F729AE3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38AF-1067-452C-82D2-BB7F61DF50B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4D6A-5C36-4A98-A930-FD79A63704F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351" descr=""/>
          <p:cNvPicPr/>
          <p:nvPr/>
        </p:nvPicPr>
        <p:blipFill>
          <a:blip r:embed="rId2"/>
          <a:stretch/>
        </p:blipFill>
        <p:spPr>
          <a:xfrm>
            <a:off x="209520" y="23508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4352"/>
          <p:cNvSpPr/>
          <p:nvPr/>
        </p:nvSpPr>
        <p:spPr>
          <a:xfrm>
            <a:off x="6950160" y="642960"/>
            <a:ext cx="299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cce4"/>
                </a:solidFill>
                <a:latin typeface="Century Gothic"/>
              </a:rPr>
              <a:t>Simp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4353"/>
          <p:cNvSpPr/>
          <p:nvPr/>
        </p:nvSpPr>
        <p:spPr>
          <a:xfrm>
            <a:off x="7716960" y="181116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abf8e"/>
                </a:solidFill>
                <a:latin typeface="Century Gothic"/>
              </a:rPr>
              <a:t>powerf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4354"/>
          <p:cNvSpPr/>
          <p:nvPr/>
        </p:nvSpPr>
        <p:spPr>
          <a:xfrm>
            <a:off x="9680400" y="3041640"/>
            <a:ext cx="160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a0c7"/>
                </a:solidFill>
                <a:latin typeface="Century Gothic"/>
              </a:rPr>
              <a:t>fre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4355"/>
          <p:cNvSpPr/>
          <p:nvPr/>
        </p:nvSpPr>
        <p:spPr>
          <a:xfrm>
            <a:off x="7197840" y="4084560"/>
            <a:ext cx="40892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9593"/>
                </a:solidFill>
                <a:latin typeface="Century Gothic"/>
              </a:rPr>
              <a:t>what’s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6c09"/>
                </a:solidFill>
                <a:latin typeface="Broadway"/>
              </a:rPr>
              <a:t>yours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14356"/>
          <p:cNvSpPr/>
          <p:nvPr/>
        </p:nvSpPr>
        <p:spPr>
          <a:xfrm>
            <a:off x="6870600" y="642960"/>
            <a:ext cx="2681280" cy="3422520"/>
          </a:xfrm>
          <a:custGeom>
            <a:avLst/>
            <a:gdLst>
              <a:gd name="textAreaLeft" fmla="*/ 0 w 2681280"/>
              <a:gd name="textAreaRight" fmla="*/ 2681280 w 268128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2681416" h="3422822">
                <a:moveTo>
                  <a:pt x="0" y="0"/>
                </a:moveTo>
                <a:lnTo>
                  <a:pt x="0" y="1013254"/>
                </a:lnTo>
                <a:lnTo>
                  <a:pt x="716692" y="1000898"/>
                </a:lnTo>
                <a:lnTo>
                  <a:pt x="729048" y="2273644"/>
                </a:lnTo>
                <a:lnTo>
                  <a:pt x="2669059" y="2261287"/>
                </a:lnTo>
                <a:lnTo>
                  <a:pt x="2681416" y="3422822"/>
                </a:lnTo>
                <a:lnTo>
                  <a:pt x="2681416" y="3422822"/>
                </a:lnTo>
              </a:path>
            </a:pathLst>
          </a:custGeom>
          <a:noFill/>
          <a:ln w="19080">
            <a:solidFill>
              <a:srgbClr val="ffff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等腰三角形 14357"/>
          <p:cNvSpPr/>
          <p:nvPr/>
        </p:nvSpPr>
        <p:spPr>
          <a:xfrm rot="10800000">
            <a:off x="9048600" y="4084200"/>
            <a:ext cx="1006560" cy="474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5E8-D0BD-49B5-969D-DB3B151A9D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BD24-3429-4497-8F7B-E3DFCC7DFF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0FFE-B240-4CAE-9696-2D3CC900AB0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B81B-BAC6-4179-9A1B-69380C30C0D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AEE4-4112-4F95-A0F3-71EC68D61C1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53B9-2BBC-41B2-9D01-0FE8A1E0063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7FAF-6C22-449D-9840-7C1CE569134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2065-7609-4502-B63C-A1D3A778454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9190-02B9-4C91-A389-79B8886DD0F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EBB3-DF2D-43D3-A3AB-42034AD0C9E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59B4-E487-4C7E-AD51-26CE2A728FE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D4CD-5A2E-4420-9033-A8719EB11FF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3E72-65DD-4531-A1B8-0E2931BFB75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ED81-3E66-4797-ACD6-D4DC10260E5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爆炸形 2 21"/>
          <p:cNvSpPr/>
          <p:nvPr/>
        </p:nvSpPr>
        <p:spPr>
          <a:xfrm>
            <a:off x="9691560" y="3471840"/>
            <a:ext cx="2063880" cy="1940040"/>
          </a:xfrm>
          <a:prstGeom prst="irregularSeal2">
            <a:avLst/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爆炸形 2 6"/>
          <p:cNvSpPr/>
          <p:nvPr/>
        </p:nvSpPr>
        <p:spPr>
          <a:xfrm>
            <a:off x="2311560" y="1203480"/>
            <a:ext cx="4572000" cy="2914560"/>
          </a:xfrm>
          <a:prstGeom prst="irregularSeal2">
            <a:avLst/>
          </a:prstGeom>
          <a:solidFill>
            <a:srgbClr val="f7e2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2"/>
          <p:cNvSpPr/>
          <p:nvPr/>
        </p:nvSpPr>
        <p:spPr>
          <a:xfrm>
            <a:off x="7845480" y="884160"/>
            <a:ext cx="20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nap ITC"/>
              </a:rPr>
              <a:t>Simp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3"/>
          <p:cNvSpPr/>
          <p:nvPr/>
        </p:nvSpPr>
        <p:spPr>
          <a:xfrm>
            <a:off x="3230640" y="23367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b081"/>
                </a:solidFill>
                <a:latin typeface="Snap ITC"/>
              </a:rPr>
              <a:t>Powerfu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爆炸形 1 19"/>
          <p:cNvSpPr/>
          <p:nvPr/>
        </p:nvSpPr>
        <p:spPr>
          <a:xfrm>
            <a:off x="646200" y="555480"/>
            <a:ext cx="1576440" cy="1165320"/>
          </a:xfrm>
          <a:prstGeom prst="irregularSeal1">
            <a:avLst/>
          </a:prstGeom>
          <a:solidFill>
            <a:srgbClr val="f4b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9939240" y="4118040"/>
            <a:ext cx="16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nap ITC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455760" y="4703760"/>
            <a:ext cx="47131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Broadway"/>
              </a:rPr>
              <a:t>What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99"/>
                </a:solidFill>
                <a:latin typeface="Broadway"/>
              </a:rPr>
              <a:t>yours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爆炸形 1 20"/>
          <p:cNvSpPr/>
          <p:nvPr/>
        </p:nvSpPr>
        <p:spPr>
          <a:xfrm rot="871800">
            <a:off x="10829880" y="1844640"/>
            <a:ext cx="1111320" cy="986040"/>
          </a:xfrm>
          <a:prstGeom prst="irregularSeal1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16" descr="C:\Users\acer\AppData\Local\Microsoft\Windows\Temporary Internet Files\Content.IE5\R4II0W9Q\MC900290064[1].wmf"/>
          <p:cNvPicPr/>
          <p:nvPr/>
        </p:nvPicPr>
        <p:blipFill>
          <a:blip r:embed="rId2"/>
          <a:stretch/>
        </p:blipFill>
        <p:spPr>
          <a:xfrm>
            <a:off x="6797520" y="2225520"/>
            <a:ext cx="209412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灯片编号占位符 4"/>
          <p:cNvSpPr/>
          <p:nvPr/>
        </p:nvSpPr>
        <p:spPr>
          <a:xfrm>
            <a:off x="807732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6A0F-996A-4B73-A89E-A22F8418FE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矩形 31"/>
          <p:cNvSpPr/>
          <p:nvPr/>
        </p:nvSpPr>
        <p:spPr>
          <a:xfrm>
            <a:off x="7467480" y="750960"/>
            <a:ext cx="3813120" cy="4971960"/>
          </a:xfrm>
          <a:prstGeom prst="rect">
            <a:avLst/>
          </a:prstGeom>
          <a:solidFill>
            <a:srgbClr val="ff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9"/>
          <p:cNvSpPr/>
          <p:nvPr/>
        </p:nvSpPr>
        <p:spPr>
          <a:xfrm>
            <a:off x="3908520" y="768240"/>
            <a:ext cx="3200400" cy="4254480"/>
          </a:xfrm>
          <a:prstGeom prst="rect">
            <a:avLst/>
          </a:prstGeom>
          <a:solidFill>
            <a:srgbClr val="ffe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7"/>
          <p:cNvSpPr/>
          <p:nvPr/>
        </p:nvSpPr>
        <p:spPr>
          <a:xfrm>
            <a:off x="596880" y="746280"/>
            <a:ext cx="2933640" cy="35812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7"/>
          <p:cNvSpPr/>
          <p:nvPr/>
        </p:nvSpPr>
        <p:spPr>
          <a:xfrm>
            <a:off x="793800" y="992160"/>
            <a:ext cx="231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Sunshin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y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9"/>
          <p:cNvSpPr/>
          <p:nvPr/>
        </p:nvSpPr>
        <p:spPr>
          <a:xfrm>
            <a:off x="4187880" y="1015920"/>
            <a:ext cx="26398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t the </a:t>
            </a: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interest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to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wor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28"/>
          <p:cNvSpPr/>
          <p:nvPr/>
        </p:nvSpPr>
        <p:spPr>
          <a:xfrm>
            <a:off x="2514600" y="276372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30"/>
          <p:cNvSpPr/>
          <p:nvPr/>
        </p:nvSpPr>
        <p:spPr>
          <a:xfrm>
            <a:off x="5925960" y="3479760"/>
            <a:ext cx="12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32"/>
          <p:cNvSpPr/>
          <p:nvPr/>
        </p:nvSpPr>
        <p:spPr>
          <a:xfrm>
            <a:off x="10190160" y="4179960"/>
            <a:ext cx="108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33"/>
          <p:cNvSpPr/>
          <p:nvPr/>
        </p:nvSpPr>
        <p:spPr>
          <a:xfrm>
            <a:off x="7729560" y="1015920"/>
            <a:ext cx="286524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balance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etween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work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d </a:t>
            </a: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leis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34"/>
          <p:cNvSpPr/>
          <p:nvPr/>
        </p:nvSpPr>
        <p:spPr>
          <a:xfrm>
            <a:off x="330120" y="4938840"/>
            <a:ext cx="528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abab"/>
                </a:solidFill>
                <a:latin typeface="Century Gothic"/>
              </a:rPr>
              <a:t>cont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4" descr="C:\Users\acer\AppData\Local\Microsoft\Windows\Temporary Internet Files\Content.IE5\EL5X1ZUA\MC900251247[1].wmf"/>
          <p:cNvPicPr/>
          <p:nvPr/>
        </p:nvPicPr>
        <p:blipFill>
          <a:blip r:embed="rId2"/>
          <a:stretch/>
        </p:blipFill>
        <p:spPr>
          <a:xfrm>
            <a:off x="5575320" y="5216400"/>
            <a:ext cx="13003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灯片编号占位符 4"/>
          <p:cNvSpPr/>
          <p:nvPr/>
        </p:nvSpPr>
        <p:spPr>
          <a:xfrm>
            <a:off x="807732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8023-B96C-4261-B808-08C83884A1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"/>
          <p:cNvSpPr/>
          <p:nvPr/>
        </p:nvSpPr>
        <p:spPr>
          <a:xfrm>
            <a:off x="1319040" y="1673280"/>
            <a:ext cx="69231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99"/>
                </a:solidFill>
                <a:latin typeface="Century Gothic"/>
              </a:rPr>
              <a:t>Discover your </a:t>
            </a:r>
            <a:r>
              <a:rPr b="0" lang="en-US" sz="13800" spc="-1" strike="noStrike">
                <a:solidFill>
                  <a:srgbClr val="ff9999"/>
                </a:solidFill>
                <a:latin typeface="Century Gothic"/>
              </a:rPr>
              <a:t>interest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4073400" y="4727520"/>
            <a:ext cx="38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8bff"/>
                </a:solidFill>
                <a:latin typeface="Century Gothic"/>
              </a:rPr>
              <a:t>Do you really know yoursel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6" descr="C:\Users\acer\AppData\Local\Microsoft\Windows\Temporary Internet Files\Content.IE5\0NIRTJQ4\MC900445696[1].wmf"/>
          <p:cNvPicPr/>
          <p:nvPr/>
        </p:nvPicPr>
        <p:blipFill>
          <a:blip r:embed="rId2"/>
          <a:stretch/>
        </p:blipFill>
        <p:spPr>
          <a:xfrm>
            <a:off x="5686560" y="1407960"/>
            <a:ext cx="1709640" cy="136080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20" descr=""/>
          <p:cNvPicPr/>
          <p:nvPr/>
        </p:nvPicPr>
        <p:blipFill>
          <a:blip r:embed="rId3"/>
          <a:stretch/>
        </p:blipFill>
        <p:spPr>
          <a:xfrm>
            <a:off x="7396200" y="5911920"/>
            <a:ext cx="4614840" cy="744480"/>
          </a:xfrm>
          <a:prstGeom prst="rect">
            <a:avLst/>
          </a:prstGeom>
          <a:ln w="0">
            <a:noFill/>
          </a:ln>
        </p:spPr>
      </p:pic>
      <p:sp>
        <p:nvSpPr>
          <p:cNvPr id="610" name="TextBox 21"/>
          <p:cNvSpPr/>
          <p:nvPr/>
        </p:nvSpPr>
        <p:spPr>
          <a:xfrm>
            <a:off x="7461360" y="6053040"/>
            <a:ext cx="425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No.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Sunshine in your he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直接连接符 23"/>
          <p:cNvSpPr/>
          <p:nvPr/>
        </p:nvSpPr>
        <p:spPr>
          <a:xfrm>
            <a:off x="1319040" y="4530600"/>
            <a:ext cx="6370920" cy="1800"/>
          </a:xfrm>
          <a:prstGeom prst="line">
            <a:avLst/>
          </a:prstGeom>
          <a:ln w="28440">
            <a:solidFill>
              <a:srgbClr val="ffaba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807732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D8F5-278F-44CF-A1FB-E4F6CB5232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3922560" y="2438280"/>
            <a:ext cx="4975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575"/>
                </a:solidFill>
                <a:latin typeface="Century Gothic"/>
              </a:rPr>
              <a:t>L   ve</a:t>
            </a:r>
            <a:r>
              <a:rPr b="0" lang="en-US" sz="2400" spc="-1" strike="noStrike">
                <a:solidFill>
                  <a:srgbClr val="ff7575"/>
                </a:solidFill>
                <a:latin typeface="Century Gothic"/>
              </a:rPr>
              <a:t> is the first step to  work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心形 9"/>
          <p:cNvSpPr/>
          <p:nvPr/>
        </p:nvSpPr>
        <p:spPr>
          <a:xfrm>
            <a:off x="4514760" y="2824200"/>
            <a:ext cx="532080" cy="441360"/>
          </a:xfrm>
          <a:custGeom>
            <a:avLst/>
            <a:gdLst>
              <a:gd name="textAreaLeft" fmla="*/ 123840 w 532080"/>
              <a:gd name="textAreaRight" fmla="*/ 407880 w 532080"/>
              <a:gd name="textAreaTop" fmla="*/ 46440 h 441360"/>
              <a:gd name="textAreaBottom" fmla="*/ 279360 h 441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3" descr="C:\Users\acer\AppData\Local\Microsoft\Windows\Temporary Internet Files\Content.IE5\XZCLSZQF\MC900334376[1].wmf"/>
          <p:cNvPicPr/>
          <p:nvPr/>
        </p:nvPicPr>
        <p:blipFill>
          <a:blip r:embed="rId2"/>
          <a:stretch/>
        </p:blipFill>
        <p:spPr>
          <a:xfrm>
            <a:off x="2670120" y="2498760"/>
            <a:ext cx="1143000" cy="1355760"/>
          </a:xfrm>
          <a:prstGeom prst="rect">
            <a:avLst/>
          </a:prstGeom>
          <a:ln w="0">
            <a:noFill/>
          </a:ln>
        </p:spPr>
      </p:pic>
      <p:sp>
        <p:nvSpPr>
          <p:cNvPr id="616" name="TextBox 15"/>
          <p:cNvSpPr/>
          <p:nvPr/>
        </p:nvSpPr>
        <p:spPr>
          <a:xfrm>
            <a:off x="5343480" y="4146480"/>
            <a:ext cx="417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99"/>
                </a:solidFill>
                <a:latin typeface="Century Gothic"/>
              </a:rPr>
              <a:t>AND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6"/>
          <p:cNvSpPr/>
          <p:nvPr/>
        </p:nvSpPr>
        <p:spPr>
          <a:xfrm>
            <a:off x="1565280" y="660240"/>
            <a:ext cx="548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99"/>
                </a:solidFill>
                <a:latin typeface="Century Gothic"/>
              </a:rPr>
              <a:t>First </a:t>
            </a:r>
            <a:r>
              <a:rPr b="0" lang="en-US" sz="2400" spc="-1" strike="noStrike">
                <a:solidFill>
                  <a:srgbClr val="ff9999"/>
                </a:solidFill>
                <a:latin typeface="Century Gothic"/>
              </a:rPr>
              <a:t>of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灯片编号占位符 4"/>
          <p:cNvSpPr/>
          <p:nvPr/>
        </p:nvSpPr>
        <p:spPr>
          <a:xfrm>
            <a:off x="807732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70D2-FB56-477E-BF1E-FC5EF22D96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"/>
          <p:cNvSpPr/>
          <p:nvPr/>
        </p:nvSpPr>
        <p:spPr>
          <a:xfrm>
            <a:off x="3292560" y="1790640"/>
            <a:ext cx="591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cc2e5"/>
                </a:solidFill>
                <a:latin typeface="Jokerman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任意多边形 6"/>
          <p:cNvSpPr/>
          <p:nvPr/>
        </p:nvSpPr>
        <p:spPr>
          <a:xfrm>
            <a:off x="3828960" y="3008160"/>
            <a:ext cx="4889520" cy="28260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6035040" h="282887">
                <a:moveTo>
                  <a:pt x="0" y="112541"/>
                </a:moveTo>
                <a:cubicBezTo>
                  <a:pt x="23446" y="131298"/>
                  <a:pt x="46318" y="150796"/>
                  <a:pt x="70338" y="168812"/>
                </a:cubicBezTo>
                <a:cubicBezTo>
                  <a:pt x="83864" y="178957"/>
                  <a:pt x="99339" y="186386"/>
                  <a:pt x="112541" y="196948"/>
                </a:cubicBezTo>
                <a:cubicBezTo>
                  <a:pt x="122898" y="205233"/>
                  <a:pt x="128814" y="219152"/>
                  <a:pt x="140677" y="225083"/>
                </a:cubicBezTo>
                <a:cubicBezTo>
                  <a:pt x="167203" y="238346"/>
                  <a:pt x="225083" y="253218"/>
                  <a:pt x="225083" y="253218"/>
                </a:cubicBezTo>
                <a:cubicBezTo>
                  <a:pt x="267277" y="246186"/>
                  <a:pt x="356736" y="235787"/>
                  <a:pt x="393895" y="211015"/>
                </a:cubicBezTo>
                <a:cubicBezTo>
                  <a:pt x="407963" y="201637"/>
                  <a:pt x="420648" y="189747"/>
                  <a:pt x="436098" y="182880"/>
                </a:cubicBezTo>
                <a:cubicBezTo>
                  <a:pt x="463199" y="170835"/>
                  <a:pt x="520505" y="154745"/>
                  <a:pt x="520505" y="154745"/>
                </a:cubicBezTo>
                <a:cubicBezTo>
                  <a:pt x="562708" y="159434"/>
                  <a:pt x="605229" y="161831"/>
                  <a:pt x="647114" y="168812"/>
                </a:cubicBezTo>
                <a:cubicBezTo>
                  <a:pt x="674963" y="173453"/>
                  <a:pt x="724489" y="198958"/>
                  <a:pt x="745588" y="211015"/>
                </a:cubicBezTo>
                <a:cubicBezTo>
                  <a:pt x="760268" y="219403"/>
                  <a:pt x="772341" y="232284"/>
                  <a:pt x="787791" y="239151"/>
                </a:cubicBezTo>
                <a:cubicBezTo>
                  <a:pt x="814892" y="251196"/>
                  <a:pt x="844062" y="257908"/>
                  <a:pt x="872197" y="267286"/>
                </a:cubicBezTo>
                <a:lnTo>
                  <a:pt x="914400" y="281354"/>
                </a:lnTo>
                <a:cubicBezTo>
                  <a:pt x="994117" y="276665"/>
                  <a:pt x="1074367" y="277614"/>
                  <a:pt x="1153551" y="267286"/>
                </a:cubicBezTo>
                <a:cubicBezTo>
                  <a:pt x="1182959" y="263450"/>
                  <a:pt x="1209822" y="248529"/>
                  <a:pt x="1237957" y="239151"/>
                </a:cubicBezTo>
                <a:cubicBezTo>
                  <a:pt x="1252025" y="234462"/>
                  <a:pt x="1265774" y="228680"/>
                  <a:pt x="1280160" y="225083"/>
                </a:cubicBezTo>
                <a:cubicBezTo>
                  <a:pt x="1350817" y="207418"/>
                  <a:pt x="1318089" y="217129"/>
                  <a:pt x="1378634" y="196948"/>
                </a:cubicBezTo>
                <a:cubicBezTo>
                  <a:pt x="1388012" y="187569"/>
                  <a:pt x="1395396" y="175636"/>
                  <a:pt x="1406769" y="168812"/>
                </a:cubicBezTo>
                <a:cubicBezTo>
                  <a:pt x="1419484" y="161183"/>
                  <a:pt x="1435709" y="161377"/>
                  <a:pt x="1448972" y="154745"/>
                </a:cubicBezTo>
                <a:cubicBezTo>
                  <a:pt x="1464094" y="147184"/>
                  <a:pt x="1477107" y="135988"/>
                  <a:pt x="1491175" y="126609"/>
                </a:cubicBezTo>
                <a:cubicBezTo>
                  <a:pt x="1547446" y="131298"/>
                  <a:pt x="1603958" y="133673"/>
                  <a:pt x="1659988" y="140677"/>
                </a:cubicBezTo>
                <a:cubicBezTo>
                  <a:pt x="1679173" y="143075"/>
                  <a:pt x="1697299" y="150953"/>
                  <a:pt x="1716258" y="154745"/>
                </a:cubicBezTo>
                <a:cubicBezTo>
                  <a:pt x="1744228" y="160339"/>
                  <a:pt x="1772529" y="164123"/>
                  <a:pt x="1800665" y="168812"/>
                </a:cubicBezTo>
                <a:cubicBezTo>
                  <a:pt x="1814733" y="173501"/>
                  <a:pt x="1829605" y="176248"/>
                  <a:pt x="1842868" y="182880"/>
                </a:cubicBezTo>
                <a:cubicBezTo>
                  <a:pt x="1857990" y="190441"/>
                  <a:pt x="1869531" y="204355"/>
                  <a:pt x="1885071" y="211015"/>
                </a:cubicBezTo>
                <a:cubicBezTo>
                  <a:pt x="1902842" y="218631"/>
                  <a:pt x="1922822" y="219527"/>
                  <a:pt x="1941341" y="225083"/>
                </a:cubicBezTo>
                <a:cubicBezTo>
                  <a:pt x="1969748" y="233605"/>
                  <a:pt x="2025748" y="253218"/>
                  <a:pt x="2025748" y="253218"/>
                </a:cubicBezTo>
                <a:cubicBezTo>
                  <a:pt x="2035126" y="262597"/>
                  <a:pt x="2040659" y="280337"/>
                  <a:pt x="2053883" y="281354"/>
                </a:cubicBezTo>
                <a:cubicBezTo>
                  <a:pt x="2105525" y="285327"/>
                  <a:pt x="2158938" y="281901"/>
                  <a:pt x="2208628" y="267286"/>
                </a:cubicBezTo>
                <a:cubicBezTo>
                  <a:pt x="2241068" y="257745"/>
                  <a:pt x="2260955" y="221708"/>
                  <a:pt x="2293034" y="211015"/>
                </a:cubicBezTo>
                <a:lnTo>
                  <a:pt x="2335237" y="196948"/>
                </a:lnTo>
                <a:cubicBezTo>
                  <a:pt x="2344615" y="187569"/>
                  <a:pt x="2351509" y="174743"/>
                  <a:pt x="2363372" y="168812"/>
                </a:cubicBezTo>
                <a:cubicBezTo>
                  <a:pt x="2376612" y="162192"/>
                  <a:pt x="2482587" y="142156"/>
                  <a:pt x="2489981" y="140677"/>
                </a:cubicBezTo>
                <a:cubicBezTo>
                  <a:pt x="2588455" y="145366"/>
                  <a:pt x="2687158" y="146558"/>
                  <a:pt x="2785403" y="154745"/>
                </a:cubicBezTo>
                <a:cubicBezTo>
                  <a:pt x="2834465" y="158833"/>
                  <a:pt x="2825736" y="178060"/>
                  <a:pt x="2869809" y="196948"/>
                </a:cubicBezTo>
                <a:cubicBezTo>
                  <a:pt x="2887580" y="204564"/>
                  <a:pt x="2907323" y="206326"/>
                  <a:pt x="2926080" y="211015"/>
                </a:cubicBezTo>
                <a:cubicBezTo>
                  <a:pt x="2935458" y="220394"/>
                  <a:pt x="2941796" y="234494"/>
                  <a:pt x="2954215" y="239151"/>
                </a:cubicBezTo>
                <a:cubicBezTo>
                  <a:pt x="3027695" y="266706"/>
                  <a:pt x="3105094" y="246571"/>
                  <a:pt x="3179298" y="239151"/>
                </a:cubicBezTo>
                <a:cubicBezTo>
                  <a:pt x="3193366" y="234462"/>
                  <a:pt x="3208785" y="232712"/>
                  <a:pt x="3221501" y="225083"/>
                </a:cubicBezTo>
                <a:cubicBezTo>
                  <a:pt x="3232874" y="218259"/>
                  <a:pt x="3239280" y="205233"/>
                  <a:pt x="3249637" y="196948"/>
                </a:cubicBezTo>
                <a:cubicBezTo>
                  <a:pt x="3275019" y="176643"/>
                  <a:pt x="3319224" y="152232"/>
                  <a:pt x="3348111" y="140677"/>
                </a:cubicBezTo>
                <a:cubicBezTo>
                  <a:pt x="3375647" y="129663"/>
                  <a:pt x="3432517" y="112541"/>
                  <a:pt x="3432517" y="112541"/>
                </a:cubicBezTo>
                <a:cubicBezTo>
                  <a:pt x="3516923" y="117230"/>
                  <a:pt x="3601580" y="118594"/>
                  <a:pt x="3685735" y="126609"/>
                </a:cubicBezTo>
                <a:cubicBezTo>
                  <a:pt x="3746317" y="132379"/>
                  <a:pt x="3712933" y="148009"/>
                  <a:pt x="3770141" y="168812"/>
                </a:cubicBezTo>
                <a:cubicBezTo>
                  <a:pt x="4013771" y="257405"/>
                  <a:pt x="3788038" y="149626"/>
                  <a:pt x="3938954" y="225083"/>
                </a:cubicBezTo>
                <a:cubicBezTo>
                  <a:pt x="4032739" y="220394"/>
                  <a:pt x="4127025" y="221778"/>
                  <a:pt x="4220308" y="211015"/>
                </a:cubicBezTo>
                <a:cubicBezTo>
                  <a:pt x="4249770" y="207616"/>
                  <a:pt x="4275942" y="190073"/>
                  <a:pt x="4304714" y="182880"/>
                </a:cubicBezTo>
                <a:lnTo>
                  <a:pt x="4360985" y="168812"/>
                </a:lnTo>
                <a:cubicBezTo>
                  <a:pt x="4473526" y="173501"/>
                  <a:pt x="4587503" y="164362"/>
                  <a:pt x="4698609" y="182880"/>
                </a:cubicBezTo>
                <a:cubicBezTo>
                  <a:pt x="4731963" y="188439"/>
                  <a:pt x="4750936" y="228458"/>
                  <a:pt x="4783015" y="239151"/>
                </a:cubicBezTo>
                <a:cubicBezTo>
                  <a:pt x="4884223" y="272885"/>
                  <a:pt x="4757814" y="231949"/>
                  <a:pt x="4881489" y="267286"/>
                </a:cubicBezTo>
                <a:cubicBezTo>
                  <a:pt x="4895747" y="271360"/>
                  <a:pt x="4909624" y="276665"/>
                  <a:pt x="4923692" y="281354"/>
                </a:cubicBezTo>
                <a:cubicBezTo>
                  <a:pt x="4984652" y="276665"/>
                  <a:pt x="5046619" y="279277"/>
                  <a:pt x="5106572" y="267286"/>
                </a:cubicBezTo>
                <a:cubicBezTo>
                  <a:pt x="5119578" y="264685"/>
                  <a:pt x="5122845" y="245082"/>
                  <a:pt x="5134708" y="239151"/>
                </a:cubicBezTo>
                <a:cubicBezTo>
                  <a:pt x="5161234" y="225888"/>
                  <a:pt x="5190979" y="220393"/>
                  <a:pt x="5219114" y="211015"/>
                </a:cubicBezTo>
                <a:lnTo>
                  <a:pt x="5261317" y="196948"/>
                </a:lnTo>
                <a:cubicBezTo>
                  <a:pt x="5378548" y="201637"/>
                  <a:pt x="5495685" y="211015"/>
                  <a:pt x="5613009" y="211015"/>
                </a:cubicBezTo>
                <a:cubicBezTo>
                  <a:pt x="5706911" y="211015"/>
                  <a:pt x="5801250" y="209093"/>
                  <a:pt x="5894363" y="196948"/>
                </a:cubicBezTo>
                <a:cubicBezTo>
                  <a:pt x="5911128" y="194761"/>
                  <a:pt x="5923577" y="179636"/>
                  <a:pt x="5936566" y="168812"/>
                </a:cubicBezTo>
                <a:cubicBezTo>
                  <a:pt x="5963080" y="146717"/>
                  <a:pt x="6035040" y="68345"/>
                  <a:pt x="6035040" y="42203"/>
                </a:cubicBezTo>
                <a:lnTo>
                  <a:pt x="6035040" y="0"/>
                </a:lnTo>
              </a:path>
            </a:pathLst>
          </a:custGeom>
          <a:noFill/>
          <a:ln w="28440">
            <a:solidFill>
              <a:srgbClr val="9cc2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20"/>
          <p:cNvSpPr/>
          <p:nvPr/>
        </p:nvSpPr>
        <p:spPr>
          <a:xfrm>
            <a:off x="1595520" y="4665600"/>
            <a:ext cx="327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okerman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空心弧 27"/>
          <p:cNvSpPr/>
          <p:nvPr/>
        </p:nvSpPr>
        <p:spPr>
          <a:xfrm rot="10800000">
            <a:off x="6273720" y="840960"/>
            <a:ext cx="263520" cy="128520"/>
          </a:xfrm>
          <a:custGeom>
            <a:avLst/>
            <a:gdLst>
              <a:gd name="textAreaLeft" fmla="*/ 0 w 263520"/>
              <a:gd name="textAreaRight" fmla="*/ 263880 w 263520"/>
              <a:gd name="textAreaTop" fmla="*/ 0 h 128520"/>
              <a:gd name="textAreaBottom" fmla="*/ 45720 h 1285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23" descr=""/>
          <p:cNvPicPr/>
          <p:nvPr/>
        </p:nvPicPr>
        <p:blipFill>
          <a:blip r:embed="rId2"/>
          <a:stretch/>
        </p:blipFill>
        <p:spPr>
          <a:xfrm>
            <a:off x="6699240" y="887400"/>
            <a:ext cx="262080" cy="66600"/>
          </a:xfrm>
          <a:prstGeom prst="rect">
            <a:avLst/>
          </a:prstGeom>
          <a:ln w="0">
            <a:noFill/>
          </a:ln>
        </p:spPr>
      </p:pic>
      <p:sp>
        <p:nvSpPr>
          <p:cNvPr id="624" name="流程图: 联系 28"/>
          <p:cNvSpPr/>
          <p:nvPr/>
        </p:nvSpPr>
        <p:spPr>
          <a:xfrm>
            <a:off x="2630520" y="971640"/>
            <a:ext cx="112680" cy="1047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Picture 24" descr=""/>
          <p:cNvPicPr/>
          <p:nvPr/>
        </p:nvPicPr>
        <p:blipFill>
          <a:blip r:embed="rId3"/>
          <a:stretch/>
        </p:blipFill>
        <p:spPr>
          <a:xfrm>
            <a:off x="2892600" y="971640"/>
            <a:ext cx="115560" cy="101520"/>
          </a:xfrm>
          <a:prstGeom prst="rect">
            <a:avLst/>
          </a:prstGeom>
          <a:ln w="0">
            <a:noFill/>
          </a:ln>
        </p:spPr>
      </p:pic>
      <p:sp>
        <p:nvSpPr>
          <p:cNvPr id="626" name="任意多边形 30"/>
          <p:cNvSpPr/>
          <p:nvPr/>
        </p:nvSpPr>
        <p:spPr>
          <a:xfrm>
            <a:off x="2602080" y="1216080"/>
            <a:ext cx="492120" cy="93600"/>
          </a:xfrm>
          <a:custGeom>
            <a:avLst/>
            <a:gdLst>
              <a:gd name="textAreaLeft" fmla="*/ 0 w 492120"/>
              <a:gd name="textAreaRight" fmla="*/ 492480 w 4921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492369" h="92995">
                <a:moveTo>
                  <a:pt x="0" y="63436"/>
                </a:moveTo>
                <a:cubicBezTo>
                  <a:pt x="42203" y="58747"/>
                  <a:pt x="87183" y="65138"/>
                  <a:pt x="126609" y="49368"/>
                </a:cubicBezTo>
                <a:cubicBezTo>
                  <a:pt x="227517" y="9005"/>
                  <a:pt x="21037" y="-22745"/>
                  <a:pt x="196948" y="21233"/>
                </a:cubicBezTo>
                <a:cubicBezTo>
                  <a:pt x="255901" y="109664"/>
                  <a:pt x="193724" y="42861"/>
                  <a:pt x="253219" y="7165"/>
                </a:cubicBezTo>
                <a:cubicBezTo>
                  <a:pt x="265935" y="-464"/>
                  <a:pt x="281354" y="16544"/>
                  <a:pt x="295422" y="21233"/>
                </a:cubicBezTo>
                <a:cubicBezTo>
                  <a:pt x="297077" y="26197"/>
                  <a:pt x="313857" y="97513"/>
                  <a:pt x="337625" y="91571"/>
                </a:cubicBezTo>
                <a:cubicBezTo>
                  <a:pt x="354027" y="87470"/>
                  <a:pt x="356382" y="63436"/>
                  <a:pt x="365760" y="49368"/>
                </a:cubicBezTo>
                <a:cubicBezTo>
                  <a:pt x="379881" y="63489"/>
                  <a:pt x="408704" y="100703"/>
                  <a:pt x="436099" y="91571"/>
                </a:cubicBezTo>
                <a:lnTo>
                  <a:pt x="492369" y="35301"/>
                </a:ln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7" descr=""/>
          <p:cNvPicPr/>
          <p:nvPr/>
        </p:nvPicPr>
        <p:blipFill>
          <a:blip r:embed="rId4"/>
          <a:stretch/>
        </p:blipFill>
        <p:spPr>
          <a:xfrm>
            <a:off x="10426680" y="4816440"/>
            <a:ext cx="109440" cy="98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8" descr=""/>
          <p:cNvPicPr/>
          <p:nvPr/>
        </p:nvPicPr>
        <p:blipFill>
          <a:blip r:embed="rId5"/>
          <a:stretch/>
        </p:blipFill>
        <p:spPr>
          <a:xfrm>
            <a:off x="10686960" y="4811760"/>
            <a:ext cx="114480" cy="103320"/>
          </a:xfrm>
          <a:prstGeom prst="rect">
            <a:avLst/>
          </a:prstGeom>
          <a:ln w="0">
            <a:noFill/>
          </a:ln>
        </p:spPr>
      </p:pic>
      <p:sp>
        <p:nvSpPr>
          <p:cNvPr id="629" name="椭圆 1024"/>
          <p:cNvSpPr/>
          <p:nvPr/>
        </p:nvSpPr>
        <p:spPr>
          <a:xfrm>
            <a:off x="10250640" y="5045040"/>
            <a:ext cx="230040" cy="127080"/>
          </a:xfrm>
          <a:prstGeom prst="ellipse">
            <a:avLst/>
          </a:prstGeom>
          <a:solidFill>
            <a:srgbClr val="ff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9" descr=""/>
          <p:cNvPicPr/>
          <p:nvPr/>
        </p:nvPicPr>
        <p:blipFill>
          <a:blip r:embed="rId6"/>
          <a:stretch/>
        </p:blipFill>
        <p:spPr>
          <a:xfrm>
            <a:off x="10802880" y="5045040"/>
            <a:ext cx="231840" cy="1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3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00Z</dcterms:created>
  <dc:creator>zuazua W</dc:creator>
  <dc:description/>
  <cp:keywords/>
  <dc:language>en-US</dc:language>
  <cp:lastModifiedBy>a</cp:lastModifiedBy>
  <dcterms:modified xsi:type="dcterms:W3CDTF">2014-05-27T01:20:11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