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8D2-D35C-4976-8FD9-5B3ED1A8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E19-A3EF-4373-93B0-7A9DD25C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2FE-3FB1-4C6B-A6AF-E58CD9EE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1FF6-64D7-43CF-B8B0-A93F94CD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D165-18FC-4D51-BDD4-8E0CA25A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99FD-B939-4164-A7C5-08262AD1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2735-3B2A-425D-B505-25A1F4B2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3FD2-0012-45EE-B6F3-61A80A07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132F-7C8E-417E-B1CE-F1C5E6F1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2513-06B6-47C4-B550-3D92C0F3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A75C-B539-44B4-98B5-8AAAFBB9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EDD-D5C5-43FA-998D-1BBDA50B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AE19-5709-4D23-8D8F-92BB0153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213F-12C8-4A6A-9D54-71F9DB04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0419-17CE-4F38-9626-E43BD892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9110-2302-40C8-AA99-3CC92ED3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4C75-D05A-4644-B8FB-7D6D2D8E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EC2-0C3F-48DC-843B-4730F9AD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22E-ADF5-462C-B767-8DB99BC6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62C-0C97-4AA6-95C9-83C69164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F05-961A-444E-8E29-7A91AACF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049-8FC3-4279-9FC9-2DFC05C0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E74-0862-47D6-A8D4-1EFCB3F8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3CC-BA9F-4BFA-8CB8-61F97B39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97E1-558C-4B6C-8E8F-E47CAC27BE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C813-175B-430D-951B-65177C450AF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A43F-BB5B-4A16-8F39-AF2B7CFBEE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未标题-1.png"/>
          <p:cNvPicPr/>
          <p:nvPr/>
        </p:nvPicPr>
        <p:blipFill>
          <a:blip r:embed="rId2"/>
          <a:stretch/>
        </p:blipFill>
        <p:spPr>
          <a:xfrm>
            <a:off x="-639720" y="714240"/>
            <a:ext cx="6854760" cy="54295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" descr="未标题-2.png"/>
          <p:cNvPicPr/>
          <p:nvPr/>
        </p:nvPicPr>
        <p:blipFill>
          <a:blip r:embed="rId3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/>
  <dc:description/>
  <cp:keywords/>
  <dc:language>en-US</dc:language>
  <cp:lastModifiedBy>a</cp:lastModifiedBy>
  <dcterms:modified xsi:type="dcterms:W3CDTF">2014-05-21T02:52:22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