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34F-3FA2-4C9A-8C59-C6F7F49C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45A-91A6-4E18-94FD-26ECF6F6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56D-31F6-4E97-B515-4FA62FB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129-CAC6-4BD2-892F-C7A31294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3A0-9FEA-404B-8F8B-358B450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858-DA5C-46A0-9066-89CADE9B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64-A9FF-45B4-83FF-239486D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269-6DAA-4348-B66B-78DFC9B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87A-7EE6-459A-B629-97474350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5A7-6F90-4164-B605-1019AA1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532-1917-4828-BDCF-3B6E3C5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4FF-C559-41E6-B278-A658FBC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C864-70DC-4523-B14E-0EE86CFA3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371600" y="6597720"/>
            <a:ext cx="77738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4535640" cy="146988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雷锋精神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民提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于老一代革命家的积极倡导，学习雷锋的活动很快从军队向全国各行各业发展，迅速兴起了一个全国范围的学雷锋热潮。共青团中央、全国总工会和全国妇联相继做出决定，并以各种形式组织了学习和宣传雷锋的活动。《人民日报》、《解放军报》等报纸都用大量篇幅报道了各地开展学雷锋活动的情况，以及雷锋事迹、雷锋日记等……随着学雷锋活动的深入开展，全国各行各业和各条战线上，涌现出成千上万雷锋式的先进人物，社会上迅速地出现了一种奋发图强、积极向上的精神，进一步地形成了一种良好的社会新风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精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外史家关注的，也是学雷锋的政治含义。有关著作提到的关联事件，还有庐山会议后“林彪地位的上升”、“社会主义教育运动”、批“合二而一”等等。迈斯纳指出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初，解放军“首次出现在中国政治舞台上。军队的作用，最初基本上只限于宣传方式。第一个被作为标准的毛泽东主义道德典范，并具有高尚的生活情趣而被大力宣扬的军人英雄，是具有传奇色彩的雷锋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雷锋精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无论如何，雷锋本人在世之时，毕竟算不上政治人物。其实，在绝大多数国人心目中，学雷锋始终是一项提倡助人为乐的公益活动。不论其缘起如何，经过四十年磨砺，如今已被简化为“再单纯不过的符号”——可以“极凝练地概括为三个字：‘做好事！’。这显然比用“政治挂帅”或“无私奉献”概括“雷锋精神”，来得更贴切、更平实、更少非议。至于近年仍有人愿意探讨“雷锋精神”是属于“共产主义精神”、“时代精神”还是“民族精神”；“雷锋精神”与今日市场经济、消费社会，是“对立”的、“互补”的，还是有可能“化合”的……就让他们继续探讨下去好了。 　　过去大半个世纪里，以平凡而伟大见诸各类官方出版物的英模人物，不胜枚举：张思德、孟泰、时传祥、朱伯儒、李素丽、孔繁森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46:10Z</dcterms:created>
  <dc:creator>Administrator</dc:creator>
  <dc:description/>
  <dc:language>en-US</dc:language>
  <cp:lastModifiedBy>a</cp:lastModifiedBy>
  <dcterms:modified xsi:type="dcterms:W3CDTF">2014-12-26T05:12:59Z</dcterms:modified>
  <cp:revision>1</cp:revision>
  <dc:subject/>
  <dc:title>雷锋精神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