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F42-2993-4A1A-8AA1-91A0A6DE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5E0-E19F-476B-A42B-61004E76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337-EF9B-4380-A016-F7604364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6FC-BDAA-4067-9D1C-99F772D9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125-29DC-4C71-B7BF-1E4F5464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452-6249-4A33-813D-D5980667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122-416C-4F9C-8C25-3995AEB2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992-F835-4015-9834-67A1F481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AB8-BD51-453A-8D41-5F09D41B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16B-970E-44BB-94C5-E6FA8ED1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8D5-A419-4B94-B69A-12DE0295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32B-6A04-455C-A6A7-5B8488A2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7D1-5DF7-4DA2-A9C3-C1A47C2125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 rot="420000">
            <a:off x="-156960" y="5084640"/>
            <a:ext cx="5143680" cy="1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 rot="9420000">
            <a:off x="4734000" y="4460760"/>
            <a:ext cx="4664160" cy="1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56000" y="2349000"/>
            <a:ext cx="4603680" cy="96372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雷锋语录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语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愿做高山岩石之松，不做湖岸河旁之柳。我愿在暴风雨中艰苦的斗争中锻炼自己，不愿在平平静静的日子里度过自己的一生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谁要是游戏人生，他就一事无成；谁不能主宰自己，永远是一个奴隶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愿永远做一个螺丝钉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自己活着，就是为了使别人过得更美好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滴水只有放进大海里才永远不会干涸，一个人只有当他把自己和集体事业融合在一起的时候才能最有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朵鲜花打扮不出美丽的春天，一个人先进总是单枪匹马，众人先进才能移山填海。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语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是国家的主人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该处处为国家着想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人的生命是有限的，可是，为人民服务是无限的，我要把有限的生命，投入到无限的为人民服务之中去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对待同志要像春天般的温暖，对待工作要像夏天一样火热，对待个人主义要像秋风扫落叶一样，对待敌人要像严冬一样残酷无情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语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如果你是一滴水，你是否滋润了一寸土地？如果你是一线阳光，你是否照亮了一分黑暗？如果你是一颗粮食，你是否哺育了有用的生命？如果你是一颗最小的螺丝钉，你是否永远守在你生活的岗位上？如果你要告诉我们什么思想，你是否在日夜宣扬那最美丽的理想？你既然活着，你又是否为了未来的人类生活付出你的劳动，使世界一天天变得更美丽？我想问你，为未来带来了什么？在生活的仓库里，我们不应该只是个无穷尽的支付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语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青春啊，永远是美好的，可是真正的青春，只属于这些永远力争上游的人，永远忘我劳动的人，永远谦虚的人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力量从团结来，智慧从劳动来，行动从思想来，荣誉从集体来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在工作上，要向积极性最高的同志看齐，在生活上，要向水平最低的同志看齐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凡是脑子里只有人民、没有自己的人，就一定能得到崇高的荣誉和威信。反之，如果脑子里只有个人、没有人民的人，他们迟早会被人民唾弃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世界上最光荣的事——劳动。世界上最体面的人——劳动者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语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些人说工作忙、没有时间学习。我认为问题不在工作忙，而在于你愿不愿意学习，会不会挤时间。要学习的时间是有的，问题是我们善不善于挤，愿不愿意钻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块好好的木板，上面一个眼也没有，但钉子为什么能钉进去呢？这就是靠压力硬挤进去的，硬钻进去的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钉子有两个长处：一个是挤劲，一个是钻劲。我们在学习上，也要提倡这种“钉子”精神，善于挤和善于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觉得一个革命者就应该把革命利益放在第一位，为党的事业贡献出自己的一切，这才是最幸福的。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把别人的困难当成自己的困难，把同志的愉快看成自己的幸福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语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骄傲的人，其实是无知的人。他不知道自己能吃几碗干饭，他不懂得自己只是沧海一粟…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愿做高山岩石之松，不做湖岸河旁之柳。我愿在暴风雨中锻炼自己，不愿在平平静静的日子里度过自己的一生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个人的作用，对于革命事业来说，就如一架机器上的一颗螺丝钉。机器由于有许许多多的螺丝钉的联接和固定，才成了一个坚实的整体，才能够运转自如，发挥它巨大的工作能。螺丝钉虽小，其作用是不可估计的。我愿永远做一个螺丝钉。螺丝钉要经常保养和清洗，才不会生锈。人的思想也是这样，要经常检查，才不会出毛病；我愿永远做一个螺丝钉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语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但愿每次回忆，对生活都不感到负疚。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吃饭是为了活着，但活着不是为了吃饭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螺丝钉要经常保养和清洗，才不会生锈。人的思想也是这样，要经常检查，才不会出毛病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是光荣的战士，还是可耻的逃兵，那就要看你在困难面前有没有坚定不移的信念了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不经风雨，长不成大树；不受百炼，难以成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我们要真正的学到一点东西，就要虚心。譬如一个碗，如果已经装得满满的，哪怕再有好吃的的，像海参，鱼翅之类，也装不进去，如果碗里是空的，就能装进很多东西。装知识的碗，就像神话中的“宝碗”一样，永远也装不满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30:38Z</dcterms:created>
  <dc:creator>Administrator</dc:creator>
  <dc:description/>
  <dc:language>en-US</dc:language>
  <cp:lastModifiedBy>a</cp:lastModifiedBy>
  <dcterms:modified xsi:type="dcterms:W3CDTF">2014-12-31T04:03:20Z</dcterms:modified>
  <cp:revision>1</cp:revision>
  <dc:subject/>
  <dc:title>雷锋语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