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03A3-7370-4AAD-B12E-B17D1D97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5D6F-C7B5-41E9-BAF8-B450ECBB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9D2C-46C6-46C9-9991-7E26342F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8E48-1F8C-4783-8ECC-0B0F8ED8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541C-05C6-488D-A8C1-458A3336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48CC-B142-4A38-A6DA-AD9926C4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D373-206C-4CE2-B125-40F0BA91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89BE-C753-4A0A-878A-58F65455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C4C7-2F2E-4779-9C07-C6B2D77E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79AF-A1A3-4BF7-9F8D-139AED00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FAEC-5AE7-471A-AC63-FAAA84AD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81D0-8584-470C-AFE7-B441AAAF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77BB-A9AC-45E6-8C21-0E43540A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AFF6-3512-434D-AF83-8A6DE675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14D3-88AB-4680-AB38-19815107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FC42-47D7-4E82-BB5D-AAA4C192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37AB-165B-4891-BB75-71A3C5CD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8422-FC6C-49D9-B3D2-4EA5C397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B67D-9E0F-48A2-87D4-530DA4B5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B372-0891-457F-A1C4-BBB460B5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03F2-48F6-4C3C-9B4F-60815137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71C8-ACC5-4CB8-96D2-DB349C22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CC27-E59F-4B52-8884-08012AD1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93AC-B890-4EDC-889C-254AED2B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流程图: 过程 7"/>
          <p:cNvSpPr/>
          <p:nvPr/>
        </p:nvSpPr>
        <p:spPr>
          <a:xfrm>
            <a:off x="0" y="0"/>
            <a:ext cx="9140760" cy="6858000"/>
          </a:xfrm>
          <a:prstGeom prst="flowChartProcess">
            <a:avLst/>
          </a:prstGeom>
          <a:gradFill rotWithShape="0">
            <a:gsLst>
              <a:gs pos="0">
                <a:srgbClr val="e1e7f5"/>
              </a:gs>
              <a:gs pos="100000">
                <a:srgbClr val="010a2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bfbfb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bfbfb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716E-717A-431A-905D-2C48215E63D1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F00C-3731-4596-938C-591C8A20AF7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803B-0D28-4CDF-AA95-11A0F2083A7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C9EB-93A1-4469-BBB5-4B0ADA880D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6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矩形 9"/>
          <p:cNvSpPr/>
          <p:nvPr/>
        </p:nvSpPr>
        <p:spPr>
          <a:xfrm>
            <a:off x="0" y="0"/>
            <a:ext cx="9144000" cy="43657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e1e7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5"/>
          <p:cNvGrpSpPr/>
          <p:nvPr/>
        </p:nvGrpSpPr>
        <p:grpSpPr>
          <a:xfrm>
            <a:off x="-6480" y="4365720"/>
            <a:ext cx="9137880" cy="2232000"/>
            <a:chOff x="-6480" y="4365720"/>
            <a:chExt cx="9137880" cy="2232000"/>
          </a:xfrm>
        </p:grpSpPr>
        <p:grpSp>
          <p:nvGrpSpPr>
            <p:cNvPr id="87" name="Group 6"/>
            <p:cNvGrpSpPr/>
            <p:nvPr/>
          </p:nvGrpSpPr>
          <p:grpSpPr>
            <a:xfrm>
              <a:off x="-6480" y="4365720"/>
              <a:ext cx="9137880" cy="2232000"/>
              <a:chOff x="-6480" y="4365720"/>
              <a:chExt cx="9137880" cy="2232000"/>
            </a:xfrm>
          </p:grpSpPr>
          <p:sp>
            <p:nvSpPr>
              <p:cNvPr id="88" name="直接连接符 8"/>
              <p:cNvSpPr/>
              <p:nvPr/>
            </p:nvSpPr>
            <p:spPr>
              <a:xfrm>
                <a:off x="-6480" y="4365720"/>
                <a:ext cx="9137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直接连接符 11"/>
              <p:cNvSpPr/>
              <p:nvPr/>
            </p:nvSpPr>
            <p:spPr>
              <a:xfrm flipH="1">
                <a:off x="2415600" y="4365720"/>
                <a:ext cx="2302560" cy="22320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" name="直接连接符 14"/>
            <p:cNvSpPr/>
            <p:nvPr/>
          </p:nvSpPr>
          <p:spPr>
            <a:xfrm>
              <a:off x="4070880" y="5013720"/>
              <a:ext cx="3805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693880"/>
            <a:ext cx="7415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</a:rPr>
              <a:t>蓝光质感</a:t>
            </a:r>
            <a:r>
              <a:rPr b="0" lang="zh-CN" sz="4000" spc="-1" strike="noStrike">
                <a:solidFill>
                  <a:srgbClr val="ffffff"/>
                </a:solidFill>
                <a:latin typeface="Impact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Impact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0" y="4437000"/>
            <a:ext cx="42480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</a:rPr>
              <a:t>此处添加标题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273480" y="1628640"/>
            <a:ext cx="5508720" cy="367200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直角三角形 9"/>
          <p:cNvSpPr/>
          <p:nvPr/>
        </p:nvSpPr>
        <p:spPr>
          <a:xfrm flipH="1">
            <a:off x="8387640" y="6093000"/>
            <a:ext cx="755640" cy="765000"/>
          </a:xfrm>
          <a:prstGeom prst="rtTriangl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</a:rPr>
              <a:t>此处添加标题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557360"/>
            <a:ext cx="82072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8461440" y="6488280"/>
            <a:ext cx="6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6"/>
          <p:cNvGrpSpPr/>
          <p:nvPr/>
        </p:nvGrpSpPr>
        <p:grpSpPr>
          <a:xfrm>
            <a:off x="4211640" y="1397160"/>
            <a:ext cx="4578480" cy="4063680"/>
            <a:chOff x="4211640" y="1397160"/>
            <a:chExt cx="4578480" cy="4063680"/>
          </a:xfrm>
        </p:grpSpPr>
        <p:sp>
          <p:nvSpPr>
            <p:cNvPr id="101" name="Oval 7"/>
            <p:cNvSpPr/>
            <p:nvPr/>
          </p:nvSpPr>
          <p:spPr>
            <a:xfrm>
              <a:off x="5898240" y="2894040"/>
              <a:ext cx="1205280" cy="1069560"/>
            </a:xfrm>
            <a:prstGeom prst="ellipse">
              <a:avLst/>
            </a:prstGeom>
            <a:gradFill rotWithShape="0">
              <a:gsLst>
                <a:gs pos="0">
                  <a:srgbClr val="204a78"/>
                </a:gs>
                <a:gs pos="100000">
                  <a:srgbClr val="2962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Rectangle 8"/>
            <p:cNvSpPr/>
            <p:nvPr/>
          </p:nvSpPr>
          <p:spPr>
            <a:xfrm>
              <a:off x="6074640" y="3050640"/>
              <a:ext cx="85212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itle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AutoShape 9"/>
            <p:cNvSpPr/>
            <p:nvPr/>
          </p:nvSpPr>
          <p:spPr>
            <a:xfrm rot="16200000">
              <a:off x="6387840" y="2481840"/>
              <a:ext cx="226080" cy="409680"/>
            </a:xfrm>
            <a:prstGeom prst="rightArrow">
              <a:avLst>
                <a:gd name="adj1" fmla="val 60000"/>
                <a:gd name="adj2" fmla="val 50000"/>
              </a:avLst>
            </a:prstGeom>
            <a:gradFill rotWithShape="0">
              <a:gsLst>
                <a:gs pos="0">
                  <a:srgbClr val="2a598f"/>
                </a:gs>
                <a:gs pos="100000">
                  <a:srgbClr val="3475c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Rectangle 10"/>
            <p:cNvSpPr/>
            <p:nvPr/>
          </p:nvSpPr>
          <p:spPr>
            <a:xfrm rot="16200000">
              <a:off x="6421320" y="2597760"/>
              <a:ext cx="1584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1"/>
            <p:cNvSpPr/>
            <p:nvPr/>
          </p:nvSpPr>
          <p:spPr>
            <a:xfrm>
              <a:off x="5898240" y="1397160"/>
              <a:ext cx="1205280" cy="1069560"/>
            </a:xfrm>
            <a:prstGeom prst="ellipse">
              <a:avLst/>
            </a:prstGeom>
            <a:gradFill rotWithShape="0">
              <a:gsLst>
                <a:gs pos="0">
                  <a:srgbClr val="1d446e"/>
                </a:gs>
                <a:gs pos="100000">
                  <a:srgbClr val="255a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12"/>
            <p:cNvSpPr/>
            <p:nvPr/>
          </p:nvSpPr>
          <p:spPr>
            <a:xfrm>
              <a:off x="6074640" y="1553760"/>
              <a:ext cx="85212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13"/>
            <p:cNvSpPr/>
            <p:nvPr/>
          </p:nvSpPr>
          <p:spPr>
            <a:xfrm>
              <a:off x="7209360" y="3247200"/>
              <a:ext cx="254880" cy="363600"/>
            </a:xfrm>
            <a:prstGeom prst="rightArrow">
              <a:avLst>
                <a:gd name="adj1" fmla="val 60000"/>
                <a:gd name="adj2" fmla="val 50000"/>
              </a:avLst>
            </a:prstGeom>
            <a:gradFill rotWithShape="0">
              <a:gsLst>
                <a:gs pos="0">
                  <a:srgbClr val="59749b"/>
                </a:gs>
                <a:gs pos="100000">
                  <a:srgbClr val="7498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14"/>
            <p:cNvSpPr/>
            <p:nvPr/>
          </p:nvSpPr>
          <p:spPr>
            <a:xfrm>
              <a:off x="7209360" y="3319920"/>
              <a:ext cx="178200" cy="21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5"/>
            <p:cNvSpPr/>
            <p:nvPr/>
          </p:nvSpPr>
          <p:spPr>
            <a:xfrm>
              <a:off x="7584840" y="2894040"/>
              <a:ext cx="1205280" cy="1069560"/>
            </a:xfrm>
            <a:prstGeom prst="ellipse">
              <a:avLst/>
            </a:prstGeom>
            <a:gradFill rotWithShape="0">
              <a:gsLst>
                <a:gs pos="0">
                  <a:srgbClr val="456696"/>
                </a:gs>
                <a:gs pos="100000">
                  <a:srgbClr val="5b86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16"/>
            <p:cNvSpPr/>
            <p:nvPr/>
          </p:nvSpPr>
          <p:spPr>
            <a:xfrm>
              <a:off x="7761240" y="3050640"/>
              <a:ext cx="85212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AutoShape 17"/>
            <p:cNvSpPr/>
            <p:nvPr/>
          </p:nvSpPr>
          <p:spPr>
            <a:xfrm rot="5400000">
              <a:off x="6387840" y="3966120"/>
              <a:ext cx="226080" cy="409680"/>
            </a:xfrm>
            <a:prstGeom prst="rightArrow">
              <a:avLst>
                <a:gd name="adj1" fmla="val 60000"/>
                <a:gd name="adj2" fmla="val 50000"/>
              </a:avLst>
            </a:prstGeom>
            <a:gradFill rotWithShape="0">
              <a:gsLst>
                <a:gs pos="0">
                  <a:srgbClr val="8993a8"/>
                </a:gs>
                <a:gs pos="100000">
                  <a:srgbClr val="b3c3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18"/>
            <p:cNvSpPr/>
            <p:nvPr/>
          </p:nvSpPr>
          <p:spPr>
            <a:xfrm rot="5400000">
              <a:off x="6420960" y="4014000"/>
              <a:ext cx="1584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9"/>
            <p:cNvSpPr/>
            <p:nvPr/>
          </p:nvSpPr>
          <p:spPr>
            <a:xfrm>
              <a:off x="5898240" y="4391280"/>
              <a:ext cx="1205280" cy="1069560"/>
            </a:xfrm>
            <a:prstGeom prst="ellipse">
              <a:avLst/>
            </a:prstGeom>
            <a:gradFill rotWithShape="0">
              <a:gsLst>
                <a:gs pos="0">
                  <a:srgbClr val="8390a7"/>
                </a:gs>
                <a:gs pos="100000">
                  <a:srgbClr val="acbe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20"/>
            <p:cNvSpPr/>
            <p:nvPr/>
          </p:nvSpPr>
          <p:spPr>
            <a:xfrm>
              <a:off x="6074640" y="4547880"/>
              <a:ext cx="85212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AutoShape 21"/>
            <p:cNvSpPr/>
            <p:nvPr/>
          </p:nvSpPr>
          <p:spPr>
            <a:xfrm rot="10800000">
              <a:off x="5537160" y="3247200"/>
              <a:ext cx="254880" cy="363600"/>
            </a:xfrm>
            <a:prstGeom prst="rightArrow">
              <a:avLst>
                <a:gd name="adj1" fmla="val 60000"/>
                <a:gd name="adj2" fmla="val 50000"/>
              </a:avLst>
            </a:prstGeom>
            <a:gradFill rotWithShape="0">
              <a:gsLst>
                <a:gs pos="0">
                  <a:srgbClr val="59749b"/>
                </a:gs>
                <a:gs pos="100000">
                  <a:srgbClr val="7498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22"/>
            <p:cNvSpPr/>
            <p:nvPr/>
          </p:nvSpPr>
          <p:spPr>
            <a:xfrm>
              <a:off x="5613840" y="3319920"/>
              <a:ext cx="178200" cy="21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23"/>
            <p:cNvSpPr/>
            <p:nvPr/>
          </p:nvSpPr>
          <p:spPr>
            <a:xfrm>
              <a:off x="4211640" y="2894040"/>
              <a:ext cx="1205280" cy="1069560"/>
            </a:xfrm>
            <a:prstGeom prst="ellipse">
              <a:avLst/>
            </a:prstGeom>
            <a:gradFill rotWithShape="0">
              <a:gsLst>
                <a:gs pos="0">
                  <a:srgbClr val="456696"/>
                </a:gs>
                <a:gs pos="100000">
                  <a:srgbClr val="5b86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24"/>
            <p:cNvSpPr/>
            <p:nvPr/>
          </p:nvSpPr>
          <p:spPr>
            <a:xfrm>
              <a:off x="4388040" y="3050640"/>
              <a:ext cx="85212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68360" y="1628280"/>
            <a:ext cx="8207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17600" y="-17640"/>
            <a:ext cx="73692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矩形 5"/>
          <p:cNvSpPr/>
          <p:nvPr/>
        </p:nvSpPr>
        <p:spPr>
          <a:xfrm>
            <a:off x="552240" y="190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9T23:11:00Z</dcterms:created>
  <dc:creator>lenovo</dc:creator>
  <dc:description/>
  <dc:language>en-US</dc:language>
  <cp:lastModifiedBy>a</cp:lastModifiedBy>
  <dcterms:modified xsi:type="dcterms:W3CDTF">2014-12-15T17:53:05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