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0BA9-37B3-499A-AD55-9D5B2D2D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04A9-2995-4451-A94F-A2414D89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46D1-B77F-4BDB-95F8-2EE95AE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52602-56B2-4218-BC14-5D314EE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8472E-2C4E-4AD4-B53E-A5558FF2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69D3B-3795-4740-91D7-7E12FEA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1F17-891F-4FB3-A63A-92D4C69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15920-014D-4F45-8CC7-7212D82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3793-C8BB-4079-AF03-6359B13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F750E-879B-4BF1-ACC6-C50688F7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69792-5BF0-4A2A-A3CF-F197CFC3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9839D-3DE1-4549-86E5-C36EC3A8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4951-1279-4834-B468-9D88E068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347F-63F2-434C-8740-6E9A1BC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660C9-618F-486C-BCD4-63F10C20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03007-D8F2-484A-A504-CA7348FE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865BD-76E7-4D72-B509-511CB459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D322F-E4E3-4E30-8794-97159C7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0F9CA-5A9B-47E5-9CC9-A9763FD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4FDBB-AAF4-4862-8177-F1C577EF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76EAC-4FC7-41F6-9DF5-0D8F556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10A79-7C38-42C7-9090-9ED5391E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7C5E4-31AE-47FA-AC86-8411228E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2568-95AA-4AC7-9BC7-AFA34F12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A919B-8FB2-4DA3-B4C5-C6B1BBAD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4C31E-B900-4CB7-A78F-53825E7E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34DB2-3F33-4A07-9217-5CD7A84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4440-38F3-4317-944B-E05F38CC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530AC-6587-4F38-98DB-3917F0F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74318-B925-4F59-AFE6-E1C3649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78731-EA15-40A2-A682-4EB61BE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FC654-E07B-4893-9A04-2664A7A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181C-7607-4354-9B36-4649A1E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2E0B-EEE6-4F04-8D69-C8B0985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6B8-DC53-49E3-8C4A-0C289981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5107B-9DC0-48DE-94BA-E3F46D67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0B24A-8146-4622-9C5C-73FD174E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1C378-5CF5-4E1B-B09A-FCA0D6C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A8FD-8D0D-469F-AC2D-DE8CBA2D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9F27-6E01-471E-A113-0F12809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28CF-868A-4C34-8500-211EAA3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A6AB3-F1AC-4E1A-A82D-FA3513C8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858A6-67B5-4ADB-93B7-D1273DD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A57A7-E3E7-4FA0-838F-F5346B9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55C7B-01F7-4418-AE13-07AAB2C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122-8023-4FF3-99D3-739B692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F8ABD-D4C2-4676-ADB5-E9A2905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4323-0F26-4AB7-8617-5A2E732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FD291-D108-4A63-8F44-EE348911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7D33E-05C7-445B-B0A1-393DE259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7B9A-9873-4C46-83A3-332C7712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96C8F-1F06-4742-817D-BE18BA81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C7FCF-73E8-4F2C-AA96-4DD0B693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37285-0DFD-4CA5-83A7-1B26FDAC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B1927-3797-4552-872C-0F27411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6C202-985E-4CC2-8545-C52B30DC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470C-29EB-4402-B4DD-34E7572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6220B-D59E-4097-BB7E-F59B0AE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666CD-45A8-4E5F-BCC1-14AAD8B0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049F6-C8F7-49CC-B108-778EA589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6528A-9EC4-4CA7-8B2D-3B1837D1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A2EA8-431A-4B0E-8AE8-3D473EA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C4D11-1AED-4923-B632-7CEFB972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764FA-47E3-475F-B755-CA7C544A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DEC89-4FC5-4A83-A2D3-1765AB53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B0848-ACDA-4DE6-920E-601C9D7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5F2EE-2C0D-43FA-BC15-D8F61AA1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F1A-E98E-4294-993B-2AF2CA43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F03A7-7083-4EDE-A982-E92DD07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9E81C-5374-489D-9422-7D9458BD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D8E2B-5978-4A38-B472-5575493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05C2E-D95F-4264-A4E9-78EA604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C997D-B71C-4BD9-B308-AFA88EB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7D925-C49E-47D0-81B1-7EB3C9D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0E17C-B626-4175-A326-FC84CDB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8F49B-F98E-4494-9DAE-499720FC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E310F-F36F-4262-B420-6A385BF8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0844F-CDB2-4247-8836-46BA1FDD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9595-F83E-4CAD-A4A7-06A945D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45F93-62E6-4991-BEC8-9DF479B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B343B-06D3-4E50-A27C-C8455E2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E0B38-25F0-41FC-8FBA-893BEBA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C83E2-B6D3-4131-8E37-432B3DE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6C22B-7E8F-4344-B589-2107C86D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5975C-E802-4D92-920B-10681DA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DD139-6EF0-4FED-9888-1BA1BC37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D6506-5670-4206-BF0F-5C43CF09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81393-3A9E-4DAF-8B56-8308442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E51CF1-F4AF-4144-8ECD-2CDF4DB6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119A-9794-4E21-B50F-037D56A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DAB38-762A-4F7D-8238-76E3F81B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4DA168-FF8F-4A54-8333-A8D123E2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0728A-CC6E-489C-B48A-7B486269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07BBA-9493-425C-9538-98FE7362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6443D-A768-49C2-A625-D03AC2E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40C31-F3C7-4691-B1FA-434C02EE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BB1B9-3FC3-4F03-A61F-7679878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2E27B-2F9E-47FA-9CD4-ED36FC2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8933D-CB90-43D4-AF2A-A159C60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ED2EF-A0F9-4EF0-965A-D386737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A47E-3553-457A-8159-819F48B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7EFF6-0011-48A6-8505-8751773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C5678-F588-4B8D-9203-93936758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D36FA-8F9A-42B0-9CBD-770741D1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DE2B5-CDE9-4396-8494-E83734C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2964D-6FF1-4C8F-AFCA-B95CB97F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6A4B9-320E-4603-82DF-70BEBB9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0550F-79F7-4A9D-959D-ABE7C9A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318BF8-E656-458A-8D17-78BC5196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E7B9D-5051-4D90-9D10-21D263F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B00E2-67CD-490E-8E6A-1EF9BF62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6D82-7FD0-42A7-BCE8-755F5263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993-7949-4ECE-972D-CDAF289D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98776-0113-4911-AD3A-320ED64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994C6-E5A2-48B6-91E3-CB8D345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936CB-84B7-4B29-A6AF-630D4340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D7EC6-EA6E-4FBA-A455-3AE8BC9B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C7699-C7B0-4D5D-B6ED-C80A00B6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7FAA1-216B-4741-90C3-54D7D8E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04C32-9348-4CE4-B0F8-4B68D73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CD5C0D-38DD-43D2-9FE8-1B01567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3DA45-08B9-41EF-B37D-AAD414A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C0446-222C-406B-BDC2-8E046BA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B7E2-502B-4EA2-BE19-318BA38B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7E701-EAF0-4C9C-AEF2-7CABBC7D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25796-ECF8-4963-BF76-819773C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1DED5-260C-4771-A69E-9809736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2DF70-2BA3-4936-BB3C-C96E091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D6B3B-D52F-4722-AB6F-E362F232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B8F06-E230-4EC1-8202-5B815682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DDA8D-6F1E-4A0B-98E2-F03354D9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92A8C-0AF6-472D-B05F-FFB6A6FA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46422-A019-49CC-9093-938828D5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62717-CE1B-4208-89BB-EEBE28A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5D5-3F39-4DD3-9D27-D811A87E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7F1C9-B086-45E3-B1DA-04BAC6E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F9228-43A9-4177-BB46-AA71E8A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C8251-E09B-45A3-965E-C4F4DB7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D4980-1031-4925-85DD-49348A1A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8E909-736A-43E7-A1CE-27A12DB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B8911-B550-4FCB-A591-90DD6C4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A92233-1974-4D22-A609-151DD20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2EE99-97EE-4B04-9DA2-52DFE92F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E1DCD-458C-4FD9-B094-781F1DCD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89B60-15FA-4131-BF9C-1DF2AFA3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C7D0-B864-40F5-B4F0-A8BD2E79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AA908-CE52-4485-86A5-1360A30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107B1-1284-4B2B-9781-9ED0CC76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33C6C-4AD9-4873-996A-66DFE38E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0C92C-7C4D-4E03-9D76-1B760C0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D8EDD-5093-4D37-8E3C-DDAAD694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053A6-2F27-45A0-8F61-5924112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E3805-8FB9-431F-83BE-D6658E3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DA495-B652-42F9-A6F9-F20CE9B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EF18D0-1322-40E3-9524-C30A03B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E8527-C62E-4FD2-BC6E-135AFBAD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0872-1039-4568-97F4-0D2297B2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1F86E-0076-4337-AD2E-2EC4C43A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8D34AF-D852-48DE-B38B-5945F2E3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2F1E3-E8AF-4D00-A865-D0533501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44D75-B336-447A-93A2-9648549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D5D40-E96B-45C4-9242-04BC90B8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509B3-E1CC-4F49-AACD-1DBF83D2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8465F-1838-445B-8A40-7DDC7A7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C585B-7466-4D6D-8C40-5481362B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2A234-50D4-4410-9C25-000C156E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E4ABA-5683-4E52-97CC-2C085BE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86BF-98AE-4D08-ABE8-D1D8D95C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B3B24-517D-4BF6-AC3A-186400D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A5D3D-F229-4D8D-97F5-6953605D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CC57C-979B-40C2-B738-A3FBA866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FFB8D8-956F-4642-BAD8-22411BD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5DD6F-5F63-469B-9AB1-AF99CB2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59947-7055-43A6-80B4-64882C6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7C3965-9B2C-4F7E-8196-C860DC95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06DB99-CAD2-4549-8BDB-C373809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785BF-C167-4238-811E-C33E53F8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A249D-1380-4CF0-9A80-1F5999C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0D14-484B-40F0-83AC-76A5A35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0A3A1-66D8-4435-AD8D-11F20F69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94212F-43D0-4194-99E8-E872521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B9233-C98B-477B-8347-56CD674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29EA3-E514-4A07-8286-E409ABB9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48C8C-74D0-4AB2-8FC7-AA29B21D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D749FD-CB4F-4E8E-8CB4-8D9F627D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DD4AF-FADE-4F1C-9CB7-0A20CBC3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A6890C-0297-4313-87B0-F722C31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D31E06-8F38-4C29-94D5-C1AFA5EA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C8706-5A67-4951-A4CD-AA92D3B6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FB42-309A-425D-A559-9ADED43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3F61E9-E2AF-4FDD-8756-99FCC952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CCF18-AC80-48E2-B1DB-41B8A91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117FA-C3B3-4E0B-A6E7-321475D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8BC048-99A7-4E99-89F8-8949F16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A7FCD-FF46-42F7-A994-AAE5278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4A3A47-DACE-46FE-973A-C13BC9D8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824A2-6980-487B-AE56-DF028177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506BD-F47C-42E2-887B-32E45583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7B2D06-B549-4722-9545-F75F9F5E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6218E5-B00A-4646-80A3-33CDB497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F1E1-803C-4C2E-9B46-CA8D4278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77F8EE-BA8D-49A0-A80B-2A705C52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82B57B-E73C-48BC-A3B7-A5A11B86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3893A7-1DFA-4614-B7CF-3ACF015A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03DB81-149F-4FD3-868D-E862AF0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54E7A-012C-4C2A-A592-3EE4767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DE6B9-EB64-4A51-A49E-DF08566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E4D662-AC14-4401-BA04-58CE4031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A6E750-1B29-4F5C-AA3D-38766D04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3625B8-F1D3-48D1-BC47-53E533D7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A234D6-2713-468D-B340-53B4097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8F6F-740F-4334-A636-6DD78A9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DBBE3B-EF45-43F0-9BEF-B47C24B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E15ADA-93D7-445F-B9E2-67CC5B4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5362F6-3926-4818-AA05-5AEDB1D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073508-648A-4A92-AC66-DC2A259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D7374D-06AF-4DD0-B3A2-77113E8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5CFBBF-B4CF-43BD-BD48-5871944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7A3194-F126-4D17-A36D-854D41A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F21AAE-FD9C-4DC2-BBAE-391828DD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E94947-8A78-471E-BCA3-26D38AB9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F85DA4-51E0-42DE-8640-E3A39227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C363-EAB9-476B-B46D-6214473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2C3A-D55A-4C20-ACFA-3E683BE5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888799-2EBC-4F07-90A7-5E4C3B6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A93EA0-5E00-43DE-B32E-D6892382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84C227-B11C-482C-A054-FCD6C2C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D05C11-56E6-4BE6-9EC4-ECC187D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189334-9767-425C-A711-C322EBF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CF11C8-BE6C-4B93-A687-F2F2AAE7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7C8E26-0985-4434-87D0-E5C43CF5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2423E0-FC05-4C02-AE07-B88C523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54EA2D-F231-4B5A-B8A1-F56B44D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5B3BA5-9F7E-4551-BB0A-FB89CC88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83AD-46A1-4B57-BD11-B6837FC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9A33C1-5F4E-4777-8630-2EDBAA4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EE5D76-11C8-4302-84BF-1A7A69FE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23CE8-3664-4757-B31F-AE01F5FA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DBBAE5-9373-4D28-A004-6D94E1F5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7ADB82-7F21-4CA0-BAC9-ABB86E4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BB0924-6885-4A15-9CD4-1BDB7F26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46E68D-76C1-4392-AD88-63A04801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95474E-0F1F-4A97-AE20-C63D7BCF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D91E04-8BBF-4769-847A-4E30F7E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7172B6-2FE2-4632-8954-7F4A765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D5C9-620A-44FF-9ACF-778CA51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F2A10D-457C-4653-A10F-BE6EAD3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0FE05-8C7C-497F-BB16-DF375FC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9ED2EE-653E-4507-8D06-167C8B64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EF4039-6815-481B-9610-DF37B2AB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76CAF0-E69A-4505-AA05-D6C1EFE9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E2BFD4-4DA2-4828-BF1E-E1D8E683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D4B80-91A2-447B-95B7-F93C163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5F6B0A-60EE-4819-9D0B-C837524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FA7FC-0469-4366-BB47-A23FEA84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2B62FD-10A2-450B-97B5-AB586E02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E2EC-462B-4DE3-8A16-177BE880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87717E-D1C2-4661-AB63-8020B94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ACA9F4-E648-44AE-BFF6-9830F4A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766362-E2B0-42E8-BA63-F625BAC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EC0D0F-187D-4C03-9422-E87F1BB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630FE7-2380-45AE-BB87-81795F1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CAD6DC-869E-4B26-8433-B54CF4CE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E3237D-30B2-4322-BE7E-A40D658A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5F846C-0459-4C16-B346-7C5B8480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5CD86E-FC88-42F5-AA47-37B982D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74E87C-8214-4000-B235-90976BD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7BF2-45F9-4F3D-A5CD-4F03F71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5A8EA2-6390-4595-BE34-7DE5A88D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3312F0-9181-4227-B4C2-0A4FED9D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C256F1-C6B4-4A67-A9F4-2818921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478326-9BD0-44EF-A032-9BA2209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AD621B-A65A-42E0-9003-4D416F5F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23E2BD-A9B0-48DF-B3CE-7124A66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7AC569-DE63-441F-8D62-73B93A44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6BEA75-68B2-4F36-9E35-AD68F6EF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C97493-379F-4705-B9F5-20060D5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DD1E95-C569-4D11-BE61-C4956B60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8F2B-F05D-49A9-B96F-818FF405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47CEC3-E7A4-43FF-940A-F2A5307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374AFB-B206-418B-A7DE-1511E16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33D303-6850-41A3-B4A3-A5617AD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A86904-6F25-4C60-BA59-CEA8905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E26AC8-55F0-4510-9DC8-A62539B2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5E9D2F-63AB-41E3-9BFF-2F937FA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F79355-B605-45A1-B067-025030D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020002-F2CD-47D6-8540-42E9621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4F9390-EE52-4486-A623-BDE7CADD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1477E0-5326-41B5-B8CE-0574EE22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83D7-9BD0-46BE-AB4E-99E7CE05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128081-0476-457B-AB5F-2275A1F3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8AA94D-F985-432A-8549-AAD81AA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A83457-4F22-4C91-97E9-24834FB8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4B3779-EED4-45D0-B996-ABFFC433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73DCBD-E043-4F44-A078-653EBEC3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9C54A9-05C2-44BF-B131-4448888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43902D-B50B-4E57-BF25-C997528C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26109A-1028-4366-92AA-5A19795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A1F93C-9B78-43D3-9D9A-1F09537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A16DD9-7A6C-4F54-8C74-14D4740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4B36-1C36-490C-9E10-0B2049C0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E90917-718D-49D1-819D-1F5A8B3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2E5E86-E36F-4663-9BFD-411AC99C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EC2842-7E35-4146-9DB2-C1F40145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2EDF3E-DE1A-4C10-A174-012CB3C8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68CE8F-6CBE-4BD6-BFD0-B8A0DD2C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667AEB-C955-4D3A-B736-841F6281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2C02B-06C6-4683-8223-50B3626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1B9C0E-8D31-4BE5-B798-7F875BD4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AFD519-864E-49B1-8CE4-ECF9109B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AC24F9-09D2-4DDD-ADE0-DED6684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2669-D11A-49D6-876C-60D7FDE5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D0D67F-ADEF-4816-82B2-0842E640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604BD8-B58F-4705-B60E-AE3AAD7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1EB0D3-04BB-479B-BC72-A91F77B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62FD7A-3543-43A6-A61C-5F96EC65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8EDEA4-94C7-4606-91E6-56521626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E6B968-CC8D-4A09-B217-A8E1F4F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B715F5-B0B3-4EF0-B4A7-7FF33F5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88C4BA-8E41-49C4-AFA2-4069309B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C6C95C-2275-42AB-801E-73DBFBD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A76782-39CD-4320-9B67-EA93923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575A-F25A-4612-B0A2-FE1099DD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83842D-92B0-42B8-98BB-4A66D12E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42ED54-DC7E-4EC3-9FCC-C083400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58FBF7-D526-4D48-94C2-60DD6EAE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302BD4-584E-4E07-A04C-3F1EA849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91A66E-7CB4-4D09-B441-93EDCE7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7739B8-79A0-42B0-A118-B8B336D0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75413A-4E04-4BA2-A012-49A23D2B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C8706C-FBBD-44EC-AD76-90569C8A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6EEEC7-BCAC-4A79-8F2D-6AF91910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BD27E6-341C-42EF-9450-C9D02AAC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A4C1-EF01-4E9F-9103-8B0144A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0059-45D1-4AC8-87A1-70970563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3957E0-D432-4EA8-BE0F-A8483B3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C8FF51-CB59-4E59-956C-4395DE65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33EC02-A689-4DC5-970F-992A2E5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B63364-D852-4201-B573-9C63275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7058F1-1210-4219-A0F3-7D166AA8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5B4926-A4A1-42A6-8A43-28BC1EF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2AD53C-3211-479F-B3FD-E0DDCF60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30E190-C6F3-400A-837E-B2973F2C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C2ACBF-A599-421A-8CA5-855BD323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D14B25-C387-46D2-8D08-9139FB99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5950F-9F57-45F7-9333-760E66A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0FF68A-70FE-4741-8C01-4B06D39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1A4760-69CB-45BD-8981-4D19DF1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822FD6-3176-4F19-80D3-0CB8B27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59A99C-3AF2-47D3-BD16-BD795D8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541DED-0258-4720-B9A5-4B7B74B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16FF53-83AE-4DC4-9759-CBF2568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9EDB4A-8ECF-481D-BBEB-A0415CB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5C2866-3E39-4970-AB26-0399570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819CFB-933F-4F8D-8D26-2EE55C6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3C519F-0EA8-4598-9F95-49387083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F0E3-0571-4673-BCB1-A5B0A58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085725-2294-4FE6-B722-BC6DEECE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68B4A7-B30D-4003-BEFB-690B395B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2C71DE-4829-4F87-BF30-9A753A9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271311-E05A-4F15-B6BA-8859729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02C71D-9390-4290-8623-B5AC793C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BE3AD3-D2CC-4EC1-B537-DA03A31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A1BFD5-9872-4A03-9FA2-7D6AAE4D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E8E94E-B14B-464F-884C-15F9FE6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48A519-5357-4B9C-A951-EFFE597D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C53494-CFD1-46CE-9F8A-CAAF89A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19E0-7B5D-4262-9FC0-7B80D5A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7448D0-0F22-424A-9D2D-1BA888F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EA30DD-587B-4205-955B-755D97D0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A33544-EE58-44CD-AB09-2B486CB4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C10C32-A669-4600-944A-55E2FFC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C82B96-1181-45B6-B74D-53809D55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22804A-21A6-4533-9920-597D908E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4C7972-6D80-4B40-ABC3-9B402E7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78883D-9AF5-484A-B213-BE8556B0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930729-9D7C-4064-B580-9E03008C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A1671B-84BB-4D99-96D9-0D3F10F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0FF2-BDEA-4669-BF16-5209CD1B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707B468-291E-42F6-AD5E-2EEFDFF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D088DF-0187-4CCE-8A16-DA3BE86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A49677-47D2-43B2-AF49-902CA294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69112A-971D-48DA-B748-BFCE4657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0F4F7D-0EA5-44BA-8599-74D5A2BA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FE7ADB-CD18-40E3-A405-DA2E8F07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D42514-58D1-4E91-8C45-8A5AABB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45B07A-7959-4DCA-A9A4-469981C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0F0494-917D-45B2-A33F-2AF72A3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38E918-B1E6-408C-8903-2E43246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2087-4293-44EB-BB19-0CC685F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AD802C-DE49-40AA-8FDB-46F23648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19E7E6-02FF-4300-B090-63BF2FC7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3D8BF5-B4B1-4CE0-9195-535F637F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144F26-877F-4EF1-A672-FFD368F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463782-9801-4E33-B907-795E0EA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137C8A-0D2B-4E3B-BBE8-73114AD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83428A-1F22-43C3-B730-6276A40D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4C4067-BC2C-40DA-AD72-5E930CAE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E4B389-1A87-4D03-AA4C-7E45E807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DD6A49-467B-4A76-853C-7B68E60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43E1-1225-4DBA-855B-BCB58E9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57DCB8-E8D7-46E5-9D46-DDE70024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E6EFA9-6316-4B6F-BBF2-5B2FDAFB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0A6BB9-27EE-4974-B560-65ABFF53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A75260-5B09-46E9-830E-A521CA9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444CE2-CE97-4A50-8410-8A6921C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0FF562-8707-40E7-BB16-25E5B12B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EF8C3A-19A5-41F0-91CB-7503362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59B666-C5FC-469E-814F-EDA5B090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4BF7DE-016A-4090-A428-D09CA833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E53EEA-C4F6-4EAB-991C-5927B434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6A14-F153-4DD9-8A46-A752B774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B079FF-6F56-49C1-9D84-51AFD9F4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9F63C7-8DEE-462D-927E-26FCEF1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9DD55B1-CD90-41D5-858C-4CD1E925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469AEB-3E69-4E12-90FD-F152FFA8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9A36C1-1905-4A8D-BEBD-25E74BB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1A679D-3C2A-424A-B792-3FD88BBD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14CF93-087A-4E40-B604-B580ED8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0CBAD4-884E-4B8A-85DF-613BCFE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38A955-64F2-49D8-8313-FB85BB3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D0BA2F-0101-4710-927E-8B7F8597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4704-7CDC-47A9-9418-9805466D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76F916B-A515-4167-870B-060EE1B1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45FB-FB82-40D9-AB71-F6719BFC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4B6F-5F67-47AC-BCDA-D17D3DD2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0C58-E3FF-41EE-BA15-E9EFA76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A071-99A3-42C9-A415-7020D6F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93AC-3FB4-412C-B7AA-4E3F41A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C2DE-25A8-4018-AECA-CEE5AF9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7B0CD-210F-42B1-BC94-BB28FEAC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23646-B195-4434-99D2-84F10D8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1D44-65B8-452B-BEB5-2DD3E3E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3DD1-9F9A-4C2F-A6D0-2E7DE13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0C242-F016-4D90-BA4E-8E81739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E116-6709-4112-9E7D-DBBD58C8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E71C-F21B-45A1-A088-CCE7A120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F8E5-BD46-4D0C-BE60-6B096457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CE82-46A0-412A-A6EB-9D42FAA1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F89F-7D08-4891-A633-D5F4E0E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3D05F-1E11-4CA7-ABB9-F1259A3C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90E4-A610-4B6C-B182-0D43EF3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E522-8D59-4E94-AE2E-308C6795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8B4F-98BB-4159-AD40-796A210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C732-B156-43EE-8CBC-FFA651C4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C8C6-816E-4162-89E5-38D0BBC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BF8F-EDAE-4E57-A153-98304CD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5923-3469-4A37-9675-2EF21DB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5778-A682-42F6-9F75-B7F8A15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025E-8F59-464D-BD1C-5D8A26A0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2517-0C6A-436B-A869-EE90015A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253A-CC45-4CDD-BE5E-65720C38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B9C7-FC91-4907-840B-FD67147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6503-BE12-4B44-80CC-762BA02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8DB6-6B06-47D2-BB7B-9E7BEDAF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8A727-DD0C-447D-85DC-D85DC644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7D9B8-CA8B-4747-8B9A-AE5D2E4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06692-0C20-4190-B8DC-E1C7DF6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B824-1286-4A27-976C-AC8925B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AA849-985A-485E-914E-338FFA4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17A9D-8B48-484E-9928-565FD19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FAE96-38C2-4C7A-8AFF-107D060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28942-E110-48E3-8002-692745DB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3BC6-A7D2-4F38-A9DF-57DE021D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22D7-9567-4F2B-B315-F78A962E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FA24-8C21-463D-8E3A-C6842A1A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1546-78DC-458E-95E7-92718B8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B2A6-0E45-4C5B-8482-6B7D74E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06E0A-DE36-42A0-817A-87268122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FB27-B925-4AEF-AB89-A08D13B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A1F5-BD96-450E-A306-FC3DD78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0F49-CE1F-4631-98B3-E1C988C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0D70-7E49-4202-90B6-997E1B4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01C0-5454-4201-B43B-234A97B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36FB1-D3E8-4790-9FC2-12C48AB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CB579-1D6D-4C19-A16A-756E6F05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3C167-3F7E-4947-8C06-2FCCCF24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F4447-9367-4ECA-98D3-34D1CF45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68D8-AAA8-46C7-A71A-4680578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BB5D9-CB6F-4183-96A8-5E0F2FFC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9DF-9129-498B-9D77-D347A57E6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58F9-7168-4FBB-ADAD-2BA053F2C070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BDB2-BA97-4833-AEFC-BA87C93EC1A6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D37-69BA-4F61-937D-3343AC7AB90D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13EB-3BD9-4C39-B7DD-C8E99611989F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DE11-7C84-411F-B05B-4B089A1936E4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54F8-4A83-4A88-8329-C75D693C2955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646D-E1D9-46AF-81A9-585BB358ED60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8DA8-3B55-4F80-BF61-4278974A441F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8683-B2E4-460D-8031-A63A36086780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4A5B-23ED-4E5D-A267-DAA7C2D40A5C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F5D-A76A-48D7-8C51-CB43B17B4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5B14-75F4-45A2-94E1-F48672BB804F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674-1E01-4474-86C6-2A617C012231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5B81-119E-4B25-B02B-06B18FA78EEB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2445-266D-45F5-845C-3189CF874E17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313F-E09B-40E1-94C4-B3DE4E9C73DF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9A80-690E-49DC-8803-F843153D3938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1F8B-367B-4D78-B846-2B9E20A51B6B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A53C-0FE4-4E78-A097-493CEED828BE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E05E-B1F5-4158-8011-9EB3D2D8DBEA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6B5-71C7-4FA7-A32C-9966682B26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55A1-F520-4B15-A15C-2A96C6CFD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57D-7DC0-46FF-A654-FEF6B7FA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F7FB-CDA1-4D9C-A790-49F9546201FB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1D7-2B22-4373-AB52-1041A4E5CFBD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F85-5171-43BB-81D1-9554C4977931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FF0-BD73-42A4-AA1B-21228AFD460D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84C2-ECF2-4C0A-BC13-0EB229D41E94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683-327A-48EF-92BD-C157B886D4A5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4AD6-D9DB-4B33-B673-ABE3F4969186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34EE-674E-48D9-B42A-F07186B79E69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7F3-A755-491C-9006-BE16CF1B7A1B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FD4-18CF-4A14-A563-0EEA6F6046FC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78AD-F5EF-42C7-890D-C17A6AFAD84C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65DA-0CC6-4C5E-B5DF-84135FC9E379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4EBB-E345-41B0-8980-BCFC4DD520D4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E99C-B819-43D7-927C-D1EC7F4BC76D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70F-3981-4E0F-9C82-8A448DD96EBE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9C1-B439-4339-8036-5DEAEF1EC244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EF4A-57F6-48A8-87AA-27F95DE590D1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9DF-D7E7-4EEF-8A80-90AB3E1B12D1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BF38-7027-4894-B73E-CE2F5C6FA315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C4B-6BD7-4E5D-924D-241EC66A4A03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AF84-E682-49CE-B8B1-7113A4D68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600-BE50-4326-BA0B-0924FD3ADAB1}" type="datetime">
              <a:rPr b="0" lang="zh-CN" sz="14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7B2-CAA3-4890-94F8-6DD7AE03DA0C}" type="slidenum">
              <a:rPr b="0" lang="zh-CN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9B4-5985-43D7-AD9E-B22A591699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4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519-E653-4492-A228-B26B539F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D72-88DD-4404-9E15-E0A014C1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39E-81AE-4419-BAC3-BB39D38A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3EC3-E382-450F-8DD8-37BFA9840312}" type="slidenum">
              <a:rPr b="0" lang="zh-CN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4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Picture 5" descr="200861294742328_2">
            <a:hlinkClick r:id="" action="ppaction://hlinkshowjump?jump=nextslide"/>
          </p:cNvPr>
          <p:cNvPicPr/>
          <p:nvPr/>
        </p:nvPicPr>
        <p:blipFill>
          <a:blip r:embed="rId1"/>
          <a:srcRect l="-1168" t="34358" r="0" b="0"/>
          <a:stretch/>
        </p:blipFill>
        <p:spPr>
          <a:xfrm>
            <a:off x="-176040" y="0"/>
            <a:ext cx="9320040" cy="714528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6"/>
          <p:cNvSpPr/>
          <p:nvPr/>
        </p:nvSpPr>
        <p:spPr>
          <a:xfrm>
            <a:off x="3708360" y="189000"/>
            <a:ext cx="18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514"/>
                </a:solidFill>
                <a:latin typeface="Arial"/>
                <a:ea typeface="隶书"/>
              </a:rPr>
              <a:t>路</a:t>
            </a:r>
            <a:endParaRPr b="0" lang="en-US" sz="1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8" name="Picture 18" descr="ANd9GcRH8s9sSxQZVR1RL0zWxRIvRI_RfgL9kdwsWpNftLBrvxuy49C9VppLT3TN"/>
          <p:cNvPicPr/>
          <p:nvPr/>
        </p:nvPicPr>
        <p:blipFill>
          <a:blip r:embed="rId2"/>
          <a:stretch/>
        </p:blipFill>
        <p:spPr>
          <a:xfrm rot="579000">
            <a:off x="4572000" y="3068280"/>
            <a:ext cx="547560" cy="39996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7 2.65896E-006 L 0.25208 0.70266 E">
                                      <p:cBhvr>
                                        <p:cTn id="10" dur="2000" fill="hold"/>
                                        <p:tgtEl>
                                          <p:spTgt spid="1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698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Text Box 6"/>
          <p:cNvSpPr/>
          <p:nvPr/>
        </p:nvSpPr>
        <p:spPr>
          <a:xfrm>
            <a:off x="4211640" y="1197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0" name="Text Box 7"/>
          <p:cNvSpPr/>
          <p:nvPr/>
        </p:nvSpPr>
        <p:spPr>
          <a:xfrm>
            <a:off x="3564000" y="1413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1" name="Picture 14" descr="图片1"/>
          <p:cNvPicPr/>
          <p:nvPr/>
        </p:nvPicPr>
        <p:blipFill>
          <a:blip r:embed="rId1"/>
          <a:stretch/>
        </p:blipFill>
        <p:spPr>
          <a:xfrm>
            <a:off x="468360" y="1052640"/>
            <a:ext cx="3598920" cy="4968720"/>
          </a:xfrm>
          <a:prstGeom prst="rect">
            <a:avLst/>
          </a:prstGeom>
          <a:ln w="0">
            <a:noFill/>
          </a:ln>
        </p:spPr>
      </p:pic>
      <p:sp>
        <p:nvSpPr>
          <p:cNvPr id="1702" name="Text Box 15"/>
          <p:cNvSpPr/>
          <p:nvPr/>
        </p:nvSpPr>
        <p:spPr>
          <a:xfrm>
            <a:off x="-4135320" y="2637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人生就是一条路，有时你会遇到一马平川的大路，那时你可以顺风顺水地通过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3" name="Picture 17" descr="%C9%BD%C2%B7%CA%AE%B0%CB%CD%E4"/>
          <p:cNvPicPr/>
          <p:nvPr/>
        </p:nvPicPr>
        <p:blipFill>
          <a:blip r:embed="rId2"/>
          <a:stretch/>
        </p:blipFill>
        <p:spPr>
          <a:xfrm>
            <a:off x="4643280" y="98100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1704" name="Text Box 18"/>
          <p:cNvSpPr/>
          <p:nvPr/>
        </p:nvSpPr>
        <p:spPr>
          <a:xfrm>
            <a:off x="4894200" y="818208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有时你也会遇到蜿蜒崎岖的山路，那时你只有小心谨慎，一步一步慢慢地走，才能安全通过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7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3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02778 0.0941 C 0.05156 0.28254 0.13038 0.47121 0.23351 0.4689 C 0.33646 0.46659 0.47517 0.11213 0.59201 0.08046 C 0.70885 0.04878 0.86736 0.25595 0.9349 0.2793 C 1.00226 0.30242 0.99913 0.26104 0.99583 0.21988 E">
                                      <p:cBhvr>
                                        <p:cTn id="21" dur="2000" fill="hold"/>
                                        <p:tgtEl>
                                          <p:spTgt spid="1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" presetSubtype="10">
                                  <p:stCondLst>
                                    <p:cond delay="8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0 C 0.06163 -0.02983 0.12326 -0.05966 0.12222 -0.10359 C 0.12118 -0.14752 0.01493 -0.14775 -0.00625 -0.26405 C -0.02743 -0.38035 0.08212 -0.7452 -0.00469 -0.80116 C -0.09149 -0.85711 -0.43993 -0.63376 -0.52691 -0.60023 E">
                                      <p:cBhvr>
                                        <p:cTn id="29" dur="2000" fill="hold"/>
                                        <p:tgtEl>
                                          <p:spTgt spid="1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Text Box 4"/>
          <p:cNvSpPr/>
          <p:nvPr/>
        </p:nvSpPr>
        <p:spPr>
          <a:xfrm>
            <a:off x="1835280" y="285264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人生路漫漫，有平坦也有崎岖，有笔直也有蜿蜒。许多人也有这样的感受，他们无法预测下一秒钟的路会是什么样子，于是，他们只能凭着自己的经验和直觉去探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6" name="Picture 8" descr="200908170002"/>
          <p:cNvPicPr/>
          <p:nvPr/>
        </p:nvPicPr>
        <p:blipFill>
          <a:blip r:embed="rId1"/>
          <a:stretch/>
        </p:blipFill>
        <p:spPr>
          <a:xfrm>
            <a:off x="250920" y="765000"/>
            <a:ext cx="4217760" cy="4608720"/>
          </a:xfrm>
          <a:prstGeom prst="rect">
            <a:avLst/>
          </a:prstGeom>
          <a:ln w="0">
            <a:noFill/>
          </a:ln>
        </p:spPr>
      </p:pic>
      <p:sp>
        <p:nvSpPr>
          <p:cNvPr id="1707" name="Text Box 9"/>
          <p:cNvSpPr/>
          <p:nvPr/>
        </p:nvSpPr>
        <p:spPr>
          <a:xfrm>
            <a:off x="3924360" y="79660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鲁迅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希望本无所谓有， 无所谓无。这正如地上的路，其实地上本没有路，走的人多了，也便成了路 。于是鲁迅向着他救国的希望不断地探索，终于开辟出了一条路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8" name="Picture 11" descr="200768171819742"/>
          <p:cNvPicPr/>
          <p:nvPr/>
        </p:nvPicPr>
        <p:blipFill>
          <a:blip r:embed="rId2"/>
          <a:srcRect l="0" t="0" r="0" b="16669"/>
          <a:stretch/>
        </p:blipFill>
        <p:spPr>
          <a:xfrm>
            <a:off x="4788000" y="1052640"/>
            <a:ext cx="3422520" cy="42480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12"/>
          <p:cNvSpPr/>
          <p:nvPr/>
        </p:nvSpPr>
        <p:spPr>
          <a:xfrm>
            <a:off x="0" y="710100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弗罗斯特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但我却选了另外一条路，它荒草萋萋，十分幽寂， 显得更诱人，更美丽； 虽然在这条小路上，很少留下旅人的足迹。他于是选择了一条很少有人走过的路，成了最受欢迎的美国诗人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0" name="Picture 14" descr="200701151018316df09"/>
          <p:cNvPicPr/>
          <p:nvPr/>
        </p:nvPicPr>
        <p:blipFill>
          <a:blip r:embed="rId3"/>
          <a:stretch/>
        </p:blipFill>
        <p:spPr>
          <a:xfrm>
            <a:off x="250920" y="620640"/>
            <a:ext cx="4032000" cy="5213520"/>
          </a:xfrm>
          <a:prstGeom prst="rect">
            <a:avLst/>
          </a:prstGeom>
          <a:ln w="0">
            <a:noFill/>
          </a:ln>
        </p:spPr>
      </p:pic>
      <p:sp>
        <p:nvSpPr>
          <p:cNvPr id="1711" name="Text Box 15"/>
          <p:cNvSpPr/>
          <p:nvPr/>
        </p:nvSpPr>
        <p:spPr>
          <a:xfrm>
            <a:off x="12996720" y="14842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但丁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走自己的路，让别人说去吧。于是他毅然放弃了回国。几经波折，他写出了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神曲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，吹响了文艺复兴的号角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48000"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49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3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-0.04861 -0.19029 C 0.09566 -0.2874 0.24028 -0.38498 0.21511 -0.47076 C 0.18993 -0.557 -0.15937 -0.60209 -0.19983 -0.70798 C -0.2401 -0.81388 -0.07708 -1.05804 -0.02795 -1.10683 C 0.02136 -1.15515 0.05833 -1.07769 0.09549 -0.99954 E">
                                      <p:cBhvr>
                                        <p:cTn id="47" dur="20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7">
                                  <p:stCondLst>
                                    <p:cond delay="2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4">
                                  <p:stCondLst>
                                    <p:cond delay="2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26000"/>
                                  </p:stCondLst>
                                  <p:childTnLst>
                                    <p:animMotion origin="layout" path="M 0.00208 -0.13572 C 0.16944 -0.15491 0.33698 -0.1741 0.31007 -0.24138 C 0.28316 -0.30867 -0.1184 -0.44046 -0.15972 -0.53942 C -0.20104 -0.63838 -0.06927 -0.73687 0.0625 -0.83537 E">
                                      <p:cBhvr>
                                        <p:cTn id="67" dur="20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5">
                                  <p:stCondLst>
                                    <p:cond delay="3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2" presetSubtype="4">
                                  <p:stCondLst>
                                    <p:cond delay="3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4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40000"/>
                                  </p:stCondLst>
                                  <p:childTnLst>
                                    <p:animMotion origin="layout" path="M -0.18646 0.03931 C -0.26216 0.23329 -0.33785 0.42751 -0.40695 0.44116 C -0.47605 0.4548 -0.52431 0.14728 -0.6007 0.12185 C -0.67709 0.09642 -0.81424 0.29133 -0.8658 0.28879 C -0.91736 0.28624 -0.91389 0.19653 -0.91025 0.10705 E">
                                      <p:cBhvr>
                                        <p:cTn id="88" dur="2000" fill="hold"/>
                                        <p:tgtEl>
                                          <p:spTgt spid="1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2" name="Picture 8" descr="2009122412181669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3" name="Text Box 4"/>
          <p:cNvSpPr/>
          <p:nvPr/>
        </p:nvSpPr>
        <p:spPr>
          <a:xfrm>
            <a:off x="1692360" y="2708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每个人都有自己的人生路，有崎岖，有平坦，有笔直，有蜿蜒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但无论如何，只要是认真地走过了，就无怨无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0000"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5-29T00:53:08Z</dcterms:modified>
  <cp:revision>1</cp:revision>
  <dc:subject/>
  <dc:title>PowerPoint 演示文稿</dc:title>
</cp:coreProperties>
</file>