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832-AD66-4010-92AB-8E92BBBB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939-34D5-421E-82B6-9D11A6D9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378-D722-46A5-930D-39F3985D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59F-3FFC-4504-9B1C-EB2F869B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BF9-329E-4E08-98B9-266D8195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4E1-1EB1-4637-9616-5F92FBDC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26A-41AA-461A-9645-8599DCBD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92C-B97B-4FFE-95B0-162B8822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256-1100-4C3A-AACA-C9D2D314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802-F32E-47CC-A49A-956B3EBD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FB3-8293-46F5-B7F1-7BD1BA38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78B-FA7D-404F-9F28-BE8A6E9F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42EA-E20E-4CC7-8005-D0ADB61E4D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7AFF-5FA1-4840-9036-397F61545E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1:37:02Z</dcterms:created>
  <dc:creator>lenovo</dc:creator>
  <dc:description/>
  <cp:keywords/>
  <dc:language>en-US</dc:language>
  <cp:lastModifiedBy>a</cp:lastModifiedBy>
  <dcterms:modified xsi:type="dcterms:W3CDTF">2014-05-21T02:51:2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