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AC4-13BC-42E8-A9A9-D3AF6F97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560" y="37368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FB5-61AD-40E7-B82F-2DD4A336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091-FABF-4FDA-99EF-AD14DD4C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564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672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56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564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672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123-447E-4D79-B162-8B671E86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AE75-A7E4-4DC6-845C-9D38A901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971F-D226-4A7F-A6C6-E002A877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01B-3884-4552-8146-1E0A4430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9DEE-2083-4996-A7F8-78D3A7C6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766E-6EA1-4E60-AD5A-3B196751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560" y="115560"/>
            <a:ext cx="5832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0223-8F18-4732-8E77-78CF5927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2F03-71A8-48A1-B645-322219E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F11-01F4-44EF-9F9C-D3C322FA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AFB2-FB7E-4806-B2CB-EF00545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2130-F53F-425F-B86F-3CD40D8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560" y="37368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203F-F04E-4DCF-A3D6-40E6B7C3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C180-509E-43E8-AE2E-602328A5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564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6720" y="11250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56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564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6720" y="3736800"/>
            <a:ext cx="2914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ECE3-3F27-4474-922D-F85BA0FF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135-71D0-40DA-879A-B76EDB98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02C-95CB-4150-93A0-5595D9F9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B3E-1289-46EC-ACFF-4E569983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560" y="115560"/>
            <a:ext cx="5832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13D-100A-4D77-8A50-485D22C2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00A-1F35-4497-AC42-D608947A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A28-B397-4A4E-8CFA-81EDB84A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4179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560" y="3736800"/>
            <a:ext cx="90536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65E-3968-43E0-9787-56D3095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HIPPING 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25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6760" y="633708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623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F391-DE0B-4AD4-8317-6F97124B849F}" type="slidenum">
              <a:rPr b="1" lang="en-GB" sz="14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HIPPING TB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0" y="0"/>
            <a:ext cx="9144000" cy="5877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425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336760" y="633708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23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4E32-3750-46D5-A22E-18C14135EF38}" type="slidenum">
              <a:rPr b="1" lang="en-GB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353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蓝色机械工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3024360"/>
            <a:ext cx="8353440" cy="119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HIPPING-TB"/>
          <p:cNvPicPr/>
          <p:nvPr/>
        </p:nvPicPr>
        <p:blipFill>
          <a:blip r:embed="rId1"/>
          <a:stretch/>
        </p:blipFill>
        <p:spPr>
          <a:xfrm>
            <a:off x="0" y="0"/>
            <a:ext cx="9144000" cy="1104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83236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90536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46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1059b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46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46a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9:55:26Z</dcterms:created>
  <dc:creator>graphics07</dc:creator>
  <dc:description/>
  <dc:language>en-US</dc:language>
  <cp:lastModifiedBy>a</cp:lastModifiedBy>
  <dcterms:modified xsi:type="dcterms:W3CDTF">2014-12-26T05:12:2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KSOVERCOUNTS">
    <vt:lpwstr>20</vt:lpwstr>
  </property>
  <property fmtid="{D5CDD505-2E9C-101B-9397-08002B2CF9AE}" pid="4" name="KSOVERGUID">
    <vt:lpwstr>df8b161f96fcb432ceee70dcd39d0637|da2f0f93881fcbf7c7640c8100fcc7b3</vt:lpwstr>
  </property>
</Properties>
</file>