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F5C-3660-4290-B50D-C79D156E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390-C17B-47A0-95B7-C5D83CF0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DD0-6792-4101-9110-2D851749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954-4678-41E5-8033-ADC66B0F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9B28-2D57-4A48-B005-BA99EFF9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173F-A7E2-4F06-BE58-8569FE40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5B32-BB7F-406B-BF55-A7376CE6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5A9-DC93-464A-BF64-5EC1592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89F-C0C1-417B-8AB8-319376B6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D891-F2F4-44B1-B301-96DA82B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F20F-47FF-4A16-AE95-B634B4C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348-0613-4B43-A2E6-A0A03D1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DCFE-1761-423C-A2F6-877D87D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531-1B9A-448A-8F67-CA604DF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F707-C855-4FDB-8CF9-676C135B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DE74-871C-4AD5-861B-0950473E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77D4-46E1-44C3-B708-DD9E58F1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A74-B9F2-4670-956E-5F819AFF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83A-3D33-4B45-A8D9-71EAF493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86A-6545-4488-879E-ABFF68A7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523-9B81-49D6-8341-B6C85E2F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CAA-C3B8-48D2-B0BA-7FDFE84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1B1-DC20-4CA4-B512-9EC7649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63F-5F5B-4AED-A1C5-E2A75434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FBE1-6B8C-4DC1-A006-9DEF3A82BD3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5562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6AE-B7FD-48BE-952F-88A9B9CE07C3}" type="slidenum">
              <a:rPr b="1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2743200" y="3276720"/>
            <a:ext cx="51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447920"/>
            <a:ext cx="8305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修改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幻灯片设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编辑配色方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添加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添加修改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调整。直接选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片删除或修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字体格式的设置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括标题和文本格式的设置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默认设置：第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PT www.1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首页主标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加粗；副标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加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内页标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加粗；内页内容文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（宋体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41520" y="3808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38480" y="32000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9:38:18Z</dcterms:created>
  <dc:creator/>
  <dc:description/>
  <dc:language>en-US</dc:language>
  <cp:lastModifiedBy>a</cp:lastModifiedBy>
  <dcterms:modified xsi:type="dcterms:W3CDTF">2014-12-26T05:13:3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