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4E6-49D7-40B5-98E2-8C7535BC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CDD-375A-458F-80DF-B1C77402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1C2-532D-4E68-BBF4-073647FB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7F4-250F-40BA-9357-5E86EDA9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C329-468A-4710-B244-CB1EBCEA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CD05-8655-46C1-B279-5338C10A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2985-A3C8-4A18-8E81-97D29A19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E109-8C6D-4989-8A3F-91D46C6F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847C-DDD0-4537-A074-988DC357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CD3C-7B56-406B-931D-C1E79242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A8D6-E980-447B-B8EF-105B8BDE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46F-BFB6-4415-AB37-15EAE925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8E1F-C794-4F97-80AC-F7D09449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4E38-7E8B-4574-A512-77659FD5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8F7E-E083-497D-A9BE-C0DF7427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5C4A-9FCB-4FCD-B6C5-15FC66D7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89D3-A68C-4DBF-AA3B-0D97C5AC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BA2-9B91-4E31-80AF-DB22C1C6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67A-518F-41B4-8468-BD6AC29A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025-A4A0-4425-8DF1-F079BF1C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02E-6AFE-46BC-9133-40D53D5B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1A3-A129-458A-B658-8101E7C9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DED-7414-4127-B125-9E2E2F44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04A-A135-4C63-A5E8-1C2053E4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8903-D51F-45ED-848E-3B3CA1CF97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5EB2-B927-43BE-B6BA-27A056BAAA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绿色简约商务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987640" y="3860640"/>
            <a:ext cx="619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69080" y="18900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0:09:31Z</dcterms:created>
  <dc:creator>www.laptop.net.cn</dc:creator>
  <dc:description/>
  <dc:language>en-US</dc:language>
  <cp:lastModifiedBy>a</cp:lastModifiedBy>
  <dcterms:modified xsi:type="dcterms:W3CDTF">2014-12-26T05:14:0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