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C04-E95C-40F1-A9E9-0EBD7CC8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594-5F8B-4DED-9B37-1614EACC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1EE-85FB-4C56-968E-2D33EE1F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096-2878-4EAD-9902-AF62FEA7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ED9A-D40D-4D22-BB17-F17C3E1A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ADD6-478B-4724-8329-4027961B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36E0-E7C3-4017-A20F-A65B27B7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2737-3EAA-404E-96A6-38435717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EB07-7F35-46BD-8B91-6E07A5B7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C640-A0C6-4B8C-971D-096E7097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E758-06AE-4E9E-B06B-0DB189C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1B9-B834-42D6-B147-442A000A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4022-EF0F-4A6C-95E0-D4BEA8B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7B29-EDA5-4B1D-83CB-F9A2FB09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81CD-D179-40CA-A09D-DF37F6D9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906A-0285-4501-8149-2FCF70D7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7B10-9D95-4ACA-BF2A-01E61780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98406-9169-4341-AF6C-4F3C9944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8F38F-AEBA-4D48-AFFD-60C20C36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D436-62BF-459C-AF17-7E8C2F4B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D2709-2712-4788-ABFE-1E2A77AB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8C1C-E642-4939-A0EF-A7899C87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712-6D69-40F9-957B-BF4CC797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8D40-E9B7-49F8-95DC-6986345C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F0C71-610E-40D7-BAE1-68B68BE8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77DB-8564-4743-884A-A065C5B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4090-D2B4-49C4-9D7D-81AF10F5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E6998-A1B4-4112-B229-D436E9E3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62898-EE46-4B72-9D54-4633B3A8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6916-FA66-4A74-92F8-2681730A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2A8-159E-4975-8E3F-13DD303C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645-3489-4904-88BE-BBA23701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E94-3329-4B19-A3F8-89199A8B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CC0-3E8B-4E67-B59E-AD981D47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347-1025-4D12-952C-FA919BBE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C91-ABB0-4F7A-BE94-AA4D82F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0B00-B7AF-49E3-BB2B-B52434F078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95120" y="320040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A74D-5C0D-49FD-AE8E-0BAA466393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34C4-0859-4D4C-8322-88DDC25186D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7E95-CD56-455E-A0E8-DAB105B4E6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80920" y="2514600"/>
            <a:ext cx="5410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657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07:50:09Z</dcterms:created>
  <dc:creator>eclipse</dc:creator>
  <dc:description/>
  <cp:keywords/>
  <dc:language>en-US</dc:language>
  <cp:lastModifiedBy>a</cp:lastModifiedBy>
  <dcterms:modified xsi:type="dcterms:W3CDTF">2014-05-28T04:44:2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