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287C-930C-41D7-B710-C78C4BC0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3DF5-1A94-469D-AEDD-D8989AC7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807B-CE96-4697-ACE6-53A5B300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D290-E836-42D1-99D9-E4C179D4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0AAD-5FDD-431C-9DC6-B525D9E8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6B64-BBF3-4965-BBE0-4B5B924E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4D86-C92D-4A67-9ACC-C9053D35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B939-F8E7-4FDC-B9BC-29C6750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6337-4A31-4626-9A38-EF0EDFE8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667B-5D43-4B7A-8C08-D71F146B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FFE6-40CE-4FF9-92EE-D851588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B93E9-0BD0-4328-AF16-35910C77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E8B-CDA9-4BCB-BB4F-2593B18864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597720"/>
            <a:ext cx="852480" cy="24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4360" y="2638080"/>
            <a:ext cx="57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蓝色拼图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780000" y="3935520"/>
            <a:ext cx="3744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440" y="6597720"/>
            <a:ext cx="9050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31T04:01:51Z</dcterms:modified>
  <cp:revision>8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