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78C6-4E7E-498A-B285-4C77504A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0718-83C3-48A7-A2A2-4C377ABE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A028-85A9-41E5-8C19-A25349F4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3716-B8F3-4E83-8606-9589F8AF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B739-EC8D-4E12-BDF7-0CCC45D6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F0DE-88DC-47AA-9F5F-80935CAB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A8CB-8D7B-4AC8-BCF2-4F2053D6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FDC7-AD9C-4A5A-8BB6-E96278E2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6D47-34E4-4256-A7AB-12FAC99C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B41E-334D-4E8C-9A94-D3769FDA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0761-F1AC-434C-A27B-642A6212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08BD-AEC6-4A06-BCD8-F00CCC17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35AB-FAC8-4559-9FDA-C3F167F2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7E9D-CC69-4F87-96C8-9E1145D5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E0D5-255A-4D22-B2CF-C3C624E9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43C0-9567-4387-BC43-A4DDBA0C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C155-B978-4BBE-B56A-71AF958B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4A4C6-CE16-42F8-B0E6-79BFA2C8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54E9F-20FB-49B8-9848-B6A556CD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DCC88-F5EB-483F-943F-B28A8832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44A98-73E2-4377-833A-524FE48B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1C1D4-37C2-4BF5-997A-7FF5260E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896C-077A-46B9-9D53-1A0563FB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6AA9F-0A38-44C8-9050-63D891FA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1D6CA-6E0D-4580-8C28-58636326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78B6F-6A21-4887-8282-B624F121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79AFC-25D5-4326-AE22-FA5A6CA6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DB882-049A-4CDB-8C3B-D1C58947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2701B-028A-4369-91AA-E578C546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A3C14-E755-44A3-B0F3-BBD5971CA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4474-095F-4C32-908B-9D2D0651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B30-A7E3-4AF8-870E-05A42CD3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F6AF-C047-48A5-AE85-7F65D40C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E200-45FD-410A-A771-012733B8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F57F-86D8-4057-9117-A0B80565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C016-895C-45AD-B0B9-634D30DD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Blue-Crush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7"/>
          <p:cNvSpPr/>
          <p:nvPr/>
        </p:nvSpPr>
        <p:spPr>
          <a:xfrm>
            <a:off x="0" y="1052640"/>
            <a:ext cx="914400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8"/>
          <p:cNvSpPr/>
          <p:nvPr/>
        </p:nvSpPr>
        <p:spPr>
          <a:xfrm>
            <a:off x="0" y="907920"/>
            <a:ext cx="914400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图片 9" descr="Blue-Crush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矩形 10"/>
          <p:cNvSpPr/>
          <p:nvPr/>
        </p:nvSpPr>
        <p:spPr>
          <a:xfrm>
            <a:off x="0" y="4797360"/>
            <a:ext cx="914400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11"/>
          <p:cNvSpPr/>
          <p:nvPr/>
        </p:nvSpPr>
        <p:spPr>
          <a:xfrm>
            <a:off x="0" y="4653000"/>
            <a:ext cx="9144000" cy="14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接连接符 12"/>
          <p:cNvSpPr/>
          <p:nvPr/>
        </p:nvSpPr>
        <p:spPr>
          <a:xfrm>
            <a:off x="0" y="4832280"/>
            <a:ext cx="9144000" cy="0"/>
          </a:xfrm>
          <a:prstGeom prst="line">
            <a:avLst/>
          </a:prstGeom>
          <a:ln w="324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直接连接符 13"/>
          <p:cNvSpPr/>
          <p:nvPr/>
        </p:nvSpPr>
        <p:spPr>
          <a:xfrm>
            <a:off x="0" y="6485040"/>
            <a:ext cx="9144000" cy="0"/>
          </a:xfrm>
          <a:prstGeom prst="line">
            <a:avLst/>
          </a:prstGeom>
          <a:ln w="324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8320" y="115560"/>
            <a:ext cx="50612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微软雅黑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-360" y="648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6248160" y="64850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4114440" y="648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DFPYeaSong-B5"/>
                <a:ea typeface="DFPYeaSong-B5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1223-FA9F-4946-A8A5-1E26403C63C4}" type="slidenum">
              <a:rPr b="0" lang="zh-CN" sz="12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6" descr="Blue-Crush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624816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41144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DFPYeaSong-B5"/>
                <a:ea typeface="DFPYeaSong-B5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084E-D5E8-4BFD-99AA-B5D070561751}" type="slidenum">
              <a:rPr b="0" lang="zh-CN" sz="1200" spc="-1" strike="noStrike">
                <a:solidFill>
                  <a:srgbClr val="ffffff"/>
                </a:solidFill>
                <a:latin typeface="DFPYeaSong-B5"/>
                <a:ea typeface="DFPYeaSong-B5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0" y="1052640"/>
            <a:ext cx="914400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0" y="907920"/>
            <a:ext cx="914400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title"/>
          </p:nvPr>
        </p:nvSpPr>
        <p:spPr>
          <a:xfrm>
            <a:off x="958320" y="115560"/>
            <a:ext cx="50612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微软雅黑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BD38-9F0B-49A9-AC2D-37FBBA75B5C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67D3-7CC9-4345-ACB0-D07691E754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22360" y="5295960"/>
            <a:ext cx="8099280" cy="3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此输入单位名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15620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蓝色清新</a:t>
            </a:r>
            <a:r>
              <a:rPr b="0" lang="zh-CN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演示模板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527040" y="5970600"/>
            <a:ext cx="784872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F6A3-52D9-49CA-9F08-EDE714550ABC}" type="datetime2"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2026年7月28日 星期二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6"/>
          <p:cNvSpPr/>
          <p:nvPr/>
        </p:nvSpPr>
        <p:spPr>
          <a:xfrm>
            <a:off x="1789200" y="2116080"/>
            <a:ext cx="539640" cy="539640"/>
          </a:xfrm>
          <a:prstGeom prst="pie">
            <a:avLst/>
          </a:prstGeom>
          <a:solidFill>
            <a:srgbClr val="00b0f0"/>
          </a:solidFill>
          <a:ln w="25560">
            <a:solidFill>
              <a:srgbClr val="0070c0"/>
            </a:solidFill>
            <a:miter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2160" y="97920"/>
            <a:ext cx="7251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微软雅黑"/>
              </a:rPr>
              <a:t>目    录</a:t>
            </a:r>
            <a:endParaRPr b="0" lang="en-US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39" name="圆角矩形 5"/>
          <p:cNvSpPr/>
          <p:nvPr/>
        </p:nvSpPr>
        <p:spPr>
          <a:xfrm>
            <a:off x="2657520" y="2987640"/>
            <a:ext cx="5060880" cy="5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miter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1766880" y="3006720"/>
            <a:ext cx="539640" cy="539640"/>
          </a:xfrm>
          <a:prstGeom prst="pie">
            <a:avLst/>
          </a:prstGeom>
          <a:noFill/>
          <a:ln w="25560">
            <a:solidFill>
              <a:srgbClr val="0070c0"/>
            </a:solidFill>
            <a:miter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矩形 7"/>
          <p:cNvSpPr/>
          <p:nvPr/>
        </p:nvSpPr>
        <p:spPr>
          <a:xfrm>
            <a:off x="2638440" y="3917880"/>
            <a:ext cx="5079960" cy="54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miter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功能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1774800" y="3917880"/>
            <a:ext cx="539640" cy="540000"/>
          </a:xfrm>
          <a:prstGeom prst="pie">
            <a:avLst/>
          </a:prstGeom>
          <a:noFill/>
          <a:ln w="25560">
            <a:solidFill>
              <a:srgbClr val="0070c0"/>
            </a:solidFill>
            <a:miter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圆角矩形 5"/>
          <p:cNvSpPr/>
          <p:nvPr/>
        </p:nvSpPr>
        <p:spPr>
          <a:xfrm>
            <a:off x="2679840" y="2097000"/>
            <a:ext cx="5060880" cy="5400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070c0"/>
            </a:solidFill>
            <a:miter/>
          </a:ln>
          <a:effectLst>
            <a:outerShdw dist="153753" dir="2700000" blurRad="0" rotWithShape="0">
              <a:srgbClr val="00000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项目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506124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00"/>
              </a:solidFill>
              <a:latin typeface="微软雅黑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4T05:23:58Z</dcterms:created>
  <dc:creator>ibm</dc:creator>
  <dc:description/>
  <dc:language>en-US</dc:language>
  <cp:lastModifiedBy>a</cp:lastModifiedBy>
  <dcterms:modified xsi:type="dcterms:W3CDTF">2014-12-21T03:44:4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