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EE8-0916-4272-B7CB-C4AA32F0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743-FF11-4A64-9502-B9749DE3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1A5-C3EF-47AD-A76A-7103EDCB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567-63BC-4935-A033-7009CB7C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1CC2-9414-4F67-8ACB-791A5379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5599-3DFE-4971-9145-C3EF4702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5FF6-87D7-43B4-84A4-7EEC3D56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3C2C-0511-4A7F-A4CB-2A636CC7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DA69-1E63-418F-A8AA-1AC5EC6F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37B-8948-417C-AB4C-370B2872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6678-DA4B-4928-9A8F-75955671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35C-4CF0-4507-B5B6-CAC5D7C4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F8BD-8FF0-4EA5-BA3E-454B6563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76B6-E8BA-4E32-A149-D28C6C9E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8EC3-4F62-4791-9DAD-22EEEE7C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2D3E-D787-45E1-9573-FCB692F8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CFF1-A120-4FA1-A6E5-EBF81299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386-5AEE-470A-ADCE-479BEF64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ED6-D9E8-4BA0-99C2-03D82402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019-993E-472B-BDEB-6254BFE3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D09-7C8D-45F0-A294-D4399FF5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252-4BFF-4A85-875F-BA994492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F7F-0382-4FF9-A929-B27C0F41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664-7D12-46D3-A73B-0B0B12F4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F157-1C7A-40C7-B383-A4545BF6AFFC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9A5B-8A76-4A81-86FC-3991B93E66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0C64-9767-4445-AF0D-73FC40BAEC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168b2"/>
                </a:solidFill>
                <a:latin typeface="Calibri"/>
                <a:ea typeface="微软雅黑"/>
              </a:rPr>
              <a:t>蓝色曲线演示</a:t>
            </a:r>
            <a:r>
              <a:rPr b="0" lang="zh-CN" sz="4400" spc="-1" strike="noStrike">
                <a:solidFill>
                  <a:srgbClr val="3168b2"/>
                </a:solidFill>
                <a:latin typeface="Calibri"/>
                <a:ea typeface="微软雅黑"/>
              </a:rPr>
              <a:t>ppt</a:t>
            </a:r>
            <a:r>
              <a:rPr b="0" lang="zh-CN" sz="4400" spc="-1" strike="noStrike">
                <a:solidFill>
                  <a:srgbClr val="3168b2"/>
                </a:solidFill>
                <a:latin typeface="Calibri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5:31:26Z</dcterms:created>
  <dc:creator/>
  <dc:description/>
  <dc:language>en-US</dc:language>
  <cp:lastModifiedBy>a</cp:lastModifiedBy>
  <dcterms:modified xsi:type="dcterms:W3CDTF">2014-12-15T17:52:27Z</dcterms:modified>
  <cp:revision>2</cp:revision>
  <dc:subject/>
  <dc:title>请输入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