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340-56F4-46A2-9CBF-41B08130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E57-ABAC-49A1-B8B6-50606DC1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CD798-C189-4009-9324-9565AEDB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4ECE5-F9F9-4EC1-981A-F69DDF52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A2FE-24BC-426C-BA9A-82169FDC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987D9-ED3B-443F-BE4B-E5F9246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E06F1-FC1C-49ED-A219-B7E29CA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021B7-8ADD-4173-956C-F790942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03A3B-2040-4651-AED6-97B86383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161C6-A499-4100-9F4B-C59A10FC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8B796-7CF3-48B9-B252-89977A60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EEEED-A8B7-4137-973B-411E5966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8B6-B2F3-4286-BAC3-6E997242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1563E-C1B4-47C7-BF80-85CF13A5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1A0CA-F3E6-4634-BE27-99CE7D8C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C4666-495D-4E7B-AC2E-5157B0A4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BFAA1-3EB4-4664-9877-2E19963A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9B4AC-A819-4C32-84FC-E60FF7C5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209AF-0557-48E8-A255-512431E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23A82-BCC8-46F8-A679-95C5191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984A4-59A2-4CFC-911D-0420E05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45BE6-0D60-4D5E-B4C1-4F37BAF3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9C824-4003-4E29-B209-87E33F07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EB2-A2D2-488C-B8C6-734405C3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43516-1D7E-436F-886A-A0ED4711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0E6FC-CDD3-4D62-A440-A0CBA6DA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A4BCE-792E-4352-8B01-104ABEA7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5658E-EEBA-4D05-B592-78717975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3B8EA-CD36-4A89-A854-DDD2B26A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3F3E6-55EF-4F47-BB3B-B044E43C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3F4B3-C0B9-4C45-8583-893D3479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F71D1-5B64-4921-BDEB-2225C0B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A7FEF-BD8D-49F0-AF83-058807A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16FEF-9823-442B-977D-4345302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9F4A-B3E4-4245-807E-241ADA6C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27EF4-A193-49AD-822E-0BC7EBD7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BDF5F-DBCD-4F36-8284-964D6308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2D04E-A80C-498D-8DC0-EB76F61F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69AEF-238C-478B-A7C3-B120CAA4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71044-5A92-455B-B72C-DC1ABA92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2E5B2-5CDB-4442-8584-9E179D9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A7027-41BF-4D0A-8DE2-119B5E3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DA91C-47F7-4861-9E63-9A740585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FA0DB-CFE4-417D-9790-69082E0D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2CB56-BF5C-4EB2-A62E-E04BF170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F91B-9AA2-4017-B033-93F5BA21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3208A-7301-470B-AA64-3F5243A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327C4-89B4-4C6E-A641-4970E39A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C65FC-DB0F-4932-8F46-323831B5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574C3-4A85-497E-BF6F-CC08DD8F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C40C5-D542-44AE-A799-67755601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3925B-479B-4423-98B1-B394586F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C5194-321D-4EE0-AB2D-5144B72E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B61AA-EC1A-46C3-B278-1DD8B727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D5152-4EC5-4DD8-A40F-E0348F39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B254C-168E-40F3-B222-2020FDA8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5544-48B8-4FD4-9D66-B62143A9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3A5DC-801B-4193-84EA-A89BA1B2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8ACFC-FD57-45FF-A3A7-2F30208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8C363-CDDE-4037-AFE3-6073EDCC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14CE5-3BD8-402B-B7E8-9B115AF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22B1E-0437-4778-BADA-44840E1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DAB61-A3E4-4DBA-A955-3639AA5E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FBDFD-6477-452F-9B44-E4E2EF0F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57FC-4F3E-4B19-97E4-DB6947C1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8FBB-C762-497E-A68A-C56B7D4D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4DA1-17D3-47F2-BC46-7B2D0CF7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1C0E-9010-4FA2-84F5-5F06106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25E-9B5C-496E-8D8D-33769F0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27DC-1942-48CC-A2AB-0D4CFE9F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A02A-44E3-48B3-AE1C-AFE4A1D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A1C6-1528-4F24-98A9-CAB038CE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A296-226F-4D0B-B6F0-B8D896F5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B56F-EFE7-420A-8B9D-A8B2D4F2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DDA7-69A5-4ADD-9AD8-43BCA851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1182-3334-4250-9C87-AF9E3CD5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9C81-4996-40ED-BFA1-0C99056D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0B85-8B55-431E-B4F2-602ED0CA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F470-F250-405C-8C38-F0DD1DAC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849-D9C0-4688-9A86-9081349B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9BCC-924A-401E-96D2-5E147941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6C83-BE0F-4339-8D0A-762A3F83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0BFE-68BF-4D34-B329-DE3C0874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0C0C-2913-4DBF-953F-C5339777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A66C-A2C8-4AFE-96B9-B9883F05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C0F2-9EAD-48A5-9B06-2D032CB3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8055-07D4-4379-8D67-4D2C148A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CA82D-24A0-488E-83F7-32403CFB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EC7E-8827-498B-9D2B-5D265A9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7BD9E-3BE5-4A51-95E9-E2CD369B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ECA-0876-405B-B9ED-794D6304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E9FA8-F368-42D8-B2C7-6EB489B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83FB-8B22-4640-BC60-39D55D10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B1B7-426E-4FF5-803E-823459CC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1846A-1221-4F68-8DB9-FA9A312F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6F3EC-2DCF-408B-BAF9-1254E5F1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9E1E-82EE-41BE-BCD5-1598BC65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EA2D-1BEC-457A-850E-F22195F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8DDA9-A8B1-4ADA-85E0-B0203311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986E-0295-4CBE-A4B5-CCC4E072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CAE8-F7D4-4C2D-8D91-4C89D19A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3D6-8511-4601-9AFE-7C89C4A9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A1A6C-EE57-4447-8398-C32FFBFA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DF8E-E1F5-4D89-9388-93D0AF4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FE84-D8F6-4CC0-8370-F7D9E06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1081-77FE-4236-B4E8-F7C6719B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85B6F-9539-4F6E-90E2-81E41FB9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6A3C-2317-490E-93AB-EEAF4B89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B4F6-E319-4E35-AE83-973D1954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4EA2-957F-43F3-A27D-40203389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C377-30C5-4722-A07A-9D0B6130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151F-39B2-446B-B95B-B9070F34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460-68D7-4DA1-BA07-84863BD6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1C361-B68B-46CE-AC3E-F8B111F2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C13D6-2944-441E-B42C-C6528C8F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CC82B-B115-436B-A2AE-1EBFC2ED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757B0-590C-4B40-93DD-63B5BB03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F2B83-5213-49C5-B649-F5BFAC1E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1DA26-78FF-4043-8861-53C08632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17C9C-97D3-4958-8D89-E17F7174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C194-C425-4022-9362-8F1F4062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3757-E0E5-4C3F-BE8A-905EE6DB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531F-15F4-4125-877B-F301A3A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D61-AAA5-4A91-8F88-4966DD7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9E534-0643-4FC3-B994-932B055B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886B2-A0EF-47FB-8788-2504FED6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60E80-98B2-4C05-B3C0-09333407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893C1-BC74-4CC0-9776-0B12107F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97EA4-6882-4741-995A-E8A5A31A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FD0DD-C97F-4B10-885E-0E50B6D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ED685-CF8C-4FBB-9F6F-BB3A9295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2A38E-0DD6-4745-82CB-459998CD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230AA-7730-4440-8214-3C74CC9C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605B-0AC1-453E-8EB6-563ED05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0AD-CE87-444A-B9AE-02829020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7FFE-74E0-4DED-BDDA-287C779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ED63E-D7D6-4F45-8967-E0C5AB5A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D3C4-6467-47B3-B4D0-521EE96C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2EE8D-9D6C-454B-9DB3-C704A6BF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130BC-4C08-4265-A4B7-A4C360F6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2E018-1AAB-4215-BF83-1F4CFA9C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01605-AF83-4A59-A73F-CFFF0BB3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A75AF-C822-4B6E-B71D-1768857F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B42C-FF8C-4B64-908F-0882F433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A2990-6EF8-4A37-8C03-F2F0E62D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786-39D1-473E-9ABB-5B28A8F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6356-0DEB-4C5D-BC4D-93ABED8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F8E66-4E05-4574-AA9D-81B4E448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38C40-59D6-479B-954A-A00CB71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99550-3600-4DEB-B605-DA75678F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594F-4E4E-413F-9554-E1559225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105A-273F-4814-AB69-9D69503D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0729-9C6D-4BD9-BF39-3BFE9F6E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54A1B-E3CB-4B04-B200-0320E9C8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A044C-10CD-410D-8977-64C13FD6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7473F-FAB9-41F0-9830-6693C299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00214b"/>
              </a:gs>
              <a:gs pos="100000">
                <a:srgbClr val="bcc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187280" y="1268280"/>
            <a:ext cx="7499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70c0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70c0"/>
              </a:buClr>
              <a:buFont typeface="Wingdings" charset="2"/>
              <a:buChar char="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70c0"/>
              </a:buClr>
              <a:buFont typeface="Wingdings" charset="2"/>
              <a:buChar char="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70c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4861-42AF-40A8-8013-6D35E7F29A1D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89D4-1DE8-4BC3-94A9-5D9DCBB4F91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6" descr=""/>
          <p:cNvPicPr/>
          <p:nvPr/>
        </p:nvPicPr>
        <p:blipFill>
          <a:blip r:embed="rId3"/>
          <a:srcRect l="15859" t="0" r="11074" b="9693"/>
          <a:stretch/>
        </p:blipFill>
        <p:spPr>
          <a:xfrm>
            <a:off x="123840" y="5286240"/>
            <a:ext cx="1273320" cy="1575000"/>
          </a:xfrm>
          <a:prstGeom prst="rect">
            <a:avLst/>
          </a:prstGeom>
          <a:ln w="0">
            <a:noFill/>
          </a:ln>
        </p:spPr>
      </p:pic>
      <p:sp>
        <p:nvSpPr>
          <p:cNvPr id="7" name="直接连接符 9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EB2-3043-40AC-BFDE-A1FC016530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AAD-C6BC-4A78-899B-959F85B75B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02C9-DA40-45F7-A18B-20CE282AC8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A256-E399-4A31-8F50-31B0945C61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4D19-FE18-4004-BAB1-9AFEB06C8A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0B95-404E-42D2-929A-DD3D227860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4A97-9E85-4573-BFC9-23AAD06775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D510-BB53-4564-93EF-A486EA70A9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DD0C-EC35-4788-BD17-363F994901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AF1C-E7B6-428E-895A-AB763A685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43E-94F1-4767-A8B4-7626D2B604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0807-9E83-4B4D-8838-35A87F2E10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210B-173B-43D5-802A-D8276825FF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A2DD-EE45-4DEA-9014-B5F2BB449A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82C9-336F-4B39-80AA-83D1D015EF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7632-ED63-4229-A37D-8EA63669F0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B54C-BDD0-440A-AF64-E08A76869A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AC5B-DFE6-4A3F-A5B2-76534E348A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B732-0BC4-4517-9988-06DF18E2EE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78AB-CFE2-4699-BCBD-B7F88F369F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F088-92A8-4445-970F-C742D5D902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5449-0E40-4326-84A6-C8A19FBFA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2528-7EE0-4138-9B52-EFA9EA3648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9A43-A411-4C95-B44A-74DAF91D0D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3"/>
          <p:cNvSpPr/>
          <p:nvPr/>
        </p:nvSpPr>
        <p:spPr>
          <a:xfrm>
            <a:off x="1773360" y="1622520"/>
            <a:ext cx="7380000" cy="2016000"/>
          </a:xfrm>
          <a:prstGeom prst="rect">
            <a:avLst/>
          </a:prstGeom>
          <a:gradFill rotWithShape="0">
            <a:gsLst>
              <a:gs pos="0">
                <a:srgbClr val="c0d0e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矩形 4"/>
          <p:cNvSpPr/>
          <p:nvPr/>
        </p:nvSpPr>
        <p:spPr>
          <a:xfrm>
            <a:off x="0" y="5300640"/>
            <a:ext cx="4356000" cy="1557360"/>
          </a:xfrm>
          <a:prstGeom prst="rect">
            <a:avLst/>
          </a:prstGeom>
          <a:gradFill rotWithShape="0">
            <a:gsLst>
              <a:gs pos="0">
                <a:srgbClr val="c0d0ed"/>
              </a:gs>
              <a:gs pos="100000">
                <a:srgbClr val="0f243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图片 13" descr=""/>
          <p:cNvPicPr/>
          <p:nvPr/>
        </p:nvPicPr>
        <p:blipFill>
          <a:blip r:embed="rId2"/>
          <a:srcRect l="15862" t="0" r="11071" b="9688"/>
          <a:stretch/>
        </p:blipFill>
        <p:spPr>
          <a:xfrm>
            <a:off x="15840" y="3119400"/>
            <a:ext cx="3024360" cy="37386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06360" y="1966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蓝色摄影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2577960" y="3662280"/>
            <a:ext cx="640080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zh-CN" sz="2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5360" y="1268280"/>
            <a:ext cx="8191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"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4:45:00Z</dcterms:created>
  <dc:creator>果因PPT工作室</dc:creator>
  <dc:description/>
  <cp:keywords>XS-普屏 4：3;SC-淡蓝色;BG-浅色</cp:keywords>
  <dc:language>en-US</dc:language>
  <cp:lastModifiedBy>a</cp:lastModifiedBy>
  <dcterms:modified xsi:type="dcterms:W3CDTF">2014-12-15T17:44:26Z</dcterms:modified>
  <cp:revision>2</cp:revision>
  <dc:subject>TP-环境生态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