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104-D9E9-46BC-AE15-D815D581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401-6784-4081-BFC9-40EA60CC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F7C-16A8-422A-89A7-551474BF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BF3-C779-4370-AF1B-A4E0E2CE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A89A-2DB2-4945-B18E-417C283D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8C3E-286A-4BE9-93D1-F9EB7F8A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CAC7-E51C-4C9E-98B7-CAC80A6D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35D6-B382-4B08-90AA-58EA7107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3AF7-594A-4986-9D9A-7C34F47B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E823-A910-4DCF-9E22-8EC88A79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6859-1FB5-4210-BFC5-F693B1A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08A-FDFA-4C17-98BD-E806200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9FD4-CBD6-4401-8983-94B320FF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569E-B7D6-4845-982A-D61F0F8E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CE89-239D-4FA2-8EA2-058C24F3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60EC-8711-4497-BCEE-47FD7E3E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76DB-EE9D-4F5D-AFB9-23243E68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9D5C-AF9F-43B2-8B30-7922BF97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0E28-E491-408B-953A-E20BC325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106A-539B-4AD4-B532-58BBA4B7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5607-0AB2-49DF-A114-123760AC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D577-62D1-4AC8-91BA-C42F6699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82A-873E-4129-BC19-E28888FA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31FC-FB0C-4417-B7D3-2AC9D82A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15AA-24A9-49A3-BC86-59E38C64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D802-1F3D-413E-A113-7A58F588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F991-5C8B-4E20-814A-5D18F4C5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6BF9-1E2C-40D5-97DC-AAEE332B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3E14-EE14-4E80-B153-B74872F0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7FD3-1226-42BC-8B60-5D958F13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9FDDF-8C3B-4F74-8E9B-797F9A0A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63D6-0709-4EFD-BA23-57D3544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544A-7356-4FFE-B598-8BB348AE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3FC-A481-4405-BB64-CE778F8E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93276-B5C5-4378-BF1B-B784074F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97B9-1A0D-43CE-A659-166793C5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108A-6AFD-4DA8-980F-61DD73E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7F91B-9F3D-4C6C-B887-546A50F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9F7A-8E8A-42AC-9054-3B334DF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94FC8-801F-4A3B-B59E-7CB725B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D4D1-1841-42E7-9C86-8E82E89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F0FD-3485-41A3-BE6C-7D48D1AC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71657-94D3-4E14-B42E-27BE626B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223-B408-4DC3-9A9F-DC42F37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8B8-4654-4DB3-ABAC-F621A9AE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995-F152-4492-A617-3ED25164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D23-C468-4012-9984-3DE306B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DD5-5376-4458-83DA-6D174D73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764B-B156-4F18-8CEC-EA684AB25A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0099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8A1C-EB61-45DB-823E-715BBE5398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6550200"/>
            <a:ext cx="9144000" cy="342720"/>
          </a:xfrm>
          <a:prstGeom prst="rect">
            <a:avLst/>
          </a:prstGeom>
          <a:solidFill>
            <a:srgbClr val="0099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6F17-1E55-4B02-83DA-BD95276158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5CD2-DDAE-44D2-9CE2-75D7A77599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A530-8944-4E7B-8104-98108968A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0" y="-26280"/>
            <a:ext cx="9180360" cy="6883560"/>
          </a:xfrm>
          <a:prstGeom prst="flowChartPunchedCard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0" y="2709720"/>
            <a:ext cx="7236000" cy="4148280"/>
          </a:xfrm>
          <a:prstGeom prst="rtTriangle">
            <a:avLst/>
          </a:prstGeom>
          <a:solidFill>
            <a:srgbClr val="00b2e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0" y="3086280"/>
            <a:ext cx="6750000" cy="3771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 rot="1740000">
            <a:off x="2755080" y="36349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蓝色斜边设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187280" y="2205000"/>
            <a:ext cx="6635520" cy="2190600"/>
            <a:chOff x="1187280" y="2205000"/>
            <a:chExt cx="6635520" cy="2190600"/>
          </a:xfrm>
        </p:grpSpPr>
        <p:sp>
          <p:nvSpPr>
            <p:cNvPr id="171" name="AutoShape 85"/>
            <p:cNvSpPr/>
            <p:nvPr/>
          </p:nvSpPr>
          <p:spPr>
            <a:xfrm>
              <a:off x="3991680" y="3453840"/>
              <a:ext cx="1095120" cy="941760"/>
            </a:xfrm>
            <a:prstGeom prst="roundRect">
              <a:avLst>
                <a:gd name="adj" fmla="val 8579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86"/>
            <p:cNvSpPr/>
            <p:nvPr/>
          </p:nvSpPr>
          <p:spPr>
            <a:xfrm>
              <a:off x="3926160" y="3483360"/>
              <a:ext cx="12484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85"/>
            <p:cNvSpPr/>
            <p:nvPr/>
          </p:nvSpPr>
          <p:spPr>
            <a:xfrm>
              <a:off x="2621160" y="3453840"/>
              <a:ext cx="1110960" cy="941760"/>
            </a:xfrm>
            <a:prstGeom prst="roundRect">
              <a:avLst>
                <a:gd name="adj" fmla="val 8579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86"/>
            <p:cNvSpPr/>
            <p:nvPr/>
          </p:nvSpPr>
          <p:spPr>
            <a:xfrm>
              <a:off x="2586600" y="3485160"/>
              <a:ext cx="121752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85"/>
            <p:cNvSpPr/>
            <p:nvPr/>
          </p:nvSpPr>
          <p:spPr>
            <a:xfrm>
              <a:off x="1277640" y="3453840"/>
              <a:ext cx="1096200" cy="941760"/>
            </a:xfrm>
            <a:prstGeom prst="roundRect">
              <a:avLst>
                <a:gd name="adj" fmla="val 8579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86"/>
            <p:cNvSpPr/>
            <p:nvPr/>
          </p:nvSpPr>
          <p:spPr>
            <a:xfrm>
              <a:off x="1187280" y="3485160"/>
              <a:ext cx="12178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5"/>
            <p:cNvSpPr/>
            <p:nvPr/>
          </p:nvSpPr>
          <p:spPr>
            <a:xfrm>
              <a:off x="6712560" y="3453840"/>
              <a:ext cx="1080360" cy="941760"/>
            </a:xfrm>
            <a:prstGeom prst="roundRect">
              <a:avLst>
                <a:gd name="adj" fmla="val 8579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6"/>
            <p:cNvSpPr/>
            <p:nvPr/>
          </p:nvSpPr>
          <p:spPr>
            <a:xfrm>
              <a:off x="6666120" y="3485160"/>
              <a:ext cx="11566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5"/>
            <p:cNvSpPr/>
            <p:nvPr/>
          </p:nvSpPr>
          <p:spPr>
            <a:xfrm>
              <a:off x="5338080" y="3453840"/>
              <a:ext cx="1096560" cy="941760"/>
            </a:xfrm>
            <a:prstGeom prst="roundRect">
              <a:avLst>
                <a:gd name="adj" fmla="val 8579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6"/>
            <p:cNvSpPr/>
            <p:nvPr/>
          </p:nvSpPr>
          <p:spPr>
            <a:xfrm>
              <a:off x="5266080" y="3485160"/>
              <a:ext cx="127800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직선 화살표 연결선 380"/>
            <p:cNvCxnSpPr>
              <a:stCxn id="171" idx="0"/>
            </p:cNvCxnSpPr>
            <p:nvPr/>
          </p:nvCxnSpPr>
          <p:spPr>
            <a:xfrm flipV="1">
              <a:off x="4536000" y="3072240"/>
              <a:ext cx="3240" cy="379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182" name="직선 화살표 연결선 382"/>
            <p:cNvCxnSpPr/>
            <p:nvPr/>
          </p:nvCxnSpPr>
          <p:spPr>
            <a:xfrm flipV="1">
              <a:off x="320472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3" name="직선 화살표 연결선 383"/>
            <p:cNvCxnSpPr/>
            <p:nvPr/>
          </p:nvCxnSpPr>
          <p:spPr>
            <a:xfrm flipV="1">
              <a:off x="184644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4" name="직선 화살표 연결선 384"/>
            <p:cNvCxnSpPr/>
            <p:nvPr/>
          </p:nvCxnSpPr>
          <p:spPr>
            <a:xfrm flipV="1">
              <a:off x="724824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5" name="직선 화살표 연결선 385"/>
            <p:cNvCxnSpPr/>
            <p:nvPr/>
          </p:nvCxnSpPr>
          <p:spPr>
            <a:xfrm flipV="1">
              <a:off x="5889960" y="2761920"/>
              <a:ext cx="3240" cy="6897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6" name="AutoShape 18"/>
            <p:cNvCxnSpPr/>
            <p:nvPr/>
          </p:nvCxnSpPr>
          <p:spPr>
            <a:xfrm flipV="1">
              <a:off x="1849680" y="2752920"/>
              <a:ext cx="1772640" cy="18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sp>
          <p:nvSpPr>
            <p:cNvPr id="187" name="AutoShape 85"/>
            <p:cNvSpPr/>
            <p:nvPr/>
          </p:nvSpPr>
          <p:spPr>
            <a:xfrm>
              <a:off x="3743640" y="2205000"/>
              <a:ext cx="1643760" cy="852480"/>
            </a:xfrm>
            <a:prstGeom prst="roundRect">
              <a:avLst>
                <a:gd name="adj" fmla="val 8579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6"/>
            <p:cNvSpPr/>
            <p:nvPr/>
          </p:nvSpPr>
          <p:spPr>
            <a:xfrm>
              <a:off x="3682800" y="2205000"/>
              <a:ext cx="18262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AutoShape 21"/>
            <p:cNvCxnSpPr/>
            <p:nvPr/>
          </p:nvCxnSpPr>
          <p:spPr>
            <a:xfrm>
              <a:off x="5447880" y="2753280"/>
              <a:ext cx="1803960" cy="10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</p:cxnSp>
        <p:sp>
          <p:nvSpPr>
            <p:cNvPr id="190" name="Text Box 22"/>
            <p:cNvSpPr/>
            <p:nvPr/>
          </p:nvSpPr>
          <p:spPr>
            <a:xfrm>
              <a:off x="4250880" y="2348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3"/>
            <p:cNvSpPr/>
            <p:nvPr/>
          </p:nvSpPr>
          <p:spPr>
            <a:xfrm>
              <a:off x="69289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42152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55627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28526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7"/>
            <p:cNvSpPr/>
            <p:nvPr/>
          </p:nvSpPr>
          <p:spPr>
            <a:xfrm>
              <a:off x="150156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2278080" y="1727280"/>
            <a:ext cx="4935240" cy="4269960"/>
            <a:chOff x="2278080" y="1727280"/>
            <a:chExt cx="4935240" cy="4269960"/>
          </a:xfrm>
        </p:grpSpPr>
        <p:sp>
          <p:nvSpPr>
            <p:cNvPr id="197" name="AutoShape 3"/>
            <p:cNvSpPr/>
            <p:nvPr/>
          </p:nvSpPr>
          <p:spPr>
            <a:xfrm>
              <a:off x="4208760" y="4121640"/>
              <a:ext cx="1503000" cy="15015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"/>
            <p:cNvSpPr/>
            <p:nvPr/>
          </p:nvSpPr>
          <p:spPr>
            <a:xfrm>
              <a:off x="3797640" y="449532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9444a"/>
                </a:gs>
                <a:gs pos="100000">
                  <a:srgbClr val="3693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utomation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Network 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2278080" y="341964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4208760" y="2993040"/>
              <a:ext cx="1503000" cy="15019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>
              <a:off x="2609280" y="3419640"/>
              <a:ext cx="150300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M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8"/>
            <p:cNvSpPr/>
            <p:nvPr/>
          </p:nvSpPr>
          <p:spPr>
            <a:xfrm>
              <a:off x="3797640" y="341964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e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M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5119200" y="322920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System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Develop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5711760" y="322920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1"/>
            <p:cNvSpPr/>
            <p:nvPr/>
          </p:nvSpPr>
          <p:spPr>
            <a:xfrm>
              <a:off x="3913920" y="219276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5e00"/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S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"/>
            <p:cNvSpPr/>
            <p:nvPr/>
          </p:nvSpPr>
          <p:spPr>
            <a:xfrm>
              <a:off x="3913920" y="172728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2060640"/>
            <a:ext cx="9144000" cy="2205000"/>
          </a:xfrm>
          <a:prstGeom prst="rect">
            <a:avLst/>
          </a:prstGeom>
          <a:solidFill>
            <a:srgbClr val="0099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7:55:09Z</dcterms:created>
  <dc:creator>yellownancy</dc:creator>
  <dc:description/>
  <cp:keywords/>
  <dc:language>en-US</dc:language>
  <cp:lastModifiedBy>a</cp:lastModifiedBy>
  <dcterms:modified xsi:type="dcterms:W3CDTF">2014-05-24T09:35:0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