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7EB-358E-4E90-A0B7-B4A4A42B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E3A-F14B-43A5-B6A2-8E9CF6CF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4B9-7822-4758-8CB3-5C6C8C75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5C8-A175-4851-AAE0-64E9C3D5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0B65-57F2-4DE7-92AD-717B4279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BC49-7D41-4B3D-8390-DD57254E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76B2-B9FB-48B7-95EF-277B5934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C20A-B39D-4558-A30B-52AB3149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5E4C-B633-42CB-9EC3-A3B8DA3E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5E8F-23D9-4DCD-AB98-C5DF28DB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CC0D-7D8F-42CF-B17D-3BCC4072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E5D-7709-4531-B5FA-7517C5BC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2F2B-0B19-48CE-9F37-FEDDD9A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2B97-86EE-40DA-A3E3-5DFFC134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0A7F-6986-4721-8FD0-1D5BE3B4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E541-B449-4F66-A5AC-23BE3184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4BC9-D056-4D80-A033-27A74E64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63F-C452-4D69-BB91-BE26532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2B1-ABA9-4F9B-9DC4-9F73EA5D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695-41E0-4040-B37E-C4D44BEB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666-26D9-44C0-AEEB-36A46D2F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D7B-835C-4AC1-82C4-36830EF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7CD-ADAA-4E6A-BBE9-929D6F2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CD5-7A2B-47AC-B4EC-AE73ECF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461440" y="6670800"/>
            <a:ext cx="695160" cy="16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99C8-E545-4F9D-B3C2-C32847BFFCFF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B8F5-E588-46FC-8170-52597D16D9D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D4CE-F17C-4F76-B471-62FB8ED52B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1557000"/>
            <a:ext cx="59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6666"/>
                </a:solidFill>
                <a:latin typeface="Arial"/>
              </a:rPr>
              <a:t>蓝色小屋</a:t>
            </a:r>
            <a:r>
              <a:rPr b="1" lang="es-UY" sz="4000" spc="-1" strike="noStrike">
                <a:solidFill>
                  <a:srgbClr val="006666"/>
                </a:solidFill>
                <a:latin typeface="Arial"/>
              </a:rPr>
              <a:t>ppt</a:t>
            </a:r>
            <a:r>
              <a:rPr b="1" lang="es-UY" sz="4000" spc="-1" strike="noStrike">
                <a:solidFill>
                  <a:srgbClr val="006666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26T05:12:41Z</dcterms:modified>
  <cp:revision>82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